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3E4E-F988-45BF-B9AC-7F7F6101A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4EBA-53AE-46FC-8A5C-DDDB7F34B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2892-B15B-4FAD-A01D-C2844A2A6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6E54-BE28-447E-AB0B-67BA861DD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7A92-4A50-4AA7-B01B-26D9D8174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B8DA-5DDE-4EB9-BA18-CE520629B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791C-6087-492E-9B91-F32E137BC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0BC9-5C36-42E0-BDE0-71527DE34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C1C7-CC18-4738-99B2-9C0E06630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A10D-E38F-449A-9F7C-26C7BAA8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70CE-BD89-49BB-8C23-8629B8AB4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B574-9003-4056-ABE1-AE62F7C5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C4128-6C78-4ABB-A48A-3B68F24696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85640" y="457200"/>
            <a:ext cx="342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별지그림 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1] 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용출양상의 동등성 판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그림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1-a  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경구용제제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서방성제제 제외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47600" y="1219320"/>
            <a:ext cx="1676520" cy="11430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대조약 의 평균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용출율은 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시간 이내에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85 %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에  달하는가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352680" y="1028880"/>
            <a:ext cx="2667240" cy="15238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대조약의 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시간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평균 용출율의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1/2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의 평균용출율을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보이는 시점 및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시간째에 있어서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대조약과 시험약의 평균 용출율의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차이가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a%</a:t>
            </a:r>
            <a:r>
              <a:rPr b="1" lang="ko-KR" sz="1000" spc="-1" strike="noStrike" baseline="30000">
                <a:solidFill>
                  <a:srgbClr val="000000"/>
                </a:solidFill>
                <a:latin typeface="Times New Roman"/>
              </a:rPr>
              <a:t>1)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이내인가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2" idx="2"/>
            <a:endCxn id="45" idx="0"/>
          </p:cNvCxnSpPr>
          <p:nvPr/>
        </p:nvCxnSpPr>
        <p:spPr>
          <a:xfrm>
            <a:off x="1886040" y="2362320"/>
            <a:ext cx="360" cy="343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</p:cxn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2724120" y="1791000"/>
            <a:ext cx="628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"/>
          <p:cNvSpPr/>
          <p:nvPr/>
        </p:nvSpPr>
        <p:spPr>
          <a:xfrm>
            <a:off x="3276720" y="29718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그림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-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85760" y="2705040"/>
            <a:ext cx="1600200" cy="76212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대조약의 용출에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ag time 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이 있는가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23760" y="3733920"/>
            <a:ext cx="1924200" cy="9903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대조약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: 15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분이내에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평균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85 %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이상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용출하는가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" name=""/>
          <p:cNvCxnSpPr>
            <a:stCxn id="45" idx="2"/>
            <a:endCxn id="48" idx="0"/>
          </p:cNvCxnSpPr>
          <p:nvPr/>
        </p:nvCxnSpPr>
        <p:spPr>
          <a:xfrm>
            <a:off x="1886040" y="3467160"/>
            <a:ext cx="36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</p:cxnSp>
      <p:cxnSp>
        <p:nvCxnSpPr>
          <p:cNvPr id="50" name=""/>
          <p:cNvCxnSpPr>
            <a:stCxn id="48" idx="2"/>
            <a:endCxn id="51" idx="0"/>
          </p:cNvCxnSpPr>
          <p:nvPr/>
        </p:nvCxnSpPr>
        <p:spPr>
          <a:xfrm flipH="1">
            <a:off x="1304640" y="4724280"/>
            <a:ext cx="5817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</p:cxnSp>
      <p:cxnSp>
        <p:nvCxnSpPr>
          <p:cNvPr id="52" name=""/>
          <p:cNvCxnSpPr>
            <a:stCxn id="45" idx="3"/>
            <a:endCxn id="47" idx="1"/>
          </p:cNvCxnSpPr>
          <p:nvPr/>
        </p:nvCxnSpPr>
        <p:spPr>
          <a:xfrm flipV="1">
            <a:off x="2685960" y="3085920"/>
            <a:ext cx="591120" cy="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</p:cxnSp>
      <p:sp>
        <p:nvSpPr>
          <p:cNvPr id="53" name=""/>
          <p:cNvSpPr/>
          <p:nvPr/>
        </p:nvSpPr>
        <p:spPr>
          <a:xfrm>
            <a:off x="3114720" y="3686040"/>
            <a:ext cx="1857240" cy="108612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대조약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:  15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내지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분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이내에  평균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85 % 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이상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용출하는가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743360" y="6880320"/>
            <a:ext cx="6098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동등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" name=""/>
          <p:cNvCxnSpPr/>
          <p:nvPr/>
        </p:nvCxnSpPr>
        <p:spPr>
          <a:xfrm>
            <a:off x="2971440" y="617508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</p:cxnSp>
      <p:sp>
        <p:nvSpPr>
          <p:cNvPr id="56" name=""/>
          <p:cNvSpPr/>
          <p:nvPr/>
        </p:nvSpPr>
        <p:spPr>
          <a:xfrm>
            <a:off x="5581800" y="6880320"/>
            <a:ext cx="609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동등하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않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343400" y="304812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동등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4120" y="30481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동등하지 않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48" idx="3"/>
            <a:endCxn id="53" idx="1"/>
          </p:cNvCxnSpPr>
          <p:nvPr/>
        </p:nvCxnSpPr>
        <p:spPr>
          <a:xfrm>
            <a:off x="2847960" y="4229280"/>
            <a:ext cx="26712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</p:cxnSp>
      <p:cxnSp>
        <p:nvCxnSpPr>
          <p:cNvPr id="60" name=""/>
          <p:cNvCxnSpPr>
            <a:stCxn id="53" idx="3"/>
            <a:endCxn id="61" idx="0"/>
          </p:cNvCxnSpPr>
          <p:nvPr/>
        </p:nvCxnSpPr>
        <p:spPr>
          <a:xfrm>
            <a:off x="4971960" y="4229280"/>
            <a:ext cx="476640" cy="1181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</p:cxnSp>
      <p:cxnSp>
        <p:nvCxnSpPr>
          <p:cNvPr id="62" name=""/>
          <p:cNvCxnSpPr>
            <a:stCxn id="53" idx="2"/>
            <a:endCxn id="63" idx="0"/>
          </p:cNvCxnSpPr>
          <p:nvPr/>
        </p:nvCxnSpPr>
        <p:spPr>
          <a:xfrm flipH="1">
            <a:off x="3314520" y="4772160"/>
            <a:ext cx="729360" cy="638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</p:cxnSp>
      <p:sp>
        <p:nvSpPr>
          <p:cNvPr id="64" name=""/>
          <p:cNvSpPr/>
          <p:nvPr/>
        </p:nvSpPr>
        <p:spPr>
          <a:xfrm>
            <a:off x="3505320" y="7772400"/>
            <a:ext cx="2895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1)  a% :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용출율이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50%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이상인 경우에는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15 %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50%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미만인 경우에는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8%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를 의미한다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67080" y="2590920"/>
            <a:ext cx="381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00440" y="160956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14520" y="2438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38680" y="2133720"/>
            <a:ext cx="381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733840" y="290520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33600" y="348624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00240" y="479124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762280" y="404820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95320" y="641340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14680" y="641016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324240" y="479124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09880" y="6394320"/>
            <a:ext cx="381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8200" y="6384960"/>
            <a:ext cx="381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19920" y="179064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695840" y="25718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2800" y="5410080"/>
            <a:ext cx="1911240" cy="763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대조약 의 평균 용출률이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40%,  85 %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부근의 시점에서 시험약의 평균용출율과의 차이가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15% 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이내인가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59080" y="5410080"/>
            <a:ext cx="1911240" cy="763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대조약의  평균용출율이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60%, 85%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부근의 시점에서 시험약의 평균용출율과의 차이가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15% 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이내인가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1480" y="5410080"/>
            <a:ext cx="1606680" cy="763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시험약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: 15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분이내에 평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85 %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이상 용출하는가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0120" y="6870600"/>
            <a:ext cx="6094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동등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438200" y="6870600"/>
            <a:ext cx="6098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동등하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않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/>
          <p:nvPr/>
        </p:nvCxnSpPr>
        <p:spPr>
          <a:xfrm>
            <a:off x="3771720" y="617508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</p:cxnSp>
      <p:sp>
        <p:nvSpPr>
          <p:cNvPr id="83" name=""/>
          <p:cNvSpPr/>
          <p:nvPr/>
        </p:nvSpPr>
        <p:spPr>
          <a:xfrm>
            <a:off x="2666880" y="6880320"/>
            <a:ext cx="6098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동등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505320" y="6880320"/>
            <a:ext cx="609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동등하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않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640404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" name=""/>
          <p:cNvCxnSpPr/>
          <p:nvPr/>
        </p:nvCxnSpPr>
        <p:spPr>
          <a:xfrm>
            <a:off x="5067000" y="617508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</p:cxnSp>
      <p:cxnSp>
        <p:nvCxnSpPr>
          <p:cNvPr id="87" name=""/>
          <p:cNvCxnSpPr/>
          <p:nvPr/>
        </p:nvCxnSpPr>
        <p:spPr>
          <a:xfrm>
            <a:off x="5866920" y="617508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</p:cxnSp>
      <p:sp>
        <p:nvSpPr>
          <p:cNvPr id="88" name=""/>
          <p:cNvSpPr/>
          <p:nvPr/>
        </p:nvSpPr>
        <p:spPr>
          <a:xfrm>
            <a:off x="5067360" y="640404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" name=""/>
          <p:cNvCxnSpPr/>
          <p:nvPr/>
        </p:nvCxnSpPr>
        <p:spPr>
          <a:xfrm>
            <a:off x="1752120" y="617508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</p:cxnSp>
      <p:cxnSp>
        <p:nvCxnSpPr>
          <p:cNvPr id="90" name=""/>
          <p:cNvCxnSpPr/>
          <p:nvPr/>
        </p:nvCxnSpPr>
        <p:spPr>
          <a:xfrm>
            <a:off x="914040" y="617508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</p:cxnSp>
      <p:sp>
        <p:nvSpPr>
          <p:cNvPr id="91" name=""/>
          <p:cNvSpPr/>
          <p:nvPr/>
        </p:nvSpPr>
        <p:spPr>
          <a:xfrm>
            <a:off x="5105520" y="40384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945720" y="585720"/>
            <a:ext cx="211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그림 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1-b  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경구용제제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서방성제제 제외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1523880"/>
            <a:ext cx="2209680" cy="9144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대조약 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:  lag time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이후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분이내에 평균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85 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이상 용출하는가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371600" y="103824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그림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3" idx="3"/>
            <a:endCxn id="96" idx="1"/>
          </p:cNvCxnSpPr>
          <p:nvPr/>
        </p:nvCxnSpPr>
        <p:spPr>
          <a:xfrm>
            <a:off x="2895120" y="198072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</p:cxnSp>
      <p:sp>
        <p:nvSpPr>
          <p:cNvPr id="96" name=""/>
          <p:cNvSpPr/>
          <p:nvPr/>
        </p:nvSpPr>
        <p:spPr>
          <a:xfrm>
            <a:off x="3276720" y="1486080"/>
            <a:ext cx="1904760" cy="9903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대조약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:  lag ti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이후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5~30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분 이내에 평균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85 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이상 용출하는가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4240" y="2743200"/>
            <a:ext cx="2133720" cy="76212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시험약과 대조약의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평균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lag time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의 차이가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분이내인가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62240" y="2676600"/>
            <a:ext cx="2133720" cy="7617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시험약과 대조약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평균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lag time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의 차이가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분이내인가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3" idx="2"/>
          </p:cNvCxnSpPr>
          <p:nvPr/>
        </p:nvCxnSpPr>
        <p:spPr>
          <a:xfrm flipV="1" rot="10800000">
            <a:off x="1789920" y="2437920"/>
            <a:ext cx="1080" cy="305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</p:cxnSp>
      <p:cxnSp>
        <p:nvCxnSpPr>
          <p:cNvPr id="100" name=""/>
          <p:cNvCxnSpPr>
            <a:stCxn id="97" idx="2"/>
          </p:cNvCxnSpPr>
          <p:nvPr/>
        </p:nvCxnSpPr>
        <p:spPr>
          <a:xfrm flipV="1" rot="10800000">
            <a:off x="1780560" y="350496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</p:cxnSp>
      <p:cxnSp>
        <p:nvCxnSpPr>
          <p:cNvPr id="101" name=""/>
          <p:cNvCxnSpPr>
            <a:stCxn id="102" idx="2"/>
            <a:endCxn id="103" idx="0"/>
          </p:cNvCxnSpPr>
          <p:nvPr/>
        </p:nvCxnSpPr>
        <p:spPr>
          <a:xfrm flipV="1" rot="10800000">
            <a:off x="1294560" y="4822560"/>
            <a:ext cx="1080" cy="283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</p:cxnSp>
      <p:cxnSp>
        <p:nvCxnSpPr>
          <p:cNvPr id="104" name=""/>
          <p:cNvCxnSpPr>
            <a:stCxn id="96" idx="2"/>
            <a:endCxn id="98" idx="0"/>
          </p:cNvCxnSpPr>
          <p:nvPr/>
        </p:nvCxnSpPr>
        <p:spPr>
          <a:xfrm>
            <a:off x="4228920" y="2476440"/>
            <a:ext cx="1080" cy="200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</p:cxnSp>
      <p:cxnSp>
        <p:nvCxnSpPr>
          <p:cNvPr id="105" name=""/>
          <p:cNvCxnSpPr>
            <a:stCxn id="98" idx="2"/>
            <a:endCxn id="106" idx="0"/>
          </p:cNvCxnSpPr>
          <p:nvPr/>
        </p:nvCxnSpPr>
        <p:spPr>
          <a:xfrm flipH="1">
            <a:off x="3309480" y="3438360"/>
            <a:ext cx="920160" cy="41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</p:cxnSp>
      <p:sp>
        <p:nvSpPr>
          <p:cNvPr id="107" name=""/>
          <p:cNvSpPr/>
          <p:nvPr/>
        </p:nvSpPr>
        <p:spPr>
          <a:xfrm>
            <a:off x="914400" y="488628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362320" y="342900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23880" y="3657600"/>
            <a:ext cx="381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67040" y="202896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581280" y="4905360"/>
            <a:ext cx="3812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724200" y="3600360"/>
            <a:ext cx="381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19120" y="2495520"/>
            <a:ext cx="381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95880" y="248616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0520" y="250524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29320" y="297180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90920" y="4905360"/>
            <a:ext cx="3808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896000" y="4905360"/>
            <a:ext cx="3808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15160" y="4896000"/>
            <a:ext cx="38088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143080" y="4876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94" idx="2"/>
            <a:endCxn id="93" idx="0"/>
          </p:cNvCxnSpPr>
          <p:nvPr/>
        </p:nvCxnSpPr>
        <p:spPr>
          <a:xfrm>
            <a:off x="1790280" y="1312920"/>
            <a:ext cx="1080" cy="21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</p:cxnSp>
      <p:sp>
        <p:nvSpPr>
          <p:cNvPr id="122" name=""/>
          <p:cNvSpPr/>
          <p:nvPr/>
        </p:nvSpPr>
        <p:spPr>
          <a:xfrm>
            <a:off x="4572000" y="3857760"/>
            <a:ext cx="1981080" cy="7030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대조약 의  평균 용출율이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40%, 85 %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부근인 시점에서  시험약의 평균용출율과의 차이가 </a:t>
            </a:r>
            <a:r>
              <a:rPr b="1" lang="ko-KR" sz="10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15% 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이내인가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05240" y="3848040"/>
            <a:ext cx="1609560" cy="855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대조약 의 평균 용출율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60%, 85 %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부근인 시점에서시험약의 평균용출율과의 차이가  </a:t>
            </a:r>
            <a:r>
              <a:rPr b="1" lang="ko-KR" sz="10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15%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이내인가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3809880"/>
            <a:ext cx="1219320" cy="855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대조약 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: lag tim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이후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분이내에 평균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85%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이상 용출하는가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5105520"/>
            <a:ext cx="609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동등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895400" y="5095800"/>
            <a:ext cx="6098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동등하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않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" name=""/>
          <p:cNvCxnSpPr>
            <a:stCxn id="97" idx="3"/>
            <a:endCxn id="123" idx="0"/>
          </p:cNvCxnSpPr>
          <p:nvPr/>
        </p:nvCxnSpPr>
        <p:spPr>
          <a:xfrm rot="5400000">
            <a:off x="1537560" y="3785760"/>
            <a:ext cx="1972440" cy="648360"/>
          </a:xfrm>
          <a:prstGeom prst="bentConnector4">
            <a:avLst>
              <a:gd name="adj1" fmla="val 0"/>
              <a:gd name="adj2" fmla="val 0"/>
            </a:avLst>
          </a:prstGeom>
          <a:ln w="9360">
            <a:solidFill>
              <a:srgbClr val="000000"/>
            </a:solidFill>
            <a:miter/>
            <a:tailEnd len="med" type="triangle" w="sm"/>
          </a:ln>
        </p:spPr>
      </p:cxnSp>
      <p:sp>
        <p:nvSpPr>
          <p:cNvPr id="125" name=""/>
          <p:cNvSpPr/>
          <p:nvPr/>
        </p:nvSpPr>
        <p:spPr>
          <a:xfrm>
            <a:off x="2619360" y="5105520"/>
            <a:ext cx="609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동등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43320" y="5105520"/>
            <a:ext cx="609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동등하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않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96" idx="3"/>
            <a:endCxn id="122" idx="0"/>
          </p:cNvCxnSpPr>
          <p:nvPr/>
        </p:nvCxnSpPr>
        <p:spPr>
          <a:xfrm>
            <a:off x="5181120" y="1980720"/>
            <a:ext cx="381960" cy="1877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</p:cxnSp>
      <p:sp>
        <p:nvSpPr>
          <p:cNvPr id="128" name=""/>
          <p:cNvSpPr/>
          <p:nvPr/>
        </p:nvSpPr>
        <p:spPr>
          <a:xfrm>
            <a:off x="4933800" y="5105520"/>
            <a:ext cx="6098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동등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86560" y="5105520"/>
            <a:ext cx="609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동등하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않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33640" y="4714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648240" y="4714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48440" y="4724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972040" y="4714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4" name=""/>
          <p:cNvCxnSpPr>
            <a:stCxn id="98" idx="3"/>
            <a:endCxn id="135" idx="0"/>
          </p:cNvCxnSpPr>
          <p:nvPr/>
        </p:nvCxnSpPr>
        <p:spPr>
          <a:xfrm flipH="1">
            <a:off x="4343040" y="3057480"/>
            <a:ext cx="953280" cy="2277360"/>
          </a:xfrm>
          <a:prstGeom prst="bentConnector4">
            <a:avLst>
              <a:gd name="adj1" fmla="val -642"/>
              <a:gd name="adj2" fmla="val 2363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36" name=""/>
          <p:cNvSpPr/>
          <p:nvPr/>
        </p:nvSpPr>
        <p:spPr>
          <a:xfrm flipH="1">
            <a:off x="3962520" y="5334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19400" y="6197760"/>
            <a:ext cx="990360" cy="2887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용출시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38400" y="6705720"/>
            <a:ext cx="2952720" cy="11872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대조약의  평균 용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율이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30,50,80%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부근의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시점에서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시험약의 평균용출율이 대조약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평균용출율의 </a:t>
            </a:r>
            <a:r>
              <a:rPr b="1" lang="ko-KR" sz="10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10%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이내인가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19400" y="8188200"/>
            <a:ext cx="990360" cy="2890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동 등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"/>
          <p:cNvCxnSpPr/>
          <p:nvPr/>
        </p:nvCxnSpPr>
        <p:spPr>
          <a:xfrm>
            <a:off x="2714400" y="6477120"/>
            <a:ext cx="1080" cy="21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</p:cxnSp>
      <p:cxnSp>
        <p:nvCxnSpPr>
          <p:cNvPr id="141" name=""/>
          <p:cNvCxnSpPr>
            <a:stCxn id="138" idx="2"/>
            <a:endCxn id="139" idx="0"/>
          </p:cNvCxnSpPr>
          <p:nvPr/>
        </p:nvCxnSpPr>
        <p:spPr>
          <a:xfrm>
            <a:off x="2714400" y="7893000"/>
            <a:ext cx="1080" cy="295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</p:cxnSp>
      <p:sp>
        <p:nvSpPr>
          <p:cNvPr id="142" name=""/>
          <p:cNvSpPr/>
          <p:nvPr/>
        </p:nvSpPr>
        <p:spPr>
          <a:xfrm>
            <a:off x="152280" y="575928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별지그림 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2]  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서방성 제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05440" y="8197920"/>
            <a:ext cx="990360" cy="2887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동등하지 않음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" name=""/>
          <p:cNvCxnSpPr>
            <a:stCxn id="138" idx="3"/>
            <a:endCxn id="143" idx="0"/>
          </p:cNvCxnSpPr>
          <p:nvPr/>
        </p:nvCxnSpPr>
        <p:spPr>
          <a:xfrm>
            <a:off x="4190760" y="7299360"/>
            <a:ext cx="410040" cy="899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</p:cxnSp>
      <p:sp>
        <p:nvSpPr>
          <p:cNvPr id="145" name=""/>
          <p:cNvSpPr/>
          <p:nvPr/>
        </p:nvSpPr>
        <p:spPr>
          <a:xfrm>
            <a:off x="2657520" y="789300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210200" y="7054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05120" y="42670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876320" y="4114800"/>
            <a:ext cx="381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11480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342900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038480" y="4114800"/>
            <a:ext cx="381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0T02:39:35Z</dcterms:created>
  <dc:creator>서울대학교</dc:creator>
  <dc:description/>
  <dc:language>en-US</dc:language>
  <cp:lastModifiedBy>오정원</cp:lastModifiedBy>
  <cp:lastPrinted>2000-06-22T07:49:30Z</cp:lastPrinted>
  <dcterms:modified xsi:type="dcterms:W3CDTF">2000-11-02T08:55:21Z</dcterms:modified>
  <cp:revision>68</cp:revision>
  <dc:subject/>
  <dc:title>슬라이드 제목 없음</dc:title>
</cp:coreProperties>
</file>