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1F2E-FBF7-4AB7-8E49-1CD48BC6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2471-8183-428C-8689-03E2A6A4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3D06-C187-4912-BD9B-6648CB6E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EA96-9B8A-4576-A1C3-4B577947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7441-52DE-4201-9D1F-EC9D449E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0F6A-944D-4DCB-A281-A3604750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F88C-DD95-49E3-90DB-30630084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33A6-057D-495D-898C-5585AF2C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133E-2DF2-4594-AD10-09F95A62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D577-2569-4A37-83C0-FE66D389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C570-6E40-4E30-B40F-5B8B84C2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4D89-43A4-42DF-A331-A0AD1BBE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6B25871-45A1-4C73-A340-59EAD85A95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I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9228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672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94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748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540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52560" y="1447920"/>
            <a:ext cx="738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6640" y="1907280"/>
            <a:ext cx="306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5256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9228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85160" y="2755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8976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748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8616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5904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7716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7356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39800" y="27558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7176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5616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4824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5244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51480" y="2657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99360" y="26733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47160" y="2898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95760" y="28940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45000" y="2879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97360" y="28796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51480" y="2219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16640" y="2235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48960" y="2455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63160" y="24559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45000" y="2441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97360" y="244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71500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17920" y="32162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1112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6584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086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372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0500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778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811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988920" y="24534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1718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7308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46520" y="2759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7056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5568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6696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984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9000" y="31672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30840" y="2903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4488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10760" y="27558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4308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274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3876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956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0958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89600" y="32162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86160" y="44989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95920" y="3305160"/>
            <a:ext cx="268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25920" y="3492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09080" y="35082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23400" y="3728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08520" y="3728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9800" y="3714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92680" y="3714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57880" y="33163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86680" y="3943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5280" y="3959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82360" y="4184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21600" y="4179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80200" y="4165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86680" y="35053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51480" y="3521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94240" y="37418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83320" y="3741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80200" y="3727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70720" y="3727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66040" y="4189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8400" y="4162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3440" y="4390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58120" y="5557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07200" y="57024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61920" y="571824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05400" y="5938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89800" y="5938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01080" y="5924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73960" y="5924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91120" y="2592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기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36360" y="3877920"/>
            <a:ext cx="79308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04000" y="393660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34960" y="509076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담당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70960" y="56660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94600" y="51213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43200" y="513720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09360" y="5362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29520" y="535788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88120" y="5343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94600" y="46832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59400" y="4699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92080" y="4919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43720" y="4919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88120" y="4905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40480" y="4905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73960" y="5367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56320" y="534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951680" y="16686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113680" y="16844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960320" y="16495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278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3640" y="28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6000" y="2192400"/>
            <a:ext cx="42804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 심사결과 통보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08200" y="3102480"/>
            <a:ext cx="3063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96320" y="353052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8320" y="354636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04960" y="35114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72520" y="330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6840" y="257040"/>
            <a:ext cx="4738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71960" y="31921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06960" y="34974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72840" y="35132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05160" y="3733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89560" y="3733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00840" y="3719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81640" y="3719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51680" y="397368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58120" y="331488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38920" y="33051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88000" y="34862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54240" y="35020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85480" y="3722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70600" y="3722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81880" y="3708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62680" y="3708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32720" y="396252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05720" y="386856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 구분항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81240" y="2746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64760" y="27622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78720" y="298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63840" y="29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75120" y="2968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48000" y="29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3415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9108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56600" y="2755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8892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36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8460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654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9416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41720" y="3276720"/>
            <a:ext cx="3063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35440" y="323856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60800" y="31892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01000" y="18543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66880" y="18702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98480" y="2090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83600" y="2090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94520" y="2076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75680" y="2076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45360" y="233028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351560" y="144468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33080" y="205524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1360" y="106668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3280" y="16002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3280" y="3006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3280" y="414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3280" y="5292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9360" y="6904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I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24600" y="3619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89760" y="36352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22440" y="3855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07200" y="3855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18120" y="384192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98920" y="384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334280" y="2346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45000" y="3618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10880" y="36338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43200" y="3854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27600" y="3854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3852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19680" y="384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59600" y="30243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36280" y="30402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57080" y="3260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342200" y="3260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53120" y="3246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34280" y="3246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59600" y="2585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53200" y="2602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57080" y="2822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27800" y="2822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53120" y="2808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34280" y="2808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78680" y="3745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45280" y="3760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76160" y="3981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45440" y="3981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72200" y="3967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37520" y="3967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334280" y="347184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66880" y="233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256392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23760" y="257976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70760" y="25448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71560" y="2347920"/>
            <a:ext cx="781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34960" y="2957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12000" y="29732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32440" y="3193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14680" y="3205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28840" y="3179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709640" y="3179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34960" y="2519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8560" y="2535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33160" y="27558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28640" y="274176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28840" y="2741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09640" y="274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69000" y="3616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48200" y="363204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66480" y="3852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53040" y="3852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62520" y="3838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45120" y="38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69000" y="3178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64040" y="3193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67200" y="3414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68440" y="341460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62520" y="3400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5120" y="3400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75480" y="4726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53600" y="47419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72600" y="4962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59520" y="4962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69000" y="4948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51600" y="494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75480" y="42879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70520" y="4303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72600" y="4524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54840" y="4524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69000" y="4510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51600" y="4510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46920" y="4062240"/>
            <a:ext cx="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45200" y="399816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99240" y="5394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64760" y="5410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96720" y="5630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81840" y="5630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92760" y="5616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73920" y="561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38960" y="54039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04480" y="54198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36800" y="5640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699240" y="5640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32480" y="5626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91320" y="5626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08720" y="40557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14680" y="337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333520" y="34765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434960" y="3591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01560" y="36068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32440" y="3827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17560" y="382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28840" y="3813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09640" y="3813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63880" y="3616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29400" y="3632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61000" y="3852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46480" y="3852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057400" y="3838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38560" y="38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923240" y="3595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62960" y="3745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728480" y="37609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74480" y="3981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945560" y="3981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56480" y="3967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923240" y="3967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220240" y="3740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286120" y="37558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17360" y="3976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502480" y="3976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213760" y="3962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49456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480520" y="3587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29600" y="3589200"/>
            <a:ext cx="115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64360" y="46656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78160" y="3930480"/>
            <a:ext cx="549720" cy="15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 부담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389080" y="4065480"/>
            <a:ext cx="428040" cy="16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급권확인 대상건수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건수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48360" y="54421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0800" y="2809440"/>
            <a:ext cx="79308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세대주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57840" y="3962520"/>
            <a:ext cx="428040" cy="16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 결정 본인추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 결정 본인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48480" y="4106880"/>
            <a:ext cx="15231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급권확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유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급권확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액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률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 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형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 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41520" y="2324160"/>
            <a:ext cx="2739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 결정액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 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 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대불금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총액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일부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 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일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의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71560" y="3940920"/>
            <a:ext cx="549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입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17560" y="541980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관련근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58760" y="3147840"/>
            <a:ext cx="21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바탕체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52480" y="5445000"/>
            <a:ext cx="24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445440" y="3005640"/>
            <a:ext cx="671400" cy="19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의뢰사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사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소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301520" y="4061520"/>
            <a:ext cx="1158120" cy="17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액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대불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 의료비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총액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부담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일부부담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704960" y="235260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17560" y="34765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46920" y="5168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46920" y="5272200"/>
            <a:ext cx="65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96000" y="52642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8088480" y="6137280"/>
          <a:ext cx="150480" cy="20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88480" y="6137280"/>
                    <a:ext cx="15048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8177040" y="610560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4492800" y="3290760"/>
          <a:ext cx="150480" cy="206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2800" y="3290760"/>
                    <a:ext cx="15048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6556320" y="39211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30480" y="3619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96360" y="36352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27960" y="3855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213440" y="38559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24360" y="384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205160" y="384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71800" y="34765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10080" y="34765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10200" y="34671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680320" y="2346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196120" y="257184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58120" y="25876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204760" y="25527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1640" y="3629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77520" y="36450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309480" y="3865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94240" y="3865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05160" y="3851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86320" y="385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353400" y="4137120"/>
            <a:ext cx="42804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주상병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주증상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711520" y="3629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77040" y="36450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09360" y="3865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994120" y="3865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05040" y="3851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986200" y="385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759760" y="4006800"/>
            <a:ext cx="428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정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00600" y="34671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84880" y="34671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76400" y="153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90720" y="17524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52360" y="176832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99360" y="17334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066680" y="152388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148600" y="17524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282160" y="176832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157240" y="17334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524800" y="153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632720" y="2752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98960" y="27687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30200" y="2989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915320" y="2989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26240" y="2975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907400" y="297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777080" y="32288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7883640" y="234324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709400" y="312840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765680" y="3144960"/>
            <a:ext cx="342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바탕체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04000" y="2336760"/>
            <a:ext cx="30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84640" y="2316240"/>
            <a:ext cx="30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156520" y="4221000"/>
            <a:ext cx="3063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77120" y="27576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543000" y="27734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474600" y="2994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59720" y="2994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470640" y="2979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751800" y="2979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1480" y="323388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27680" y="234792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107760" y="266832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8005680" y="5415120"/>
          <a:ext cx="150840" cy="206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05680" y="541512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87360" y="404640"/>
            <a:ext cx="8445600" cy="619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1360" y="146844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93280" y="200196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93280" y="310356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93280" y="417024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93280" y="531324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87360" y="1628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96840" y="184464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058760" y="1860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019880" y="1825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295280" y="1628640"/>
            <a:ext cx="649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38320" y="54936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I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4114800" y="162864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25720" y="2600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02760" y="2616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23200" y="2836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08320" y="28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19600" y="2822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00400" y="2822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25720" y="2162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81520" y="2178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920" y="2398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016160" y="239868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19600" y="2384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100400" y="238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097160" y="304812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06880" y="4486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092480" y="448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26080" y="448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335560" y="448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64000" y="3858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564000" y="241416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14640" y="5101560"/>
            <a:ext cx="306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탁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44640" y="5025240"/>
            <a:ext cx="549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 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13800" y="51325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리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17800" y="46958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82240" y="47116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815280" y="4932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00400" y="4932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11680" y="49179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84560" y="491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46720" y="47023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20160" y="47181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62920" y="4938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29320" y="4938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440240" y="4924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713120" y="492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056200" y="4705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144040" y="47214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54400" y="4941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8800" y="4941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49720" y="4927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22960" y="4927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27520" y="3828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04920" y="38448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25000" y="4065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10120" y="4065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21040" y="4051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02200" y="4051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27520" y="3390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82960" y="34066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25000" y="3627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025160" y="36273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21040" y="3613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02200" y="3613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89240" y="42670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46720" y="33656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324120" y="33814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244200" y="3602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526080" y="3613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40600" y="3587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521400" y="3587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46720" y="29275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92800" y="294336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263280" y="3164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468120" y="316404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40600" y="3149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521400" y="3149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521400" y="3803760"/>
            <a:ext cx="0" cy="21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77080" y="386208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 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110440" y="5820480"/>
            <a:ext cx="30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257880" y="402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333120" y="4038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255360" y="425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540480" y="425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251400" y="424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532560" y="424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6537240" y="446400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286680" y="5108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364080" y="51246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283800" y="5345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566040" y="5356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280200" y="5330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561000" y="5330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286680" y="4670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332400" y="46864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302880" y="4906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476400" y="490680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280200" y="4892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561000" y="4892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940360" y="51541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6556320" y="554976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305400" y="57499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381000" y="57657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303600" y="59864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588000" y="5986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299280" y="5972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580080" y="5972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961320" y="57499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026840" y="57657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949800" y="59864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34200" y="5986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948360" y="5972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240680" y="5972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548400" y="563580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53280" y="56358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940360" y="57452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610400" y="57499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685640" y="57657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608600" y="59864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893000" y="5986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604280" y="5972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885080" y="5972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880400" y="56358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699160" y="161604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07200" y="2587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83880" y="26035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407560" y="2824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689440" y="2824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00720" y="2809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684760" y="2809800"/>
            <a:ext cx="0" cy="58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407200" y="21495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462640" y="21654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408280" y="2386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628960" y="238608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00720" y="2371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684760" y="237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148360" y="240156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675400" y="3371760"/>
            <a:ext cx="104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572000" y="18637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677480" y="18795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69480" y="2100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54600" y="2100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565520" y="2085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838760" y="208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842000" y="1628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3868560" y="1933560"/>
          <a:ext cx="165240" cy="22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8560" y="1933560"/>
                    <a:ext cx="16524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"/>
          <p:cNvGraphicFramePr/>
          <p:nvPr/>
        </p:nvGraphicFramePr>
        <p:xfrm>
          <a:off x="8088480" y="6318360"/>
          <a:ext cx="15048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88480" y="6318360"/>
                    <a:ext cx="15048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"/>
          <p:cNvSpPr/>
          <p:nvPr/>
        </p:nvSpPr>
        <p:spPr>
          <a:xfrm>
            <a:off x="8177040" y="628668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36880" y="2981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102400" y="29973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048400" y="3218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319480" y="3218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030400" y="3203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297160" y="3203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324160" y="2854440"/>
            <a:ext cx="65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711520" y="2998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777400" y="30146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09000" y="3235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994120" y="3235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705040" y="3220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986200" y="322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971800" y="2846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867040" y="34797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82880" y="3341520"/>
            <a:ext cx="671400" cy="15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감내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불능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 총액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24160" y="2754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043000" y="23036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120040" y="2319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040480" y="2540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322360" y="2550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036880" y="2525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317680" y="2525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043000" y="1865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136600" y="18813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041200" y="2101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282760" y="2101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036880" y="2087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317680" y="208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477440" y="2004480"/>
            <a:ext cx="54972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불능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감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2314440" y="1633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244000" y="57769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91520" y="220320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87360" y="981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96840" y="11970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58760" y="12128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019880" y="11779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95280" y="981000"/>
            <a:ext cx="699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292960" y="981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002440" y="11970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064360" y="12128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025480" y="11779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65320" y="18637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031560" y="18795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962800" y="2100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247920" y="2100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959200" y="2085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240000" y="208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235320" y="162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86000" y="21967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570720" y="18367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636240" y="185256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568200" y="2073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853320" y="2073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564240" y="2058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45400" y="2058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6843600" y="1620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473960" y="2965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539840" y="29811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485480" y="3201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756560" y="3201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467480" y="3187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734240" y="318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761240" y="2838600"/>
            <a:ext cx="65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148600" y="2982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214120" y="29988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146800" y="3219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431200" y="3219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142120" y="3205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423280" y="3205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408880" y="2830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761240" y="273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480440" y="2287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557840" y="230364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477560" y="2523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759800" y="2535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473960" y="250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754760" y="2509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480440" y="1849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74040" y="186516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478280" y="20858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719840" y="2085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473960" y="2071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754760" y="20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7780320" y="1620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308640" y="180468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748560" y="326340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996840" y="16635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058760" y="16794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01988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1447920"/>
            <a:ext cx="208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I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267480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395440" y="23623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472480" y="23781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392920" y="2598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78040" y="2598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389320" y="2584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670120" y="258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395440" y="1924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451240" y="19400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393640" y="2160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682720" y="2160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89320" y="2146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670120" y="214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397240" y="3035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489400" y="30510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395080" y="3271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679840" y="3271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390760" y="3257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664000" y="325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66688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38148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121200" y="1895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187080" y="191124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118320" y="2131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403440" y="2131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114720" y="2117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395520" y="211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997360" y="24750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951200" y="1450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690560" y="1898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756800" y="1914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88040" y="2135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973160" y="213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84440" y="2120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965240" y="212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828800" y="2466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St.Phillip</cp:lastModifiedBy>
  <cp:lastPrinted>2001-07-05T00:21:04Z</cp:lastPrinted>
  <dcterms:modified xsi:type="dcterms:W3CDTF">2004-06-15T08:51:52Z</dcterms:modified>
  <cp:revision>126</cp:revision>
  <dc:subject/>
  <dc:title>슬라이드 제목 없음</dc:title>
</cp:coreProperties>
</file>