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E27-F246-4897-A3F6-2A33691B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B7C3-72EC-41E4-93AD-07480A8F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592C-C66B-4ED6-A918-3B0EC3CF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B9C-D7AB-4244-AEF7-8B2B1847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540A-A188-4B80-854B-A6E9A365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81D9-F6E3-42F2-93CA-83C4B29B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F988-B85C-4866-A537-FA626ADC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2792-F138-4ED8-822A-56E98FEC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BFBF-7D14-4642-807E-BF45AD4B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602D-B20F-44A8-835E-53525B57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6603-9988-4116-B3EF-131C5BFD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45D7-A88C-4CAC-8490-CA620C3A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9C40C9-3D24-4050-A3D3-8633A8E5ED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191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5920" y="1447920"/>
            <a:ext cx="718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5760" y="2746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9280" y="27622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3240" y="298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2968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9252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62200" y="1935000"/>
            <a:ext cx="306360" cy="19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요양급여비용 심사결과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70000" y="190728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859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564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1852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231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82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24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105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6860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3560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0112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344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178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2912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0992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2861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2600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92240" y="2755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2420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0860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1952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006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8769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99320" y="2657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6840" y="26733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95000" y="289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2894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92840" y="2879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45200" y="2879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99320" y="2219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6412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96440" y="2455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11000" y="24559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92840" y="2441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4520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16284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8624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79960" y="323856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70360" y="3216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4448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9920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4196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270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383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1124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144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322280" y="2453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31892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5052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680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79880" y="2759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392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8904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032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7320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2720" y="32148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903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1640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82280" y="2755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1460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9900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1028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910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4673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61120" y="3216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44989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43760" y="3289320"/>
            <a:ext cx="222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73760" y="3508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56920" y="3524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71240" y="3745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56360" y="3745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3730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40520" y="373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78880" y="3943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27120" y="3959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4560" y="4184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13800" y="4179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4165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778880" y="35053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3680" y="3521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86440" y="3741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75520" y="3741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772400" y="3727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62920" y="3727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58240" y="4189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40600" y="4162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35920" y="4390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50320" y="5557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99400" y="57024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54120" y="571824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97600" y="5938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82000" y="5938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92920" y="5924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066160" y="5924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22480" y="3169440"/>
            <a:ext cx="3063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 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38960" y="2592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기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47400" y="3874680"/>
            <a:ext cx="79308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종별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96200" y="39366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6280" y="509076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담당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62800" y="56660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86800" y="51213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35040" y="513720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01560" y="5362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21720" y="535788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80320" y="5343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86800" y="46832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51600" y="4699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84280" y="4919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35920" y="4919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80320" y="4905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32680" y="4905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66160" y="5367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48520" y="534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04320" y="16606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65960" y="16765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112960" y="16416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80520" y="1440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364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22860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2320" y="32205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02320" y="3511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67840" y="35272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00520" y="3747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4920" y="374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96200" y="3733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7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781680" y="328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47040" y="39877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30880" y="35305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97120" y="35463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28360" y="3767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13480" y="3767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24760" y="3753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05560" y="375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410600" y="330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275600" y="400680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048520" y="328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115480" y="2771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77120" y="2787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24120" y="2752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372520" y="3060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32760" y="38685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 구분항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58040" y="18543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24280" y="18702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55520" y="2090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40640" y="2090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51560" y="2076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32720" y="2076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02400" y="23302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608960" y="144468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90480" y="205524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1360" y="68580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3280" y="16002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3280" y="2711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3280" y="3854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3280" y="4997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76400" y="12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4558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52360" y="14716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9360" y="14367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121932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9360" y="6904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51520" y="3316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16680" y="33321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49360" y="3552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70400" y="3552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45040" y="3538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94160" y="353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95720" y="29401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02040" y="29401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25840" y="331956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92080" y="33354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24040" y="3556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08440" y="3556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3541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00520" y="354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66880" y="205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22766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3760" y="22924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0760" y="2257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71560" y="2052720"/>
            <a:ext cx="764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48600" y="144792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82160" y="146376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157240" y="14288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24800" y="12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34960" y="2649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12000" y="26654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32440" y="2886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14680" y="2897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28840" y="2871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09640" y="287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34960" y="2211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8560" y="222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33160" y="2448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28640" y="243360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28840" y="2433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09640" y="243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75920" y="2085840"/>
            <a:ext cx="334836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 결정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총액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45040" y="3526200"/>
            <a:ext cx="1036440" cy="22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 가산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3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이상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2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 가산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92360" y="3181320"/>
            <a:ext cx="420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32520" y="370440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04960" y="3083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308320" y="3187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34960" y="33116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01560" y="3327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32440" y="3548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17560" y="3548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28840" y="3533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09640" y="3533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38320" y="3327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04200" y="3343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35800" y="3564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20920" y="3564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31840" y="3549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13000" y="3549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25200" y="2564280"/>
            <a:ext cx="54972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29520" y="3706560"/>
            <a:ext cx="79308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액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률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증 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91400" y="3709800"/>
            <a:ext cx="42804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38160" y="2516040"/>
            <a:ext cx="258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03360" y="292428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07760" y="2927520"/>
            <a:ext cx="2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714680" y="20541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48400" y="3746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25800" y="37623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45880" y="3983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31000" y="3983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41920" y="3968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23080" y="396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48400" y="3308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42000" y="3324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46240" y="3544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38120" y="35449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41920" y="3530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23080" y="3530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54520" y="4856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31560" y="48718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52000" y="5092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37120" y="5092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48400" y="5078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29200" y="507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54520" y="44179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48120" y="4433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52000" y="4654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32440" y="4654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48400" y="4640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29200" y="464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24520" y="419256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676840" y="55087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42720" y="5524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74320" y="5745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59440" y="5745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670720" y="5730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51520" y="5730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16560" y="5518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382080" y="55339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14760" y="5754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599160" y="5754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310440" y="5740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91240" y="5740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00720" y="3912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91000" y="47959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87080" y="56404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92280" y="568980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관련근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226840" y="5715000"/>
            <a:ext cx="2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24520" y="529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29200" y="5380200"/>
            <a:ext cx="65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86560" y="5372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6567480" y="204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64360" y="2719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41040" y="2735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61840" y="2955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546960" y="29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57880" y="2941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39040" y="2941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64360" y="22813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57960" y="2297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61840" y="2517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32560" y="2517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57880" y="2503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539040" y="250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6904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3564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26652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551640" y="3676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26256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4372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129440" y="32907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008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915600" y="3456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6160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132680" y="3676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11036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426440" y="3435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492320" y="3451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23920" y="3672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709040" y="3672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19960" y="3657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701120" y="365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86720" y="3282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551640" y="3284640"/>
            <a:ext cx="112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29080" y="3617640"/>
            <a:ext cx="549720" cy="15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 부담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957080" y="34257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534000" y="3152880"/>
            <a:ext cx="0" cy="28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31200" y="3740760"/>
            <a:ext cx="1036440" cy="17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액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 부담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액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일부부담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01480" y="2012400"/>
            <a:ext cx="42804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결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소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33640" y="3324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99520" y="33400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31120" y="3560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116600" y="35607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27520" y="3546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08320" y="354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075200" y="3174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703760" y="318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89480" y="31669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97640" y="2448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463880" y="2463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95120" y="2684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680240" y="2684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91520" y="2670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72320" y="267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42360" y="292428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7648560" y="203832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410960" y="282384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99320" y="3171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98720" y="3174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629080" y="3330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694600" y="33465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626920" y="3567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911320" y="3567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22600" y="3552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903400" y="3552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28000" y="3728880"/>
            <a:ext cx="42804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정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02240" y="2457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8480" y="24732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99720" y="2693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84840" y="2693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95760" y="2679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76920" y="267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46600" y="29336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5753160" y="204804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34680" y="265860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05320" y="3191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35320" y="3330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301200" y="33465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33520" y="3567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17920" y="3567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28840" y="3552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10000" y="3552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55920" y="3660480"/>
            <a:ext cx="306360" cy="13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주상병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주증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145360" y="22654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278920" y="22813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154000" y="2246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521560" y="204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37080" y="205272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59280" y="191628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968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587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198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95280" y="1447920"/>
            <a:ext cx="699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614760" y="2720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691440" y="2736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612240" y="2957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97360" y="2957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608280" y="2943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9440" y="2943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14760" y="2282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670200" y="229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612960" y="2519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36880" y="25192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08280" y="2505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944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86200" y="316872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02040" y="460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9568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2460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52680" y="39794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52680" y="253512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703680" y="522216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탁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355640" y="5145840"/>
            <a:ext cx="549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02840" y="52531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리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606840" y="481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671280" y="4832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604320" y="505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89440" y="505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600360" y="503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873600" y="503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35400" y="48229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48387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226400" y="5059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18000" y="5059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229280" y="5045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495680" y="504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844880" y="482616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720" y="4842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843080" y="5062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27480" y="5062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38760" y="5048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11640" y="504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616200" y="3949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93960" y="39654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13680" y="4186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98800" y="4186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610080" y="4172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90880" y="4172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616200" y="3511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672000" y="35272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613680" y="374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14200" y="37479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10080" y="3733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9088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94120" y="43876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673360" y="2301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39600" y="23176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670840" y="2538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55960" y="2538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666880" y="2523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48040" y="2523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45040" y="3146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22440" y="31622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942520" y="3382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224760" y="3394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938920" y="3368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19720" y="336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945040" y="2708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91120" y="272412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961600" y="2944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66440" y="294480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38920" y="2930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19720" y="293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219720" y="358452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75400" y="398268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 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787160" y="55450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56200" y="380376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31440" y="3819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953680" y="4040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38800" y="4040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950080" y="4025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230880" y="4025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6235560" y="424476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985000" y="4889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62400" y="49053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982120" y="512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64360" y="5137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978520" y="5111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59680" y="511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985000" y="4451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31080" y="44672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01200" y="4687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182640" y="46879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78520" y="4673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259680" y="4673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67480" y="49352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6254640" y="533052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04080" y="5530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79320" y="55468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01920" y="5767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86680" y="5767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97600" y="5753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278400" y="5753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51720" y="5530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726600" y="55468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649560" y="5767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934320" y="5767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45240" y="5753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926400" y="5753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248520" y="541656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921360" y="54165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67480" y="5526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304040" y="55306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79280" y="55468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302240" y="5767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586640" y="5767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297560" y="5753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578720" y="5753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574040" y="54165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157720" y="2708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234760" y="2724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55200" y="2944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40320" y="294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51600" y="2930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57720" y="2270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213520" y="22860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55920" y="2506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56080" y="25066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51600" y="2492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432400" y="249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896000" y="25221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486480" y="30506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75080" y="2282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40960" y="22986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372560" y="2519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57680" y="2519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68960" y="2505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976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949400" y="3402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14920" y="34178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961280" y="3638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32000" y="3638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943280" y="3624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209680" y="3624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36680" y="3274920"/>
            <a:ext cx="65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624040" y="34196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689920" y="34354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621520" y="365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906640" y="365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617920" y="3641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898720" y="364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84320" y="326700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779920" y="39006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95760" y="3799080"/>
            <a:ext cx="6714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감내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236680" y="3174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955880" y="2724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32560" y="27399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53360" y="2960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35240" y="2971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49400" y="2946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30560" y="2946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55880" y="2286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49480" y="23018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953720" y="2522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195640" y="2522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49400" y="2508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230560" y="250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449000" y="2412720"/>
            <a:ext cx="54972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감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225576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292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0024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0643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0254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00320" y="2076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09800" y="22924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71720" y="23083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032480" y="2273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1305000" y="2058480"/>
            <a:ext cx="6372000" cy="1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294336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388620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464832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541008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619600" y="249552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6200640" y="24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635880" y="22734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701040" y="228924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633000" y="2509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918480" y="2509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29400" y="2495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910560" y="249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90876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370640" y="3402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436880" y="3417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382520" y="3638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53240" y="3638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364520" y="3624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31280" y="3624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658280" y="3274920"/>
            <a:ext cx="65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045280" y="34196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111160" y="3435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043480" y="3656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327880" y="365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039160" y="364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319960" y="364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305920" y="326700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073000" y="3759480"/>
            <a:ext cx="42804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찰료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료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차감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진찰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317000" y="3841200"/>
            <a:ext cx="671400" cy="8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약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근무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진찰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차등지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58280" y="3174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377120" y="2724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454880" y="27399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374600" y="2960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56480" y="2971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370640" y="2946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51800" y="2946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377120" y="2286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470720" y="23018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75320" y="2522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16880" y="2522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70640" y="2508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651800" y="250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767700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762600" y="27079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495680" y="27079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94040" y="26348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085160" y="27079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427720" y="292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9968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587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198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295280" y="1447920"/>
            <a:ext cx="232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81952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540160" y="23623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617200" y="23781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37280" y="2598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822400" y="2598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533680" y="2584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814480" y="258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40160" y="1924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595600" y="19400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538000" y="2160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7440" y="2160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533680" y="2146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14480" y="214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541600" y="3035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633760" y="30510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539800" y="3271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824200" y="327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535120" y="3257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808360" y="325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1160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2412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363840" y="1895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29720" y="191124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361320" y="2131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646440" y="2131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357720" y="2117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638520" y="211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41720" y="24750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00196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741320" y="1900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07560" y="1916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738800" y="2136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023920" y="2136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735200" y="2122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016000" y="2122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51120" y="232236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St.Phillip</cp:lastModifiedBy>
  <cp:lastPrinted>2001-07-05T00:19:08Z</cp:lastPrinted>
  <dcterms:modified xsi:type="dcterms:W3CDTF">2004-06-15T08:50:51Z</dcterms:modified>
  <cp:revision>119</cp:revision>
  <dc:subject/>
  <dc:title>슬라이드 제목 없음</dc:title>
</cp:coreProperties>
</file>