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796088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3E2CF-B9C9-4846-A26A-CA58C5B3F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D4363-61E3-445D-96EF-B1BFA21FF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8F24B-FA07-43ED-91D0-EB524774C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E4030-FBF0-4321-9C10-887CCA2C1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FEC3C-8D59-4730-B885-1512CD20B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9D7F8-74CF-47F9-A01E-A4B23F5BD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4EB0A-44E7-4A28-8976-2036C404B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992C0-646A-4179-8A24-23A88B9AC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00A4A-4427-4E55-B8E6-C6C00F2E0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35232-9419-43B3-9921-6A8D97BF1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C37E8-4FE4-4648-A682-A0BFB6D8B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B24B6-0C6F-4091-8B08-52310CDCC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돋움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돋움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돋움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돋움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돋움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E1CE22C8-CAA7-4F06-BDA9-2DC1213E5BF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돋움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돋움체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2" marL="1017000" indent="-203400">
              <a:spcBef>
                <a:spcPts val="799"/>
              </a:spcBef>
              <a:buClr>
                <a:srgbClr val="000000"/>
              </a:buClr>
              <a:buSzPct val="8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3" marL="1424160" indent="-20340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4" marL="1830960" indent="-20340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7360" y="539640"/>
            <a:ext cx="8445600" cy="5778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839040" y="731880"/>
            <a:ext cx="1684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전자문서 구조도 </a:t>
            </a: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PAGE 1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(PMCSH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25640" y="167328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090440" y="1689120"/>
            <a:ext cx="404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UN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023120" y="190980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308240" y="19098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120" y="137160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93280" y="307512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019160" y="18954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93280" y="429408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93280" y="558972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287360" y="14382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295280" y="1447920"/>
            <a:ext cx="7118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285920" y="18954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82640" y="166356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37360" y="1679400"/>
            <a:ext cx="418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BG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80120" y="190008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65240" y="19000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676520" y="188604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949400" y="18860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943280" y="1447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90320" y="990720"/>
            <a:ext cx="5767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LE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2523960" y="144792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225520" y="274320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299680" y="2759040"/>
            <a:ext cx="399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NA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223000" y="29797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508120" y="29797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219400" y="29653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492280" y="2965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095640" y="144792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25640" y="274320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899440" y="275904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R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23840" y="297972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108240" y="29797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19520" y="29653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092400" y="2965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111640" y="168264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185800" y="1698480"/>
            <a:ext cx="399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U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109120" y="19191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394240" y="19191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105520" y="19051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378400" y="1905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546880" y="295920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623560" y="297504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R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544000" y="31957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829480" y="31957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540400" y="31813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821200" y="3181320"/>
            <a:ext cx="0" cy="426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546880" y="252108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611680" y="253692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544720" y="275760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815080" y="27576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540400" y="27432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1200" y="27432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807160" y="1450800"/>
            <a:ext cx="0" cy="1067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556240" y="361944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21400" y="363528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DT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554440" y="385596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838840" y="38559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549760" y="38419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830920" y="3841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6492960" y="144792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222960" y="274320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296760" y="2759040"/>
            <a:ext cx="399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NA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220440" y="29797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505560" y="29797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216480" y="29653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489720" y="2965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7130880" y="144792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870600" y="274320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944400" y="275904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R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868080" y="29797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153200" y="29797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864480" y="29653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137360" y="2965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8056440" y="1673280"/>
            <a:ext cx="520920" cy="291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218440" y="1689120"/>
            <a:ext cx="420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8065080" y="165420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10680" y="14572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124640" y="1925280"/>
            <a:ext cx="428040" cy="17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청구번호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+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명세서일련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221920" y="3022560"/>
            <a:ext cx="549720" cy="25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사업장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보장기관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기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처방전 교부기관 기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요양기관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의료급여기관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기호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905560" y="3120120"/>
            <a:ext cx="428040" cy="120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공상  등 구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의료급여종별구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274440" y="3071520"/>
            <a:ext cx="428040" cy="136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수진자성명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가입자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세대주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성명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821480" y="3252600"/>
            <a:ext cx="671400" cy="10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사유코드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명세서일련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접수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청구구분 코드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22080" y="3057120"/>
            <a:ext cx="428040" cy="150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수진자 주민등록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증번호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보장시설기호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753200" y="1913400"/>
            <a:ext cx="428040" cy="180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약국용 요양급여비용 명세서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381640" y="1447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20400" y="257040"/>
            <a:ext cx="4366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다</a:t>
            </a:r>
            <a:r>
              <a:rPr b="1" lang="en-US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. </a:t>
            </a:r>
            <a:r>
              <a:rPr b="1" lang="zh-CN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전자문서 구조도</a:t>
            </a:r>
            <a:r>
              <a:rPr b="1" lang="en-US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(Message branching diagra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3733920" y="144792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435480" y="274320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509280" y="2759040"/>
            <a:ext cx="36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C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433320" y="297972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718080" y="29797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429000" y="29653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701880" y="2965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305240" y="144792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035600" y="274320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109400" y="275904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AG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033440" y="297972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317840" y="29797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029120" y="29653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302000" y="2965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4905360" y="144792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635360" y="274320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709160" y="2759040"/>
            <a:ext cx="378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FT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633560" y="297972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917960" y="29797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629240" y="29653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902120" y="2965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435800" y="168264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509600" y="1698480"/>
            <a:ext cx="36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C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433280" y="19191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718400" y="19191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429680" y="19051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702560" y="1905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705800" y="1447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220360" y="2022120"/>
            <a:ext cx="42804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모호성분리자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553880" y="2022120"/>
            <a:ext cx="42804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모호성분리자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387360" y="539640"/>
            <a:ext cx="8445600" cy="5778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8120" y="1333440"/>
            <a:ext cx="5763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LE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93280" y="182088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93280" y="322740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93280" y="437040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93280" y="551340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177920" y="1447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58680" y="1682640"/>
            <a:ext cx="520920" cy="292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120680" y="1698480"/>
            <a:ext cx="42084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967680" y="166356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181160" y="1447920"/>
            <a:ext cx="7277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859920" y="762120"/>
            <a:ext cx="1684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전자문서 구조도 </a:t>
            </a: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PAGE 2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(PMCSH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8437680" y="14572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8104320" y="1692360"/>
            <a:ext cx="520560" cy="291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8265960" y="1708200"/>
            <a:ext cx="420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8112960" y="167328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606680" y="295596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83360" y="297180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R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603800" y="319248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889280" y="31924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600200" y="31780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881360" y="31780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6680" y="251784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700280" y="253368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614240" y="275436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859040" y="27543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600200" y="273996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881360" y="27399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1828800" y="144756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876320" y="340056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616040" y="377820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710000" y="379404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DT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22880" y="40147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898640" y="40147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609560" y="40006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890720" y="4000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886040" y="3578400"/>
            <a:ext cx="581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206800" y="376884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72680" y="3784680"/>
            <a:ext cx="3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QT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214360" y="400536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489040" y="40053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19400" y="3990960"/>
            <a:ext cx="952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481120" y="39909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467080" y="3578400"/>
            <a:ext cx="0" cy="203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133720" y="2612880"/>
            <a:ext cx="306360" cy="10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처방전교부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733400" y="4208400"/>
            <a:ext cx="30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사용기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79520" y="4028040"/>
            <a:ext cx="306360" cy="178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반복조제횟수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현행 미사용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901960" y="454644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979000" y="4562640"/>
            <a:ext cx="36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C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899440" y="47829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184560" y="47829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895480" y="4768920"/>
            <a:ext cx="534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176640" y="4768920"/>
            <a:ext cx="0" cy="40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01960" y="410832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995560" y="412416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908800" y="434484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122640" y="43448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95480" y="43308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176640" y="4330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171960" y="3978360"/>
            <a:ext cx="0" cy="13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892600" y="559908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970000" y="5614920"/>
            <a:ext cx="3434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L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889720" y="583560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74840" y="58356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886120" y="5821200"/>
            <a:ext cx="638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166920" y="58212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892600" y="516096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985840" y="517680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900160" y="539748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83760" y="5397480"/>
            <a:ext cx="4107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999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886120" y="53830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166920" y="53830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610000" y="5719320"/>
            <a:ext cx="306360" cy="50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줄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637000" y="4571640"/>
            <a:ext cx="30636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모호성분리자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521160" y="559908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587040" y="5614920"/>
            <a:ext cx="3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QT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528000" y="583560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03760" y="58356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514680" y="5821200"/>
            <a:ext cx="723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795840" y="58212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159080" y="559908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253400" y="5614920"/>
            <a:ext cx="378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FT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166280" y="583560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441680" y="58356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152960" y="5821200"/>
            <a:ext cx="743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433760" y="58212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7080" y="559908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892040" y="5614920"/>
            <a:ext cx="355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R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814640" y="583560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089680" y="58356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800600" y="5821200"/>
            <a:ext cx="714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081760" y="58212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445000" y="559440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530320" y="561024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AG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452560" y="583092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727600" y="58309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719680" y="58165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970520" y="295596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047560" y="2971800"/>
            <a:ext cx="36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C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968000" y="319248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253120" y="31924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964040" y="31780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245200" y="31780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970520" y="251784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064120" y="253368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978080" y="275436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191560" y="2754360"/>
            <a:ext cx="297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964040" y="273996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245200" y="27399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 flipV="1">
            <a:off x="5192640" y="144756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40160" y="340056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979880" y="377820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074200" y="3794040"/>
            <a:ext cx="378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FT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987440" y="401472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262480" y="40147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973760" y="400068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254560" y="4000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626000" y="2546280"/>
            <a:ext cx="306360" cy="13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상병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증상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분류기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699160" y="273996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753160" y="275580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DT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715720" y="297648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981760" y="29764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965920" y="29624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5940360" y="144792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702400" y="296244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305400" y="273996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360480" y="2755800"/>
            <a:ext cx="3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QT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321960" y="297648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588000" y="29764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572160" y="29624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6546960" y="144792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308640" y="29624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7648560" y="273996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7702920" y="2755800"/>
            <a:ext cx="378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FT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7665840" y="297648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7931520" y="2976480"/>
            <a:ext cx="297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915320" y="29624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7889760" y="144792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7651800" y="29624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819760" y="3088800"/>
            <a:ext cx="30636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조제투약일자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6437520" y="2978280"/>
            <a:ext cx="306360" cy="16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요양급여일수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투약일수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121280" y="168264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195080" y="1698480"/>
            <a:ext cx="399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U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118400" y="19191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403880" y="19191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114800" y="19051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387680" y="1905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390920" y="1447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48720" y="2022120"/>
            <a:ext cx="42804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모호성분리자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931080" y="165744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986160" y="167328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AG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947640" y="18939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7213680" y="18939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197840" y="18795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934320" y="187956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7182000" y="1447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7068240" y="2022120"/>
            <a:ext cx="42804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모호성분리자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430960" y="58212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477600" y="4792680"/>
            <a:ext cx="549720" cy="8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총투약일수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일투여횟수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회투약량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238280" y="4992840"/>
            <a:ext cx="549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코드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코드구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387360" y="539640"/>
            <a:ext cx="8445600" cy="5778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38120" y="1333440"/>
            <a:ext cx="5763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LE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593280" y="182088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93280" y="322740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93280" y="437040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93280" y="551340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177920" y="1447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958680" y="1682640"/>
            <a:ext cx="520920" cy="292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120680" y="1698480"/>
            <a:ext cx="42084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967680" y="166356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181160" y="1447920"/>
            <a:ext cx="7277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859920" y="762120"/>
            <a:ext cx="1684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전자문서 구조도 </a:t>
            </a: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PAGE 3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(PMCSH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2108160" y="1433520"/>
            <a:ext cx="0" cy="766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828800" y="264960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934280" y="2665440"/>
            <a:ext cx="3510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I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826280" y="28861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08160" y="28972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822320" y="28717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03480" y="28717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828800" y="221148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912680" y="222732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827000" y="244800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078280" y="2448000"/>
            <a:ext cx="297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9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822320" y="24336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103480" y="2433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809720" y="376380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867320" y="3780000"/>
            <a:ext cx="418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O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807200" y="400068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092320" y="40006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084400" y="39862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809720" y="332568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893960" y="334152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807200" y="356220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030400" y="3562200"/>
            <a:ext cx="3265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9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803240" y="354816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084400" y="35481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382840" y="2690280"/>
            <a:ext cx="306360" cy="50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항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597040" y="3760920"/>
            <a:ext cx="52092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691720" y="3776760"/>
            <a:ext cx="3510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I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594520" y="399744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879640" y="39974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590920" y="398304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871720" y="39830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812960" y="3983040"/>
            <a:ext cx="847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122640" y="3808080"/>
            <a:ext cx="306360" cy="50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목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1790640" y="487836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896840" y="4894200"/>
            <a:ext cx="3434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L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788120" y="511488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073240" y="51148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784520" y="510048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065320" y="51004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790640" y="444024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1836720" y="445608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788120" y="46767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951920" y="4676760"/>
            <a:ext cx="439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999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784520" y="466236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2065320" y="4662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 flipV="1">
            <a:off x="2089080" y="4201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1800360" y="554832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873800" y="5564160"/>
            <a:ext cx="378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FT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797480" y="578484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082960" y="57848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793880" y="57704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2066760" y="57704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2070000" y="53290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065320" y="5410080"/>
            <a:ext cx="3781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56760" y="3625560"/>
            <a:ext cx="54972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모호성분리자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447920" y="4890600"/>
            <a:ext cx="306360" cy="50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줄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2320" y="5580000"/>
            <a:ext cx="428040" cy="67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코드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코드구분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2444760" y="555300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2546640" y="556884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DT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442960" y="578952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2727360" y="57895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2438280" y="57754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2711520" y="57754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2714760" y="5410080"/>
            <a:ext cx="0" cy="133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701880" y="554508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804480" y="5560920"/>
            <a:ext cx="355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R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699360" y="578160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3984480" y="57816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695760" y="577692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968640" y="57675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4959360" y="555768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033520" y="557388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AG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957560" y="579420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241960" y="57942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5226120" y="57801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587920" y="555768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661720" y="5573880"/>
            <a:ext cx="399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NA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86120" y="579420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5870520" y="57942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854680" y="57801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3073320" y="554832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147120" y="5564160"/>
            <a:ext cx="3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QT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070800" y="578484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355920" y="57848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694680" y="4975920"/>
            <a:ext cx="4280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금액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단가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30800" y="555768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432680" y="5573880"/>
            <a:ext cx="378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FT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4328640" y="579420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613400" y="57942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597560" y="57801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343320" y="5410080"/>
            <a:ext cx="0" cy="133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962520" y="5410080"/>
            <a:ext cx="0" cy="133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4572000" y="541980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238720" y="541980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48200" y="541980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2955600" y="4637520"/>
            <a:ext cx="549720" cy="78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총투약일수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일투약량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28000" y="4726080"/>
            <a:ext cx="4280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조제구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7419960" y="273060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7484040" y="2746440"/>
            <a:ext cx="378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FT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7437240" y="296712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7702560" y="29671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7686720" y="29527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 flipV="1">
            <a:off x="7689960" y="1437840"/>
            <a:ext cx="0" cy="129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7423200" y="29527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6751800" y="273996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6806160" y="2755800"/>
            <a:ext cx="418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O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6768000" y="297648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7034400" y="2976480"/>
            <a:ext cx="297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018200" y="29624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flipV="1">
            <a:off x="6993000" y="144792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754680" y="29624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6830640" y="3111840"/>
            <a:ext cx="549720" cy="12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청구액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본인 일부부담금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요양급여비용 총액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5965920" y="165744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6020640" y="1673280"/>
            <a:ext cx="36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C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982120" y="18939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6248520" y="18939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6232680" y="18795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969160" y="187956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6216480" y="1447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6103080" y="2022120"/>
            <a:ext cx="42804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모호성분리자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448840" y="1444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8229600" y="1679400"/>
            <a:ext cx="520560" cy="292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8391600" y="1695600"/>
            <a:ext cx="420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8238240" y="166068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059280" y="57754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332160" y="57657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911760" y="5773680"/>
            <a:ext cx="2217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387360" y="539640"/>
            <a:ext cx="8445600" cy="5778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438120" y="1333440"/>
            <a:ext cx="5763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LE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593280" y="182088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593280" y="322740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593280" y="437040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593280" y="551340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177920" y="1447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958680" y="1682640"/>
            <a:ext cx="520920" cy="292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1120680" y="1698480"/>
            <a:ext cx="42084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967680" y="166356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1181160" y="1447920"/>
            <a:ext cx="5057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858840" y="762120"/>
            <a:ext cx="1684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전자문서 구조도 </a:t>
            </a: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PAGE 4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(PMCSH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5226120" y="295596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5284080" y="2971800"/>
            <a:ext cx="3891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AU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5223600" y="319248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508720" y="31924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5219640" y="31780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5500800" y="31780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5226120" y="251784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291280" y="2533680"/>
            <a:ext cx="439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5223960" y="275436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5494320" y="27543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5219640" y="273996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5500800" y="27399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 flipV="1">
            <a:off x="5486400" y="144756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5504040" y="3244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5235480" y="363204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301000" y="364824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DT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233680" y="386856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5518080" y="38685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5229360" y="38545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510160" y="38545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5975280" y="168264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6030360" y="1698480"/>
            <a:ext cx="393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U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2760" y="19191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6257880" y="19191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5969160" y="19051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6242040" y="1905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6245280" y="1447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5796000" y="2955960"/>
            <a:ext cx="30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인증결과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V="1">
            <a:off x="2265480" y="1447920"/>
            <a:ext cx="0" cy="61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1986120" y="249876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2062800" y="251460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R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1983240" y="273528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2265480" y="27464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1979640" y="27208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2260440" y="27208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1986120" y="206064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2031840" y="207648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2003040" y="229716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2243160" y="22971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1979640" y="228276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2260440" y="22827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2260440" y="292104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1673280" y="2309400"/>
            <a:ext cx="30636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발생단위구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1673280" y="4200120"/>
            <a:ext cx="30636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모호성분리자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1996920" y="330840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2072520" y="3324240"/>
            <a:ext cx="399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NA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1995120" y="354492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2279520" y="35449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990800" y="35305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271600" y="35305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2257560" y="3130560"/>
            <a:ext cx="600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857680" y="3130560"/>
            <a:ext cx="0" cy="190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2606760" y="332100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2682000" y="3336840"/>
            <a:ext cx="3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QT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2604600" y="355752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2889360" y="35575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2600280" y="35434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2881440" y="35434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 flipV="1">
            <a:off x="2268360" y="3749400"/>
            <a:ext cx="0" cy="199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025720" y="439416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2102760" y="4410000"/>
            <a:ext cx="36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C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2023200" y="463068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2305080" y="46418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2019240" y="46162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2292480" y="46162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2025720" y="395604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2071800" y="3971880"/>
            <a:ext cx="439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2042280" y="41925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2215440" y="4192560"/>
            <a:ext cx="4107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999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2019240" y="417816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2292480" y="41781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 flipV="1">
            <a:off x="2295360" y="4835520"/>
            <a:ext cx="0" cy="200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2044800" y="503568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2119320" y="505152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DT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2042640" y="527220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2327400" y="52722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2038320" y="52578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2319480" y="5257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2692440" y="503568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2768400" y="5051520"/>
            <a:ext cx="3434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L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2690280" y="527220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2975040" y="52722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2685960" y="52578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2967120" y="5257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2295360" y="4921200"/>
            <a:ext cx="66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2962440" y="4921200"/>
            <a:ext cx="0" cy="11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2816640" y="5533560"/>
            <a:ext cx="428040" cy="50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줄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2700360" y="5257800"/>
            <a:ext cx="90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14680" y="503712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3592080" y="505296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AG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3512160" y="527364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3794040" y="52848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3508200" y="52592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3789360" y="52592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514680" y="459900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3560760" y="4614840"/>
            <a:ext cx="439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1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3531240" y="48355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3744000" y="4835520"/>
            <a:ext cx="35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99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3508200" y="48211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3789360" y="4821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 flipV="1">
            <a:off x="3784680" y="5478480"/>
            <a:ext cx="0" cy="200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3533760" y="567864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3609000" y="5694480"/>
            <a:ext cx="378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FT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3531240" y="59151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3816360" y="59151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3527280" y="590076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3808440" y="59007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4181400" y="5678640"/>
            <a:ext cx="52092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4256640" y="5694480"/>
            <a:ext cx="378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4179600" y="591516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4464000" y="59151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4175280" y="590076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4456080" y="59007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3784680" y="5564160"/>
            <a:ext cx="666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4451400" y="5564160"/>
            <a:ext cx="0" cy="11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4075560" y="4685760"/>
            <a:ext cx="42804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특정내역구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3277080" y="5592960"/>
            <a:ext cx="4280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특정내역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28T08:21:48Z</dcterms:created>
  <dc:creator>(주)KT인포텍</dc:creator>
  <dc:description/>
  <dc:language>en-US</dc:language>
  <cp:lastModifiedBy>St.Phillip</cp:lastModifiedBy>
  <cp:lastPrinted>2001-07-04T11:21:17Z</cp:lastPrinted>
  <dcterms:modified xsi:type="dcterms:W3CDTF">2004-06-29T00:06:42Z</dcterms:modified>
  <cp:revision>96</cp:revision>
  <dc:subject/>
  <dc:title>슬라이드 제목 없음</dc:title>
</cp:coreProperties>
</file>