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7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973160"/>
            <a:ext cx="3027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1973520"/>
            <a:ext cx="3027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건기관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2800" y="397980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288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18000" y="4200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4008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476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7840" y="30682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49800" y="304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93000" y="305748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2600" y="3278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27360" y="32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9800" y="3268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4760" y="3282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980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8360" y="2608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2600" y="2828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52840" y="2828880"/>
            <a:ext cx="463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9800" y="2819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241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16200" y="15177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9760" y="395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2120" y="3970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508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960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9760" y="41814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300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0480" y="2340360"/>
            <a:ext cx="1641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28200" y="4250160"/>
            <a:ext cx="546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2040" y="3733920"/>
            <a:ext cx="47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417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9320" y="44290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7680" y="4649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4649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6960" y="4640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79840" y="464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3960" y="4448160"/>
            <a:ext cx="4244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118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4000" y="397044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012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1840" y="4181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4920" y="4207320"/>
            <a:ext cx="115452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물리치료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방문횟수 또는 입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67400" y="37274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6552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4920" y="3023280"/>
            <a:ext cx="5461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 기호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808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5704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0200" y="397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99120" y="398448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3000" y="4205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0320" y="420516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4195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4520" y="4202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9840" y="4862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507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5720" y="508320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5160" y="53038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52840" y="530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3720" y="5294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6600" y="530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2240" y="3957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79920" y="39337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28000" y="373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00120" y="5540760"/>
            <a:ext cx="424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23840" y="176364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7160" y="19843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1984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5800" y="197496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2560" y="1523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51120" y="1752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3200" y="1981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544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8320" y="397980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824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3720" y="420048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7960" y="4328640"/>
            <a:ext cx="9111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실구입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476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16320" y="398304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42037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2680" y="4203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4760" y="4194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29440" y="4200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7560" y="4486320"/>
            <a:ext cx="789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품목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다태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야간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휴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6600" y="3743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69280" y="3736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8320" y="21621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7360" y="387360"/>
            <a:ext cx="8445600" cy="593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5120" y="40464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6680" y="7333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8600" y="1266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8600" y="18763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8600" y="2625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600" y="42260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8520" y="898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0600" y="1127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88280" y="110340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38720" y="1127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11440" y="113832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31880" y="1359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6640" y="1359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38720" y="13492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3400" y="1355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1760" y="898560"/>
            <a:ext cx="635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24560" y="905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51640" y="259416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30640" y="288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4200" y="289872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23440" y="31194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8200" y="311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30640" y="31100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5600" y="3121200"/>
            <a:ext cx="0" cy="58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30640" y="243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19560" y="2449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24160" y="2670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0640" y="26607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666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97400" y="218772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16240" y="3714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87880" y="372600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17320" y="39466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3520" y="3946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6240" y="39369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89480" y="39434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5280" y="2681280"/>
            <a:ext cx="350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55680" y="24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2480" y="245916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3280" y="26798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08760" y="267984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55680" y="267012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05160" y="2676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6720" y="2962440"/>
            <a:ext cx="7894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419200" y="22003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8000" y="12301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0" y="37101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25520" y="372096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4240" y="39416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40080" y="394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0" y="39322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7240" y="39387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7240" y="3490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34862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55040" y="40399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4735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21000" y="4746600"/>
            <a:ext cx="339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0" y="49672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6760" y="49672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28840" y="495792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3520" y="4971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8840" y="4286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17760" y="429732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22000" y="4518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28840" y="4508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3520" y="451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87680" y="403560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14800" y="5638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86440" y="564984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15520" y="58705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2080" y="5870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14800" y="5861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87680" y="5867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2160" y="4529160"/>
            <a:ext cx="40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51360" y="5641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23360" y="565308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080" y="5873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38640" y="587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1360" y="586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5800" y="5870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5800" y="5423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3520" y="5410080"/>
            <a:ext cx="239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40480" y="3716640"/>
            <a:ext cx="3027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40480" y="475596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9080" y="5545440"/>
            <a:ext cx="5461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급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57520" y="5455800"/>
            <a:ext cx="5461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6760" y="2428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06480" y="24400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09280" y="2660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4680" y="2660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06760" y="26510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1440" y="265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1440" y="220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13680" y="27939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00560" y="53974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99320" y="5408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08600" y="5638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01840" y="5649840"/>
            <a:ext cx="352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02120" y="58705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6520" y="5870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08600" y="5861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5867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5800" y="5622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7000" y="563400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58546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13360" y="5854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5800" y="58453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10120" y="585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2960" y="895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85040" y="112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52720" y="110016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50000" y="2185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72440" y="24145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40120" y="239076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7080" y="2201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19160" y="24303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86840" y="240660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3840" y="2197080"/>
            <a:ext cx="635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7360" y="260280"/>
            <a:ext cx="8445600" cy="633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5120" y="33012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6680" y="5587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600" y="1395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8600" y="2004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8600" y="2754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8600" y="4354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06440" y="1027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28880" y="1255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96200" y="12319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01760" y="1027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02440" y="2664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29240" y="1262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2120" y="12780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26720" y="149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1840" y="1498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22760" y="14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14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102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4120" y="253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1160" y="25542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91600" y="277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6720" y="277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2760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68800" y="276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94120" y="210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87720" y="211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84400" y="2336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62680" y="2336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232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68800" y="232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16600" y="1029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3480" y="2982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3840" y="3360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9000" y="3376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1680" y="359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359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97360" y="35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8520" y="35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347920" y="177336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8560" y="282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45240" y="2840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6040" y="306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47920" y="3071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62080" y="30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43240" y="30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68560" y="2386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4280" y="240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85480" y="2622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25600" y="262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62080" y="260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43240" y="260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3240" y="3246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5720" y="26348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55720" y="4525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9720" y="3633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54960" y="3649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77560" y="3870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73240" y="3855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5440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3456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40120" y="3456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920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4800" y="36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740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8272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6388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351160" y="407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08160" y="47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85200" y="47354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5640" y="495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87520" y="496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494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74920" y="494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08160" y="4281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4240" y="42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720" y="4518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97880" y="45180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01680" y="450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74920" y="45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378160" y="51609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7240" y="536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2120" y="5376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2544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0984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20760" y="558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0192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4880" y="5361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0840" y="53769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308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5748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68760" y="5583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56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78160" y="524664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4880" y="5246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63720" y="558324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78400" y="536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5440" y="5378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75520" y="5599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7760" y="561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71920" y="5584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2720" y="558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78400" y="4924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4120" y="4940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94600" y="5160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7360" y="51609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71920" y="5146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52720" y="5146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848040" y="5803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97120" y="6004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236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94600" y="624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79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91000" y="622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7180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45120" y="6004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2000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42960" y="624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27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8640" y="622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1944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8040" y="588960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14760" y="5889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39280" y="50112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27840" y="5918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7080" y="1778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9160" y="200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86840" y="19828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3840" y="17733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dc:language>en-US</dc:language>
  <cp:lastModifiedBy>St.Phillip</cp:lastModifiedBy>
  <cp:lastPrinted>2001-07-04T11:17:29Z</cp:lastPrinted>
  <dcterms:modified xsi:type="dcterms:W3CDTF">2004-06-09T07:47:35Z</dcterms:modified>
  <cp:revision>117</cp:revision>
  <dc:subject/>
  <dc:title>슬라이드 제목 없음</dc:title>
</cp:coreProperties>
</file>