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39F-7C8C-4E23-9D4E-9E9415DB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125-E52B-4B9C-9DEF-88259E88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1FE-7173-46F7-83BC-49B8E6AC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B2D-3CA0-4CAC-AFD5-85669EA2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B77-4385-47DC-9B15-CD7C7AFE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4DE-6EDF-4EC8-BD6F-EAB0F6B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FE8-AEA2-487C-A8E9-675B1F7C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97E-938D-4704-A083-5E6AAA45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85E-DF44-4249-8555-7313474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577-C6DD-463B-A95F-EC4E5FB2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EF2-D70A-466D-AA21-2E07776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264-78C2-4748-BB5E-A9CA156B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96B745-F4DB-4055-9708-BD4DB85D73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57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5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67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0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38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8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43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54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78200" y="2106000"/>
            <a:ext cx="30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45280" y="3213000"/>
            <a:ext cx="428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7832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1520" y="3174480"/>
            <a:ext cx="4280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12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3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6000" y="214308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40600" y="3352680"/>
            <a:ext cx="671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  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0496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9820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024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875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884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717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289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1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271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115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228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95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46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08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8600"/>
            <a:ext cx="485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궁서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62280" y="394164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44920" y="424008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95928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62760" y="610560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609588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관련사항은 사용 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4480" y="2963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1160" y="2979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2196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0708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8000" y="31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9916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4480" y="252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1808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2268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268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8000" y="274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9916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9124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9268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24480" y="420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9640" y="422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2268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708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8000" y="442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916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6600" y="2913120"/>
            <a:ext cx="671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2384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84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35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977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946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871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920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772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881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572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7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50800" y="3260880"/>
            <a:ext cx="5497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79680" y="405756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56520" y="427212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0560" y="2991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692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96400" y="1674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8320" y="1690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66960" y="1655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79200" y="2774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80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592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0720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8800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64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3880" y="321264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일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584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8252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0296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880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9936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801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0584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90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0296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93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9936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801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81960" y="340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3760" y="4164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9640" y="417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1600" y="440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40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07280" y="438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88080" y="438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64560" y="330588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34360" y="45450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질병군세부분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20280" y="320040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1608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931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1356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986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0996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907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608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1356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842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0996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07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3828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84280" y="3413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1608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812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1428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86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0996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907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7600" y="30034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주진단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925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80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903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51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860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72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86080" y="3564000"/>
            <a:ext cx="21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62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95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1540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477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21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34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242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95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7800" y="46497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87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65360" y="42703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508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0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1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62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87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8580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28080" y="4052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81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62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45000" y="35622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03800" y="531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9680" y="5327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01280" y="5548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86400" y="554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97320" y="55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8480" y="55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92760" y="500112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타진단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740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4444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64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50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6128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42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6740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61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560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56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6128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42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734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43880" y="3405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8324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49480" y="42004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8144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6584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792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83360" y="3222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42000" y="42519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 분리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575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67320" y="46911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6680" y="459432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7360" y="539640"/>
            <a:ext cx="8445600" cy="591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1447920"/>
            <a:ext cx="695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90160" y="3352680"/>
            <a:ext cx="109764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행위별 총진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19560" y="28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12080" y="284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7040" y="307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02520" y="3070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13080" y="3056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6320" y="305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9200" y="1447920"/>
            <a:ext cx="0" cy="13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62760" y="620064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61280" y="619128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관련사항은 사용 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27952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001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0600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976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795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940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748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001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440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83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5000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940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48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376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87280" y="37800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7856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368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5576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3325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6532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856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212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74960" y="354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5576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27016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5420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5252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71720" y="4437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45160" y="4452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69200" y="46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54320" y="46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65240" y="4659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38480" y="465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9280" y="3804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89080" y="4904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6524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55300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364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5068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7112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5300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6716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4832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7364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1972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9092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3068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6716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4832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6080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6080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48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6040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8300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740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783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594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4508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520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9428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6988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9248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7688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8816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6896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55624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1324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028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1072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9260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0712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8000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1324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59320" y="3971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980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0332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0712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8000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8324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232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0720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05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492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2620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07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5628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7816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6256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7384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5464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1160" y="49212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996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0452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8788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6260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0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6008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42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56480" y="525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3728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6260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0868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79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9192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56480" y="48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3728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032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6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79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64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7556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56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29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04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27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71192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23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70400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32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9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4026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22960" y="236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0000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044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0556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16840" y="258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9764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2960" y="1924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7876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2116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1060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16840" y="214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9764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2476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1692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2260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0736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1828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4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4868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8840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5428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8588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7100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8192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6308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2488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23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2032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0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538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58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43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54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27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7832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3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12-05T02:19:36Z</cp:lastPrinted>
  <dcterms:modified xsi:type="dcterms:W3CDTF">2004-06-15T08:49:47Z</dcterms:modified>
  <cp:revision>71</cp:revision>
  <dc:subject/>
  <dc:title>슬라이드 제목 없음</dc:title>
</cp:coreProperties>
</file>