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A174-4D20-4E8E-A1FF-DAD5A8B5C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C236-26FF-4B23-918E-8913C9F8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5D3B-04B2-45D2-BC32-02B3CED4D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123C-C6F1-4779-AD74-6743E747D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3D69-CBBE-4A97-88DB-F6F65A28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40A2-AEE1-4AB7-A232-AA3C18EE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D5C2-73E3-4B64-8186-A1A764B7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7056-AFD4-40B5-9C6C-F1BAFB37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5BD0-50DA-4677-84C8-E92EC17A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DD62-5A41-4F06-90D5-2C3F8C34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72A1-01E1-4B03-97B6-B8D4DCBD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CA57-615F-4972-A23D-9A03B47C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12C1D4B-FE4C-4EBD-9813-6E19601A5B5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KMI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684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90440" y="16984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43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794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3280" y="3075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8264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75160" y="16984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801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652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7652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494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3280" y="42940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3280" y="5589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5892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63600" y="1447920"/>
            <a:ext cx="711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68440" y="2770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37560" y="2786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65920" y="3006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51040" y="3006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62320" y="2992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54240" y="27576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3360" y="27734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52440" y="29941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36840" y="2994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8120" y="29797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3210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4004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32920" y="16984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375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226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3392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068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16400" y="2759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82640" y="27748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13880" y="2995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99000" y="2995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10280" y="29811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91080" y="29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96120" y="27525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88640" y="27687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294320" y="29894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50640" y="298944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89640" y="29750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62880" y="2975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368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834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1453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15256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02200" y="2759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68080" y="27748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99680" y="2995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84800" y="2995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96080" y="29811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76880" y="29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90640" y="1962720"/>
            <a:ext cx="306360" cy="18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한방용 요양급여비용 명세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04840" y="1780200"/>
            <a:ext cx="30636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청구번호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+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명세서 일련번호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91480" y="2997720"/>
            <a:ext cx="42804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사업장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보장기관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) 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요양기관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의료급여기관 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57760" y="2113560"/>
            <a:ext cx="306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86960" y="3087360"/>
            <a:ext cx="42804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수진자 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가입자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세대주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5264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6384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5748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29080" y="30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2424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60360" y="3121920"/>
            <a:ext cx="54972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정액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정율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공상 등 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의료급여 종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24400" y="29592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01080" y="2975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2188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0700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7920" y="3181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99080" y="318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24400" y="25210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1800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22240" y="2757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11680" y="2757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1792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9908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69116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92600" y="3409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1004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73520" y="3146400"/>
            <a:ext cx="6714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사유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명세서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청구구분 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4770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615312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72760" y="3128400"/>
            <a:ext cx="428040" cy="14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증번호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보장시설기호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수진자 주민등록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86560" y="29592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63600" y="2975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8404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6916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580080" y="3181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61240" y="318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86560" y="25210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8016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84760" y="2757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73840" y="2757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8008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6124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685332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4760" y="3409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86560" y="41720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52080" y="41878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84040" y="4408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69160" y="4408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580080" y="4394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61240" y="4394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25840" y="417204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91360" y="41878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24040" y="44085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08440" y="4408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19720" y="43941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00520" y="4394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5438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9240" y="228600"/>
            <a:ext cx="4366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52920" y="4549680"/>
            <a:ext cx="3063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최초입원개시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93280" y="3227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3280" y="4370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3280" y="5513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968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587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596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1447920"/>
            <a:ext cx="687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96920" y="29592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74320" y="297504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9440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7952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90800" y="3181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71600" y="318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96920" y="25210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9052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94400" y="2757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37040" y="27576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90800" y="2743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7160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26368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65480" y="34290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96920" y="42004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62440" y="42163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95120" y="4437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79520" y="443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90800" y="4422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71600" y="442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KMI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1741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83640" y="168264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945560" y="169848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95276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920" y="3016440"/>
            <a:ext cx="4280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상병 분류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20320" y="4668480"/>
            <a:ext cx="4280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내원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673360" y="4200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738880" y="42163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671560" y="4437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55960" y="443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66880" y="4422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948040" y="442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66920" y="3571920"/>
            <a:ext cx="132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943360" y="3581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30720" y="4200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96240" y="42163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328560" y="4437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613320" y="443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24240" y="4422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05040" y="442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00360" y="3581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8720" y="46371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진료과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02200" y="27637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95080" y="27795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900400" y="30002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84800" y="3000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96080" y="2986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68960" y="2986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19920" y="32133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진료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559560" y="27637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52080" y="27795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D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557760" y="30002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42160" y="3000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53080" y="2986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26320" y="2986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816600" y="145728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6162840" y="145728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06920" y="29592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83960" y="29750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0440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8952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600440" y="3181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81600" y="318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606920" y="25210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0052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604400" y="2757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847040" y="27576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60044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8160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487368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75120" y="34290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06920" y="4200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672080" y="42163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605120" y="4437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89520" y="443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600440" y="4422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81600" y="442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30480" y="4485600"/>
            <a:ext cx="30636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당월요양개시일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내원일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91480" y="2950200"/>
            <a:ext cx="42804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입원일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내원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968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587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6596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1447920"/>
            <a:ext cx="688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1873080" y="1447920"/>
            <a:ext cx="0" cy="9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KMI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87600" y="28065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64640" y="2813040"/>
            <a:ext cx="35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85080" y="3033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70200" y="3033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81120" y="3019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862280" y="3019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87600" y="23590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681200" y="2374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85440" y="2595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37080" y="25956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81120" y="2581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62280" y="2581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68520" y="3917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645200" y="393372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66000" y="4154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51120" y="4154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62040" y="4140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843200" y="4140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68520" y="34704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62120" y="34862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66000" y="3706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08640" y="370692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62040" y="3692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43200" y="369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65280" y="46324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69320" y="4648320"/>
            <a:ext cx="35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562760" y="4869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47880" y="4869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558800" y="485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39960" y="485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95280" y="292212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항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693800" y="51098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목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3840" y="365076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860480" y="324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841400" y="4362480"/>
            <a:ext cx="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481120" y="5057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584440" y="507348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478600" y="5294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763720" y="5294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475000" y="5280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55800" y="5280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481120" y="46134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74720" y="46292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478600" y="4849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675880" y="484992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475000" y="48355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755800" y="4835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835280" y="4467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743200" y="44704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482920" y="5715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48440" y="57308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480400" y="5951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765520" y="5951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476440" y="593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57600" y="5937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55800" y="5486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077560" y="5664240"/>
            <a:ext cx="549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코드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30560" y="5715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95720" y="57308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128760" y="5951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413160" y="5951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124080" y="593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405240" y="5937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765600" y="5715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31480" y="57308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763080" y="5951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048200" y="5951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59120" y="593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040280" y="5937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00640" y="5715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466520" y="5730840"/>
            <a:ext cx="355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398120" y="5951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683240" y="5951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394160" y="593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675320" y="5937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022720" y="57150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88600" y="57308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020920" y="5951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05320" y="5951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16600" y="5937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97400" y="5937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771640" y="556884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403440" y="5562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038480" y="5562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648320" y="5562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95960" y="5562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970360" y="504936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74920" y="506376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변경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39040" y="4029120"/>
            <a:ext cx="42804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총투여일수 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실시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1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일 투여량 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투여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431240" y="5168160"/>
            <a:ext cx="428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단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591880" y="5549400"/>
            <a:ext cx="428040" cy="8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가감등 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1741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883640" y="168264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945560" y="169848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95420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626160" y="34574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695280" y="34732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C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624360" y="36939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908760" y="3693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620040" y="36799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96160" y="367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186320" y="2610000"/>
            <a:ext cx="914760" cy="20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장애인 의료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대불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본인부담상한액초과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본인 일부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요양급여비용 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79744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890320" y="16984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49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0800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79132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642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915160" y="2113560"/>
            <a:ext cx="306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06744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6902280" y="1447920"/>
            <a:ext cx="0" cy="9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16800" y="28065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693480" y="281304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14280" y="3033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99400" y="3033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610320" y="3019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91480" y="3019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616800" y="23590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710400" y="2374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614280" y="2595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866280" y="25956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610320" y="2581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91480" y="2581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89680" y="324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9968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0587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06740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95280" y="1447920"/>
            <a:ext cx="6351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KMI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682640" y="2743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775160" y="27590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680840" y="2979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96524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76520" y="2965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94940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19526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6802560" y="14475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523200" y="23623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600240" y="237816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520320" y="2598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05440" y="2598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516720" y="2584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797520" y="258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523200" y="19242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578640" y="194004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521040" y="2160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10480" y="2160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516720" y="2146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797520" y="2146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524640" y="3035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616800" y="30510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522840" y="3271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07240" y="3271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518160" y="3257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91400" y="3257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94640" y="2809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640640" y="1447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380360" y="1895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446240" y="191124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377840" y="2131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662960" y="2131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373880" y="2117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655040" y="2117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124760" y="247500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3003480" y="1447920"/>
            <a:ext cx="0" cy="61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724120" y="2498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800800" y="2514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721600" y="2735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003480" y="2746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717640" y="2720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998800" y="2720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724120" y="2060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770200" y="2076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741400" y="22971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981160" y="2297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717640" y="2282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998800" y="2282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998800" y="29210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411280" y="230940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발생단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411280" y="420012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735280" y="3308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10880" y="33242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733480" y="35449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017880" y="3544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28800" y="3530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09960" y="3530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995560" y="3130560"/>
            <a:ext cx="60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95680" y="313056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344760" y="33210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420360" y="33368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342960" y="3557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627360" y="3557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338640" y="3543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619440" y="3543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3006720" y="374940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763720" y="43941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840760" y="441000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761200" y="4630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043080" y="4641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757600" y="46162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30480" y="4616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763720" y="3956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809800" y="397188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780280" y="4192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953800" y="419256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757600" y="41781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030480" y="417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3033720" y="483552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782800" y="50356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857680" y="50515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781000" y="5272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065400" y="5272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776680" y="5257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05748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430440" y="50356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06760" y="505152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428640" y="5272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713040" y="5272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424320" y="5257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70512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033720" y="4921200"/>
            <a:ext cx="66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700440" y="49212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555000" y="5533560"/>
            <a:ext cx="4280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419640" y="5257800"/>
            <a:ext cx="90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233960" y="50371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311000" y="50529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231440" y="5273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513320" y="5284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227480" y="5259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508640" y="5259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233960" y="4599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280040" y="461484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250160" y="4835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463280" y="483552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227480" y="4821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508640" y="482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4503600" y="547848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253040" y="56786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327920" y="569448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250160" y="5915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535640" y="5915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246560" y="5900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527720" y="5900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900680" y="56786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975560" y="569448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898520" y="59151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183280" y="5915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894200" y="5900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75360" y="5900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03600" y="5564160"/>
            <a:ext cx="66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170320" y="556416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794840" y="468576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특정내역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980520" y="559296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특정내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(주)KT인포텍</dc:creator>
  <dc:description/>
  <dc:language>en-US</dc:language>
  <cp:lastModifiedBy>St.Phillip</cp:lastModifiedBy>
  <cp:lastPrinted>2001-07-04T11:14:57Z</cp:lastPrinted>
  <dcterms:modified xsi:type="dcterms:W3CDTF">2004-06-15T08:47:46Z</dcterms:modified>
  <cp:revision>54</cp:revision>
  <dc:subject/>
  <dc:title>슬라이드 제목 없음</dc:title>
</cp:coreProperties>
</file>