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5C3-9749-41DA-8185-90D4E318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4DF-F2FA-4810-AEBB-7F516A4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B19-998F-485D-811F-5C406997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A8E-2779-4D91-9EDB-77A616F9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89B-38E1-4F2C-B101-1B51220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3AC-654F-4552-B199-81C2B482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599-EC32-4833-B587-06940DF2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220-DE60-403A-BAC7-848306F8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351-9E2F-477C-8A02-E7CC08CF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80D-293F-4FFE-8963-26FA1FF0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E61-4F02-484E-B39D-B451BAEB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9E5-679C-488E-9565-40768F5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0170DF-ACA8-4007-B38B-4F00971292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5456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37720" y="2762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5240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680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4808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2096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66960" y="1585440"/>
            <a:ext cx="30636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건강보험요양급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 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용 청구명세서등 접수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70000" y="1803960"/>
            <a:ext cx="30636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구분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일자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2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85480" y="2755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89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7484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86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590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171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7148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680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73040" y="2762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0500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8940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0068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8148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577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8480" y="27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4000" y="27622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6320" y="29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6108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9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316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29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5004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98280" y="26733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728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56160" y="2894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4356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9592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5004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148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9440" y="2455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8944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4356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71356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8188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1488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1160" y="3225960"/>
            <a:ext cx="306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2840" y="32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22280" y="23623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3179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6560" y="3508200"/>
            <a:ext cx="557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1520" y="3524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8520" y="3754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46800" y="374508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730680"/>
            <a:ext cx="569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03840" y="3736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6840" y="2970360"/>
            <a:ext cx="30636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92800" y="2657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020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90280" y="2894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72160" y="2905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86680" y="2879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7480" y="287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92800" y="2219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8640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9028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61000" y="2455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6680" y="2441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6748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356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94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182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020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053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8640" y="2280240"/>
            <a:ext cx="30636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3420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9612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5724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042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7372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50760" y="3787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71200" y="4008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632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6760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4840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73720" y="3333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67320" y="3349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71200" y="3570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66320" y="3570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67600" y="3556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48400" y="3556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562800" y="30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73720" y="4956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50760" y="4971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0920" y="5192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6320" y="5192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67600" y="5178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48400" y="5178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73720" y="4518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67320" y="4533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81280" y="47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65240" y="47545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67600" y="474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48400" y="47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3720" y="4213080"/>
            <a:ext cx="0" cy="3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540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24600" y="4346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91480" y="57722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66360" y="5788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89680" y="6008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83440" y="6008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85000" y="5994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5520" y="5994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67720" y="39344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건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26480" y="4597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8400" y="46134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58880" y="4578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96120" y="436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4000" y="4352760"/>
            <a:ext cx="1667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3280" y="44604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반송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2920" y="3751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2940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96440" y="4845960"/>
            <a:ext cx="428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8040" y="257040"/>
            <a:ext cx="4471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74000" y="576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50680" y="5784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0840" y="600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6600" y="600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67520" y="59911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48680" y="59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74000" y="533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67600" y="534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1560" y="5567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12320" y="5567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67520" y="555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48680" y="555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62800" y="5772240"/>
            <a:ext cx="52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53400" y="2009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924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0636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150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5280" y="1447920"/>
            <a:ext cx="644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65600" y="351792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7040" y="4146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62560" y="4162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4520" y="4383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79640" y="4383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368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71720" y="436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8640" y="4137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4520" y="41529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6840" y="4373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51240" y="4373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35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43320" y="43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38640" y="3517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82840" y="412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9080" y="41432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80320" y="436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65440" y="436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434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57520" y="434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52840" y="350820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656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960" y="4159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4040" y="437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8916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435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8124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66840" y="35146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13280" y="351468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45080" y="414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10960" y="41590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2920" y="4379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27680" y="437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38600" y="436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19760" y="436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3505320"/>
            <a:ext cx="354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38320" y="46576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43200" y="4470840"/>
            <a:ext cx="67140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료급여진료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보험자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25560" y="4657680"/>
            <a:ext cx="3067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48520" y="4376520"/>
            <a:ext cx="42804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진료년월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번호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신청번호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765680" y="45334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의뢰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03640" y="45828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06680" y="45640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접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19800" y="308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73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6684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471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56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40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43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184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8880" y="297504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932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9444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8652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1184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544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100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804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8652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93432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91200" y="34034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21560" y="378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86720" y="3797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19400" y="4017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04160" y="40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15080" y="40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96240" y="40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604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85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433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8056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928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2676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593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3120" y="27687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688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32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532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60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610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61040" y="3163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292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51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3740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76200" y="37558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23200" y="3720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021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950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96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847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68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7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296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BULDOG</dc:creator>
  <dc:description/>
  <dc:language>en-US</dc:language>
  <cp:lastModifiedBy>Phillip</cp:lastModifiedBy>
  <cp:lastPrinted>2001-07-05T00:15:44Z</cp:lastPrinted>
  <dcterms:modified xsi:type="dcterms:W3CDTF">2005-06-22T12:31:32Z</dcterms:modified>
  <cp:revision>73</cp:revision>
  <dc:subject/>
  <dc:title>슬라이드 제목 없음</dc:title>
</cp:coreProperties>
</file>