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D75-82BA-4A9B-B4EF-15E92356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B89-1E02-480F-A981-3C191296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28B-DA03-45E2-9536-5BBEB30D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394-05BA-4FC7-A10F-FE5DAF5B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0E0-583A-4A1E-9A3E-27B8C092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119-EE05-4AD6-92D2-34647BD3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243-1FBD-4E99-A389-915E6E58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A92-E47D-45A7-BCB0-FB303C2C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C85-1E4B-4592-909C-21D1D409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BC9-E595-4BE7-946C-DF7F2103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118-03A5-4AF9-A306-9A449678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B04-8DF8-419E-BB47-51A85F48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744C6F8-0FC0-4D4E-86BC-B27BE6C808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752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42840" y="2973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760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852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1176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0640" y="1957320"/>
            <a:ext cx="306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검사 공급내역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24080" y="311724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작성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14720" y="31831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0280" y="3075840"/>
            <a:ext cx="306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작성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76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442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50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502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11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76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612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548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112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343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358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690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5280" y="4187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672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516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437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37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37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30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23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27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12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241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7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71160" y="2755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61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718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905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3568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2000" y="298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828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1036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35680" y="252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352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388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74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036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0388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21480" y="420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87000" y="4221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932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408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442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9616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7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280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89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1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911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05320" y="357192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0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4296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7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32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16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19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5680" y="419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1200" y="4206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3520" y="442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89480" y="442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441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10360" y="441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172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04600" y="2752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9560" y="2973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432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0524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848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700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572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305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675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804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12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79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18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59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12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148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91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59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387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89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1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520" y="42163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9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03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95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70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41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4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896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817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70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0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4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38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817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73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52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70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22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49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896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817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316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86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13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657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7704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578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3571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53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10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16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16756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998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42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9556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763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352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54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0280" y="2774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52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36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28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704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9680" y="2760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8440" y="27766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7520" y="29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94120" y="29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29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1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09960" y="299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354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12520" y="29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326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180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101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354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290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333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3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101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7018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036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354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100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33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180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7101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40520" y="419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06040" y="42069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138360" y="442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23120" y="442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34040" y="441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15200" y="441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263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033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238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089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198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1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263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199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241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07436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198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010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0930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945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263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914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241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089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98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010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0240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6828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0060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7850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9628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7770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5960" y="3571920"/>
            <a:ext cx="66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24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11280" y="2984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88320" y="299088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08760" y="3211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93880" y="3211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04800" y="3197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85960" y="3197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1128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488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0876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04960" y="277344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0480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85960" y="2759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081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15960" y="3657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81840" y="3673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13440" y="38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8560" y="38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09840" y="38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90640" y="38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892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4160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7733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8240" y="3651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73760" y="3666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06440" y="388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90840" y="38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01760" y="387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82920" y="387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11160" y="353376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9160" y="35305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41440" y="3957120"/>
            <a:ext cx="30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01960" y="36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67840" y="367020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00160" y="3890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84560" y="38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38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76640" y="38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5288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61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58400" y="4124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328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3876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496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048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656160" y="3664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49760" y="3679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54000" y="390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93040" y="3900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048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476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23120" y="4781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655800" y="500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40200" y="500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51120" y="498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32280" y="49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30480" y="453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0560" y="41968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82880" y="5173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988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5760" y="4775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772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324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245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004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3372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4504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10560" y="4775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0432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276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85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197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9596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33720" y="4638600"/>
            <a:ext cx="136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4118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25880" y="41241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456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3108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42000" y="4340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280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48480" y="3670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42080" y="36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45600" y="39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79240" y="39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42000" y="389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22800" y="389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87080" y="4775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18680" y="49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03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15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6920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34360" y="47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670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51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6272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6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92080" y="47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2440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08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20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00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08760" y="3533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7160" y="5180040"/>
            <a:ext cx="7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준용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37960" y="513648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결과통보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검사의뢰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94960" y="5132160"/>
            <a:ext cx="42804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총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1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 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29160" y="41349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16680" y="45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8180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635360"/>
            <a:ext cx="136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46440" y="4759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12320" y="47750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4428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286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99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207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0344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568960" y="4775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016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860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9696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781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15108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17320" y="47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4928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3368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4496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2576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77820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4440" y="4775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7640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6080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77208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5288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25840" y="475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91720" y="47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24040" y="4995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08440" y="49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052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49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526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038480" y="49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300320" y="463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09800" y="4873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71720" y="48895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80360" y="4854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8520" y="4638600"/>
            <a:ext cx="33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0880" y="2975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07560" y="2981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28360" y="3201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3480" y="320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24400" y="318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05560" y="318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0880" y="252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24480" y="2543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28720" y="2763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08800" y="276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24400" y="274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05560" y="274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335560" y="3648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01440" y="3664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3760" y="3884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18160" y="3884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29080" y="387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10240" y="387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608800" y="341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602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964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85880" y="27655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4952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0224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352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3943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788160" y="2755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80680" y="2771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86360" y="2992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70760" y="299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81680" y="297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54920" y="297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05520" y="3223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391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7058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14640" y="46353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716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1964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76760" y="463860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5280" y="1447920"/>
            <a:ext cx="15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LABR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9572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97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8992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4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79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90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63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67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7683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4536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7658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09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622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430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683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62280" y="25369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7665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368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22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430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350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7780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843200" y="3654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758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606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7715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527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32040" y="205524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57400" y="340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13:21Z</cp:lastPrinted>
  <dcterms:modified xsi:type="dcterms:W3CDTF">2002-07-10T09:34:16Z</dcterms:modified>
  <cp:revision>53</cp:revision>
  <dc:subject/>
  <dc:title>슬라이드 제목 없음</dc:title>
</cp:coreProperties>
</file>