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3F6B-EF82-4078-9F76-A7362F30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8FB7-A87C-4AD0-A019-B443FDBD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BCA-58C3-4150-8F83-6871EA9D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3EF-5D64-4F55-907C-3E4773F8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EA45-CF62-4DD6-B9DB-0E97E1C3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B0F3-7AF7-44C6-8D57-A64F0DF4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3D83-FEA3-4BC2-BE28-25D48539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0130-D120-4325-8C21-11E28C97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003B-5095-4C4C-9C93-56A684F2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91D9-90A5-479D-8C88-86F4C965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2E2-B1B6-4199-80B4-5C66C1AB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447-C274-4FF9-8C8D-7CAEE071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9395177-92F3-4822-8B6B-D6D0F8CC83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KMI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68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43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794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826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7516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80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65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494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63600" y="1447920"/>
            <a:ext cx="711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8440" y="2770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37560" y="2786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5920" y="3006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51040" y="3006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2992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54240" y="27576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3360" y="27734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52440" y="29941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36840" y="2994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29797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3210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400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3292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75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226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068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1640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82640" y="27748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13880" y="2995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9900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1028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9108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96120" y="2752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88640" y="276876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94320" y="29894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50640" y="298944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89640" y="2975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2880" y="2975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36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834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45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525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02200" y="2759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68080" y="2774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99680" y="2995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84800" y="2995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96080" y="2981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6880" y="29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0640" y="1962720"/>
            <a:ext cx="306360" cy="18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한방용 요양급여비용 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04840" y="1780200"/>
            <a:ext cx="3063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전자문서 참조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+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 일련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91480" y="2997720"/>
            <a:ext cx="42804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사업장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보장기관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 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요양기관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기관 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57760" y="2113560"/>
            <a:ext cx="306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86960" y="3087360"/>
            <a:ext cx="42804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가입자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세대주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26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6384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574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29080" y="30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2424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60360" y="3121920"/>
            <a:ext cx="549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정율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공상 등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 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2440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01080" y="29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2188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0700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792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9908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2440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1800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2224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1168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792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9908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69116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92600" y="3409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100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73520" y="3146400"/>
            <a:ext cx="67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구분 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4770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1531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72760" y="3128400"/>
            <a:ext cx="428040" cy="14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증번호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보장시설기호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수진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8656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63600" y="2975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8404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6916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8008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6124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8656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8016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8476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7384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8008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6124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85332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4760" y="3409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86560" y="41720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52080" y="41878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84040" y="4408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69160" y="4408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80080" y="4394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61240" y="4394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25840" y="417204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91360" y="41878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4040" y="44085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08440" y="4408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19720" y="4394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00520" y="4394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54380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9240" y="228600"/>
            <a:ext cx="4366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52920" y="4549680"/>
            <a:ext cx="3063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최초입원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1447920"/>
            <a:ext cx="687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9692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74320" y="297504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944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7952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9080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7160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9692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9052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94400" y="2757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37040" y="2757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9080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7160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2636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6548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96920" y="42004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6244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951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7952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90800" y="44226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7160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KMI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741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8364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4556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527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920" y="3016440"/>
            <a:ext cx="4280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상병 분류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0320" y="466848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내원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7336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38880" y="4216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7156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5596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4804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66920" y="357192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4336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3072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96240" y="4216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2856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1332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2424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0504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0036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8720" y="46371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진료과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02200" y="276372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95080" y="2779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00400" y="3000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84800" y="3000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96080" y="2986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68960" y="298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32133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진료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59560" y="27637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52080" y="277956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57760" y="300024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42160" y="30002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3080" y="2986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26320" y="298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16600" y="145728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162840" y="145728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06920" y="2959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83960" y="29750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0440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8952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00440" y="318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8160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606920" y="25210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0052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04400" y="2757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47040" y="2757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0044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8160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8736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7512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06920" y="4200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72080" y="4216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05120" y="4437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89520" y="4437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00440" y="4422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81600" y="4422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0480" y="4478760"/>
            <a:ext cx="30636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당월요양개시일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내원일자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91480" y="2950200"/>
            <a:ext cx="42804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내원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1447920"/>
            <a:ext cx="688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873080" y="1447920"/>
            <a:ext cx="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KMI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87600" y="2806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64640" y="281304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85080" y="30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70200" y="30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81120" y="3019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62280" y="301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87600" y="2359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681200" y="2374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85440" y="2595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37080" y="2595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81120" y="2581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62280" y="258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68520" y="3917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45200" y="39337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66000" y="4154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51120" y="4154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62040" y="4140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43200" y="4140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68520" y="34704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62120" y="3486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66000" y="3706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08640" y="370692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62040" y="3692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43200" y="369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65280" y="4632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69320" y="464832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62760" y="4869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47880" y="4869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58800" y="485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39960" y="485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292212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항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93800" y="5109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목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3840" y="365076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60480" y="324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841400" y="4362480"/>
            <a:ext cx="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81120" y="5057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84440" y="50734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78600" y="5294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3720" y="5294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75000" y="5280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55800" y="5280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81120" y="46134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74720" y="46292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78600" y="4849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75880" y="484992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75000" y="4835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55800" y="483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35280" y="4467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44704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82920" y="5715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48440" y="57308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80400" y="5951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65520" y="5951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76440" y="593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57600" y="5937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55800" y="5486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77560" y="5664240"/>
            <a:ext cx="54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코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30560" y="5715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95720" y="5730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28760" y="5951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13160" y="5951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593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05240" y="5937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65600" y="5715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31480" y="5730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63080" y="5951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48200" y="5951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59120" y="593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40280" y="5937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00640" y="5715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66520" y="573084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398120" y="5951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83240" y="5951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94160" y="593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75320" y="5937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22720" y="5715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88600" y="57308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020920" y="5951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05320" y="5951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16600" y="5937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97400" y="5937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71640" y="55688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0344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3848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95960" y="5562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0360" y="50493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74920" y="506376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변경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39040" y="4029120"/>
            <a:ext cx="4280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총투여일수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실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일 투여량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투여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31240" y="5168160"/>
            <a:ext cx="428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591880" y="5549400"/>
            <a:ext cx="42804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가감등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1741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88364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4556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9542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26160" y="34574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95280" y="34732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C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24360" y="36939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08760" y="36939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20040" y="3679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96160" y="36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179840" y="2610000"/>
            <a:ext cx="127980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장애인 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대불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본인부담상한액초과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본인 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요양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974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9032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49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0800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913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642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15160" y="2113560"/>
            <a:ext cx="306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구분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제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674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902280" y="1447920"/>
            <a:ext cx="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16800" y="28065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693480" y="281304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14280" y="3033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99400" y="3033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10320" y="3019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91480" y="301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616800" y="23590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710400" y="2374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614280" y="25956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66280" y="25956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610320" y="2581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91480" y="2581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89680" y="324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1447920"/>
            <a:ext cx="635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KMI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8264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775160" y="27590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680840" y="2979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6524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2965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4940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952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80256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523200" y="23623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00240" y="23781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20320" y="2598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05440" y="2598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16720" y="2584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97520" y="258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23200" y="1924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578640" y="19400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21040" y="2160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10480" y="216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2146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97520" y="214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24640" y="3035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16800" y="30510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522840" y="327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07240" y="327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518160" y="32576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91400" y="325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464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4064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380360" y="1895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46240" y="191124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377840" y="2131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62960" y="2131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373880" y="2117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655040" y="211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24760" y="24750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3003480" y="1447920"/>
            <a:ext cx="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24120" y="24987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00800" y="2514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721600" y="273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03480" y="274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717640" y="2720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98800" y="2720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24120" y="2060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70200" y="20764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741400" y="2297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81160" y="2297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17640" y="2282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998800" y="228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98800" y="292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11280" y="230940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발생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11280" y="42001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35280" y="3308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0880" y="33242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33480" y="3544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17880" y="3544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28800" y="3530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09960" y="3530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995560" y="313056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95680" y="31305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44760" y="3321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20360" y="3336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42960" y="355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627360" y="355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338640" y="3543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19440" y="3543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006720" y="374940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763720" y="4394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840760" y="4410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761200" y="463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43080" y="4641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57600" y="4616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30480" y="461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63720" y="39560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09800" y="39718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780280" y="419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53800" y="41925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757600" y="41781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30480" y="417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033720" y="483552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782800" y="5035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57680" y="50515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8100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6540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776680" y="5257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5748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30440" y="5035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06760" y="50515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2864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1304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24320" y="5257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70512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033720" y="4921200"/>
            <a:ext cx="66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00440" y="4921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55000" y="553356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19640" y="5257800"/>
            <a:ext cx="90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33960" y="5037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311000" y="5052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31440" y="527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13320" y="528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227480" y="525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08640" y="525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233960" y="4599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280040" y="46148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250160" y="4835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63280" y="48355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27480" y="4821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08640" y="482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4503600" y="5478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253040" y="5678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2792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50160" y="591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3564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46560" y="590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2772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900680" y="5678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97556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98520" y="5915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8328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94200" y="590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7536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03600" y="556416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70320" y="55641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794840" y="46857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980520" y="55929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4T11:14:57Z</cp:lastPrinted>
  <dcterms:modified xsi:type="dcterms:W3CDTF">2007-05-21T08:07:23Z</dcterms:modified>
  <cp:revision>58</cp:revision>
  <dc:subject/>
  <dc:title>슬라이드 제목 없음</dc:title>
</cp:coreProperties>
</file>