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1AF2-D6C5-4B71-BD1A-1BFD5F53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46F-F22D-4006-B244-CECD4A82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495-5B25-4AA6-9A7F-22A8F416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806-71B5-4BAA-9C23-888DCFC6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5CE-E4D9-4040-A732-AD7D09A0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9D5-23CA-4387-8BF0-9A89E73E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586-6565-4E09-81E6-0D91442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A3F-61C1-4F6C-BC1E-AED47FF2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91B-BBE6-424E-9074-861B7BE8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5AC-482D-46A3-ACB4-421F3E1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46C4-16B0-4834-89E0-B08A71F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2280-CAD6-4ACD-8304-83C68C16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6A3AD6-D322-4E02-A0ED-AF635CDF21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73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8912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09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09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895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1895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82640" y="16635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7360" y="16794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80120" y="1900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5240" y="1900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1886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49400" y="1886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3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23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99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23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940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92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95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25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944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23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8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92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1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58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9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4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78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356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440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040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0" y="318132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688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1168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4472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150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12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0716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56240" y="3619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21400" y="3635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54440" y="3855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38840" y="38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49760" y="3841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0920" y="384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92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229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676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044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55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1648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97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130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060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4400" y="2759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6808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6448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3736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56440" y="16732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18440" y="16891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65080" y="165420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10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4640" y="1925280"/>
            <a:ext cx="428040" cy="17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21920" y="3022560"/>
            <a:ext cx="54972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기관 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05560" y="3120120"/>
            <a:ext cx="42804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74440" y="3071520"/>
            <a:ext cx="428040" cy="13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21480" y="32526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2080" y="3057120"/>
            <a:ext cx="428040" cy="1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3200" y="1913400"/>
            <a:ext cx="42804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약국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1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400" y="25704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7339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354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9280" y="2759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3332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80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18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3052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560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09400" y="2759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34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78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2912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020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905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3536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9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3356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1796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2924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212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43580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09600" y="16984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3328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1840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2968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0256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058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036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38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37680" y="1457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04320" y="16923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65960" y="170820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12960" y="16732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668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83360" y="2971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38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8928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8136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668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0028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424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5904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8136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8288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7632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6040" y="3778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10000" y="37940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22880" y="4014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9864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956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9072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86040" y="3578400"/>
            <a:ext cx="58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6800" y="37688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72680" y="37846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14360" y="4005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89040" y="4005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399096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81120" y="3990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67080" y="3578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26128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33400" y="42084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용기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79520" y="4028040"/>
            <a:ext cx="30636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 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1960" y="45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9000" y="45626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9440" y="4782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84560" y="47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6892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76640" y="4768920"/>
            <a:ext cx="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1960" y="410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95560" y="4124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08800" y="434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2640" y="434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33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76640" y="433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1960" y="3978360"/>
            <a:ext cx="0" cy="1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260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0000" y="56149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8972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7484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86120" y="5821200"/>
            <a:ext cx="6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6692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2600" y="5160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5840" y="5176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00160" y="5397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83760" y="53974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86120" y="53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66920" y="53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610000" y="5719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37000" y="457164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116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7040" y="56149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2800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376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14680" y="582120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9584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59080" y="5599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53400" y="5614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66280" y="583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41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52960" y="582120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33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7080" y="559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92040" y="5614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14640" y="583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89680" y="5835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5821200"/>
            <a:ext cx="71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81760" y="582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5000" y="5594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30320" y="5610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2560" y="5830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27600" y="5830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9680" y="581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05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47560" y="29718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680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31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640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52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705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64120" y="2533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7808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91560" y="275436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40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52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19264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40160" y="34005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79880" y="3778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74200" y="3794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87440" y="4014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62480" y="4014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73760" y="4000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54560" y="4000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26000" y="2546280"/>
            <a:ext cx="30636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증상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991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53160" y="27558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15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8176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659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9403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02400" y="2962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05400" y="2739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60480" y="275580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196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8800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7216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5469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086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4856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02920" y="27558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6584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3152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1532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88976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5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19760" y="30888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투약일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37520" y="2978280"/>
            <a:ext cx="306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투약일수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950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84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03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876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90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4872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108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86160" y="16732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4764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1368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9784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82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6824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0960" y="5821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92080" y="479268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280" y="49928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81160" y="1447920"/>
            <a:ext cx="727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992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1081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42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62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081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23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03480" y="2871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26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270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782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223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034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97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673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72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923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844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097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939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072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304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032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844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828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70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917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45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796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909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17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129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26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906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68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881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32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653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906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367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881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519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845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653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890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00360" y="5548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73800" y="55641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79748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8296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3880" y="5764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66760" y="5770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063880" y="532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65320" y="5410080"/>
            <a:ext cx="37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56760" y="3625560"/>
            <a:ext cx="5497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4479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2320" y="5580000"/>
            <a:ext cx="4280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7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466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429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273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115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147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01880" y="55450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4480" y="556092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99360" y="5781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84480" y="5781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68640" y="5767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5936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33520" y="5573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756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4196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2612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87920" y="55576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61720" y="5573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8612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052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5468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55483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47120" y="55641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70800" y="5784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5920" y="5784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83600" y="49759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30800" y="5557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32680" y="55738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28640" y="5794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13400" y="5794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597560" y="578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433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252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8720" y="54198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42080" y="541332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7760" y="4082040"/>
            <a:ext cx="67140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약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약량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280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조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19960" y="27306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4040" y="27464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37240" y="296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02560" y="296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86720" y="295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7689960" y="143784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423200" y="2952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06160" y="27558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800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034400" y="29764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1820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6993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5468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25440" y="3111840"/>
            <a:ext cx="7930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65920" y="16574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0640" y="167328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82120" y="1893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8520" y="18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32680" y="1879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969160" y="18795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16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03080" y="202212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448840" y="144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29600" y="167940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91600" y="169560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238240" y="1660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32160" y="5765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68360" y="5767560"/>
            <a:ext cx="38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38120" y="1333440"/>
            <a:ext cx="57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77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5868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068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676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81160" y="14479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58840" y="76212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PM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226120" y="2955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84080" y="29718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23600" y="3192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08720" y="3192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19640" y="317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500800" y="3178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26120" y="2517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91280" y="25336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23960" y="2754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94320" y="2754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2739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00800" y="2739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48640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504040" y="3244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235480" y="3632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1000" y="3648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33680" y="386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18080" y="386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29360" y="3854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10160" y="3854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97528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30360" y="169848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727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578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420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452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796000" y="2955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265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86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62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324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65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9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6044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86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3184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0304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96000" y="22971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6044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6044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51600" y="22852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3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9692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7252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9512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7952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9080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7160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57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857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06760" y="3321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8200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0460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89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0028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81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26836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2572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02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23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05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1924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92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2572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2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1544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1924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92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228924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4480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1932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42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327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3832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19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9244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76840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90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75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8596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967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95360" y="4921200"/>
            <a:ext cx="66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62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664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0036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14680" y="50371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9208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1216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9404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820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8936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14680" y="4599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6076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3124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74400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50820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8936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78468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3376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0900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53124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636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2728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80844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81400" y="56786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5664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7960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6400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75280" y="5900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5608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8468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5140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7556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7708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cp:keywords/>
  <dc:language>en-US</dc:language>
  <cp:lastModifiedBy>SEC</cp:lastModifiedBy>
  <cp:lastPrinted>2001-07-04T11:21:17Z</cp:lastPrinted>
  <dcterms:modified xsi:type="dcterms:W3CDTF">2007-06-19T06:32:11Z</dcterms:modified>
  <cp:revision>107</cp:revision>
  <dc:subject/>
  <dc:title>슬라이드 제목 없음</dc:title>
</cp:coreProperties>
</file>