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6A6-5AB6-432D-83B0-511BFAD0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0A2-2275-4189-BFB6-C7CB4C94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35E-EE14-4D61-8D0B-BF8A64C6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C56-95AB-44A7-87EF-3C0C0019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725-D875-4D19-BBFF-94CE8BD3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BBA-4E4E-4A7D-8001-D16993F4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60C-4B69-4843-A914-15B4F890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CA7-E1FE-448E-9B6D-D179EBAA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4BB-3733-4605-904C-AF413AE4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4E06-677C-4EC7-BCB1-DA8CE37E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95C5-A857-4317-ADF3-A7554A4C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557-9F6F-43D7-9868-B214D229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E9B376-A563-4C5A-A0AE-E44C8EE088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67464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8320" y="866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81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0800" y="1833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3120" y="205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38240" y="205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9120" y="1506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9160" y="2039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3280" y="4429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280" y="57243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17720" y="158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15920" y="1582560"/>
            <a:ext cx="718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56120" y="2881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39280" y="2897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53240" y="311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38360" y="3117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49640" y="3103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2520" y="310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92200" y="2070000"/>
            <a:ext cx="30636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요양급여비용 심사결과통보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2042280"/>
            <a:ext cx="3063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심사차수</a:t>
            </a: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15920" y="203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48880" y="2890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3120" y="3111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386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952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2240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3536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1640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6560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31120" y="2890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344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482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5912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4028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0165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2874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2240" y="2890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5420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3860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9880" y="3097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068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6069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9320" y="2792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77200" y="28083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2500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73600" y="302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22840" y="3014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5200" y="3014640"/>
            <a:ext cx="0" cy="62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29320" y="2354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94120" y="2370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26800" y="2590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41000" y="25909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22840" y="2576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75200" y="25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892840" y="1582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6240" y="3411360"/>
            <a:ext cx="3063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9960" y="337356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00720" y="3351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1817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29200" y="1833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2320" y="205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7440" y="205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68360" y="2039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41600" y="203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4480" y="1582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052640" y="2588400"/>
            <a:ext cx="30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35320" y="332424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지원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0320" y="1125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23524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36800" y="287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9880" y="2894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4280" y="31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19400" y="31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0320" y="3100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3560" y="3100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2720" y="33498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통보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08680" y="3038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46760" y="2874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12280" y="2890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44600" y="3111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29360" y="31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40280" y="3097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2144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197320" y="158220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91120" y="33512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49520" y="46339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73760" y="3424320"/>
            <a:ext cx="222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3760" y="36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86920" y="36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01240" y="38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86360" y="38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97640" y="3865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70520" y="386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8880" y="4078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7480" y="4094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04560" y="4319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3800" y="4314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2400" y="4300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08880" y="36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4040" y="3656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16440" y="3876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05880" y="3876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2400" y="38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92920" y="38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88240" y="4324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70960" y="4297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6240" y="4672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20960" y="46879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64080" y="4908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48840" y="490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9760" y="4894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32640" y="489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52840" y="3304440"/>
            <a:ext cx="306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68960" y="2727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77400" y="400968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종별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묶음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5320" y="3840840"/>
            <a:ext cx="54972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당담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98000" y="5106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전화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34320" y="17953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96320" y="18111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2960" y="17762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10520" y="157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36360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32680" y="36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98200" y="36622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30520" y="38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15280" y="38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26200" y="38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07000" y="38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51204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7040" y="41227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61240" y="3665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27120" y="36813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720" y="3902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43840" y="3902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4760" y="388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35920" y="388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140600" y="343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5600" y="414180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778880" y="342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45480" y="2906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7480" y="2922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54120" y="2887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102520" y="3195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62760" y="40035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 구분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8040" y="198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54280" y="2004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5520" y="222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70640" y="2225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81920" y="2211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362720" y="2211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2760" y="246528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338960" y="157968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20480" y="21902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0960" y="45194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20040" y="4664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75480" y="4680000"/>
            <a:ext cx="533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17880" y="4900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02640" y="49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13560" y="4886280"/>
            <a:ext cx="6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86800" y="48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360" y="68580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280" y="16002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3280" y="2711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3280" y="3854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3280" y="4997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764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4558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52360" y="14716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9360" y="14367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21932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9360" y="6904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61120" y="331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26280" y="33321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58960" y="3552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80000" y="3552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54640" y="3538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03760" y="3538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294012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35440" y="331956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01320" y="33354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33640" y="3556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18040" y="355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29320" y="3541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10120" y="3541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6880" y="205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276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3760" y="229248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0760" y="2257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71560" y="2052720"/>
            <a:ext cx="764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48600" y="144792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82160" y="146376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157240" y="14288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24800" y="12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4456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160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4204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2392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38440" y="287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1924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4456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3816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4276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38240" y="243360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38440" y="243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1924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94880" y="2052720"/>
            <a:ext cx="39567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소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 결정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수장비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54640" y="3526200"/>
            <a:ext cx="1036440" cy="22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처방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3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이상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재진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2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 가산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분 투약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초진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01960" y="3181320"/>
            <a:ext cx="420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42120" y="3704400"/>
            <a:ext cx="30636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14560" y="30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17920" y="318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44560" y="3311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11160" y="3327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42040" y="3548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27160" y="3548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38440" y="3533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9240" y="353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47920" y="3327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13800" y="3343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45400" y="3564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30520" y="356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41440" y="3549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22600" y="3549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4800" y="2564280"/>
            <a:ext cx="54972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9120" y="3706560"/>
            <a:ext cx="79308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정률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 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형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00640" y="3709800"/>
            <a:ext cx="42804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93760" y="29145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98160" y="2917800"/>
            <a:ext cx="24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023920" y="20541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58000" y="3746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35400" y="3762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55480" y="3983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40600" y="3983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51520" y="3968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32680" y="3968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5800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51600" y="3324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584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7720" y="3544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5152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3268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64120" y="48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40800" y="4871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61600" y="50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46720" y="50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58000" y="507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38800" y="507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64120" y="44179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57720" y="4433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61600" y="4654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42040" y="4654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58000" y="464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38800" y="464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34120" y="4192560"/>
            <a:ext cx="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86440" y="5508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52320" y="5524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3920" y="5745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269040" y="5745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79960" y="5730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261120" y="573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6160" y="5518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91680" y="5533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4360" y="5754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8760" y="575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0040" y="5740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00840" y="5740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10320" y="3912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00600" y="47959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3800" y="47228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0120" y="5516640"/>
            <a:ext cx="914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관련근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 세부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47720" y="5464080"/>
            <a:ext cx="2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34120" y="5299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38800" y="538020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96160" y="53722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43240" y="3324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09120" y="33400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40720" y="3560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80120" y="35607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37120" y="3546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7920" y="354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8480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13360" y="318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99080" y="316692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08560" y="3171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8320" y="317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38320" y="3330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04200" y="3346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365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92840" y="35672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32200" y="3552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130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17440" y="3728880"/>
            <a:ext cx="5497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명일련 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특정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담당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15200" y="2457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81440" y="24732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12680" y="269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97800" y="2693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08720" y="2679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89880" y="2679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56200" y="2933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7566120" y="2048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14920" y="3191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44920" y="3330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610800" y="33465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43120" y="3567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27520" y="3567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38440" y="3552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19600" y="3552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65520" y="3660480"/>
            <a:ext cx="30636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상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주증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45360" y="22654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78920" y="2281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54000" y="2246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521560" y="20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46680" y="205272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68880" y="1916280"/>
            <a:ext cx="30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859280" y="3017880"/>
          <a:ext cx="150840" cy="20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178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971960" y="3017880"/>
          <a:ext cx="150840" cy="206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1960" y="30178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823000" y="5942160"/>
          <a:ext cx="150840" cy="206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23000" y="594216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8088480" y="6137280"/>
          <a:ext cx="150480" cy="20628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88480" y="6137280"/>
                    <a:ext cx="15048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8177040" y="610560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사용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84720" y="2076480"/>
            <a:ext cx="57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61200" y="5521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27080" y="553716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58680" y="575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43800" y="575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254720" y="574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535880" y="574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80360" y="59918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89760" y="5516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956000" y="5532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87240" y="5753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72360" y="5753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83640" y="5738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64440" y="5738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64480" y="2963880"/>
            <a:ext cx="67140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인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인정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29400" y="5361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5080" y="5356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77800" y="243648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330880" y="5950080"/>
          <a:ext cx="150840" cy="206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0880" y="5950080"/>
                    <a:ext cx="150840" cy="20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1447920"/>
            <a:ext cx="699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26240" y="272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920" y="2736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23720" y="2957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08840" y="2957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19760" y="2943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000920" y="294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26240" y="2282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81680" y="2298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24440" y="2519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948360" y="25192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719760" y="2505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0092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99120" y="3168720"/>
            <a:ext cx="0" cy="33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013520" y="46069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0716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236080" y="460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64160" y="39794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65960" y="253512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15160" y="5222160"/>
            <a:ext cx="306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탁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59200" y="5114160"/>
            <a:ext cx="549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 직접지급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014320" y="5253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리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18320" y="481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82760" y="4832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15800" y="505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0920" y="505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11840" y="503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85080" y="503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46880" y="4822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20320" y="48387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37880" y="5059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29480" y="5059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40760" y="5045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07160" y="504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956720" y="4826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44200" y="4842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54560" y="5062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238960" y="5062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950240" y="5048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223120" y="504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27680" y="3949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05440" y="39654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725160" y="4186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010280" y="4186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21560" y="4172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002360" y="4172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27680" y="3511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83120" y="3527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25160" y="3747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925680" y="37479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721560" y="3733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0236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005600" y="4387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03920" y="2301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66920" y="2317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01400" y="2538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83280" y="2538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7440" y="2523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75360" y="2523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86560" y="2282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52440" y="22986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84040" y="2519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69160" y="2519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480440" y="2505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61240" y="2505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84520" y="3402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50400" y="34178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96400" y="3638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767120" y="3638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78400" y="3624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45160" y="3624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761000" y="325296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30880" y="3763440"/>
            <a:ext cx="67140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정금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64240" y="315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86320" y="2724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563000" y="27399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83800" y="2960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65680" y="2971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79840" y="2946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61000" y="294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86320" y="2286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9920" y="23018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84160" y="2522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26080" y="2522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79840" y="250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61000" y="2508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9720" y="2412720"/>
            <a:ext cx="54972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불능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감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78620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292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0024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0643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0254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1520" y="2308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60706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99768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75980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0716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08720" y="21650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249880" y="3419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15760" y="34354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47360" y="3656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532480" y="3656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43400" y="364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524560" y="364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59320" y="39006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94680" y="2265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27880" y="22813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203320" y="2246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475840" y="204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14840" y="3259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212920" y="204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9800" y="27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6480" y="27352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7280" y="29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192400" y="29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3320" y="2941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84480" y="2941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09800" y="2281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0340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07280" y="2517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78000" y="251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3320" y="250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18448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14480" y="3440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3456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L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1196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97080" y="3676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0800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74880" y="32907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95520" y="344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61040" y="3456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07400" y="3676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30960" y="36766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89040" y="366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55800" y="366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71880" y="3435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37760" y="3451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69360" y="3672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54480" y="3672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6540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4656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32160" y="3282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97080" y="3284640"/>
            <a:ext cx="112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74520" y="3617640"/>
            <a:ext cx="549720" cy="15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추가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 환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67600" y="34257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건수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179800" y="3152880"/>
            <a:ext cx="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32360" y="3740760"/>
            <a:ext cx="1401480" cy="17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사결정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위탁검사직접지급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험자 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금 합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05520" y="2302920"/>
            <a:ext cx="428040" cy="13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심결사항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합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81320" y="244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47560" y="2463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78800" y="2684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63920" y="268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74840" y="267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56000" y="267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325680" y="2924280"/>
            <a:ext cx="306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432240" y="203832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94640" y="282384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262160" y="204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22795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52640" y="22953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13400" y="22604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62160" y="2052720"/>
            <a:ext cx="720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996840" y="166356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58760" y="167940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1988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95280" y="1447920"/>
            <a:ext cx="69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R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81280" y="487692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05320" y="51055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581280" y="5105520"/>
            <a:ext cx="1676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4613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82000" y="2371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259040" y="2387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79120" y="2608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464600" y="2608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175520" y="2593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56320" y="2593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182000" y="19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237440" y="19494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79840" y="2170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69280" y="217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75520" y="2155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456320" y="215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83440" y="3044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275600" y="30607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181640" y="3281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466040" y="3281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76960" y="3267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50200" y="3267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628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25660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996320" y="190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62200" y="19209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93800" y="2141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278920" y="214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989840" y="212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271000" y="212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783560" y="2484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643800" y="1452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383160" y="1909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49400" y="19256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380640" y="2146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65760" y="2146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77040" y="213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57840" y="213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92960" y="2331720"/>
            <a:ext cx="3063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78400" y="3405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44280" y="34210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89920" y="364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61000" y="3641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71920" y="3627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738680" y="362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65680" y="327816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153040" y="3422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18560" y="343836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151240" y="36590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35640" y="3659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46560" y="364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27720" y="364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413320" y="3270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80760" y="3762720"/>
            <a:ext cx="42804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찰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감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02720" y="3790080"/>
            <a:ext cx="79308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조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약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사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근무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진찰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차등지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6568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84520" y="2727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62280" y="2743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82000" y="2963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4240" y="2975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78400" y="2949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59200" y="294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84520" y="2289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78480" y="2305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82720" y="252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24280" y="252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78400" y="2511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59200" y="251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78476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2560" y="27111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668680" y="314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745720" y="3162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666160" y="338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48040" y="3394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662200" y="336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943360" y="336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668680" y="270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714760" y="272412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68488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889720" y="294480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2200" y="293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43360" y="293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943360" y="358452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398680" y="398268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588560" y="5442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비고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79840" y="38037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55080" y="3819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76960" y="4040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62440" y="4040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673360" y="4025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54160" y="4025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959200" y="42447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08280" y="4889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86040" y="49053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05760" y="5126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987640" y="5137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701800" y="5111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82960" y="5111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08280" y="4451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54360" y="44672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724840" y="4687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05920" y="4687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701800" y="4673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982960" y="4673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90760" y="49352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986200" y="533052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727360" y="5530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02960" y="55468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72520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0996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2088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0204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375000" y="5530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50240" y="55468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7320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5760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36852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64968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79720" y="5416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45000" y="54165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90760" y="5526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정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37040" y="5530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12280" y="5546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035240" y="5767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319640" y="576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30560" y="5753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11720" y="5753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307040" y="54165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81360" y="2708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958040" y="2724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8480" y="2944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294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74880" y="293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81360" y="227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36800" y="228600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879200" y="2506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79360" y="2506680"/>
            <a:ext cx="466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874880" y="2492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155680" y="2492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19280" y="25221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210120" y="3050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2133720" y="206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43240" y="249552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2924280" y="24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438360" y="2273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03880" y="228924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435840" y="250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720960" y="2509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32240" y="2495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3040" y="249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711600" y="205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65440" y="27079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151000" y="292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308240" y="20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009800" y="22924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071720" y="230832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32480" y="22734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384880" y="2295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50400" y="2311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82720" y="2532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667480" y="253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78400" y="2517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659560" y="2517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29240" y="2771640"/>
            <a:ext cx="306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500800" y="27680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참조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651640" y="2060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298520" y="2060640"/>
            <a:ext cx="434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5T00:19:08Z</cp:lastPrinted>
  <dcterms:modified xsi:type="dcterms:W3CDTF">2007-06-05T01:27:57Z</dcterms:modified>
  <cp:revision>163</cp:revision>
  <dc:subject/>
  <dc:title>슬라이드 제목 없음</dc:title>
</cp:coreProperties>
</file>