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611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432-FB0C-440B-BFA5-A42AE44E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EC1-03B9-4AD5-B5D2-3B3386A8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14B-648C-4760-9325-CAFA6DB4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2FB6-49CE-4868-9412-FD48CC26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FCCD-3E30-4C36-9FA0-F9ED2E9D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0AB-B363-4756-ADC0-9482F04B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6E3-D598-4DC9-B940-CF4003F8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58D-F13F-4169-B918-67355448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290-45B8-472B-9631-638E9554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B566-8F9D-4871-B4B8-CEA1640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87D-2FD8-4B67-B4A1-D415C87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51F-E11C-465E-A872-9BD56D38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5C8FC0-15B3-4D50-8967-76B7419772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592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4484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28000" y="2762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4304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2744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836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1160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256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185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220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08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92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105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7051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9248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58360" y="27748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9068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7508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8636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716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434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4012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6360" y="2774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832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272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00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1480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991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97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66800" y="2682720"/>
            <a:ext cx="401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700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289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832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3564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897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45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660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2720" y="2455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32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56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36264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720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84840" y="32353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444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920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41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27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8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1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14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32228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56280" y="350820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40520" y="35244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77520" y="3754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6520" y="37450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49800" y="3730680"/>
            <a:ext cx="570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43560" y="3736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68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988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392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90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03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732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62640" y="3751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6912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7200" y="2759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72720" y="2774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05040" y="2995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8944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00720" y="2981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8152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57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51560" y="32353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32424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92760" y="351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5640" y="3527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024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75360" y="374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6640" y="3733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5952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53400" y="33242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31840" y="1832400"/>
            <a:ext cx="306360" cy="26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지급차수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통보차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1040" y="1979640"/>
            <a:ext cx="30636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지급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64400" y="317556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급의뢰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12040" y="313956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지급기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6320" y="313020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자 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9800" y="1703520"/>
            <a:ext cx="30636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자문서 구조상 필수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62640" y="39434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49400" y="39783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77760" y="4184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69120" y="41799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56520" y="416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62640" y="3505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27800" y="3521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70560" y="3741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0560" y="37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56520" y="3727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08880" y="3727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2360" y="418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33242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24720" y="416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62640" y="5006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49400" y="50418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760" y="5248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69120" y="524340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56520" y="5229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62640" y="4568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27800" y="458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70560" y="4805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40560" y="4805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6520" y="4791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08880" y="479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2360" y="5253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438768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24720" y="522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3800" y="5626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49400" y="56419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00440" y="5862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0" y="5862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67680" y="5848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8480" y="58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32280" y="3892320"/>
            <a:ext cx="5497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31520" y="395604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년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88400" y="16686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50320" y="168444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20800" y="16495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6920" y="146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83360" y="353052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45280" y="354636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16120" y="35114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3324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54482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34320" y="39556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위탁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320" y="257040"/>
            <a:ext cx="30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73320" y="133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15685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49280" y="15843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96280" y="15494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76200" y="133344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52520" y="3390840"/>
            <a:ext cx="651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52520" y="340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95480" y="3625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57480" y="36417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04120" y="3606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82800" y="4394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59840" y="4410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8028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65400" y="463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76320" y="4616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5748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82800" y="3956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76400" y="3971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8964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51000" y="41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76320" y="417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5748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176560" y="338148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52800" y="48387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82800" y="521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67760" y="5232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81000" y="5452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65400" y="545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76320" y="543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57480" y="543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7080" y="3829320"/>
            <a:ext cx="428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입원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외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66712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57480" y="5005440"/>
            <a:ext cx="61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02000" y="5221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67520" y="5237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18920" y="545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84600" y="545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5520" y="544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76680" y="544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4240" y="3606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9920" y="3622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0800" y="38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36840" y="38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2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28920" y="38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66960" y="50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09840" y="338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01680" y="5176080"/>
            <a:ext cx="54972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81320" y="40219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59520" y="4384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6840" y="4400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56640" y="4621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42120" y="4621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3040" y="460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3384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59520" y="3946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34040" y="3962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6160" y="4183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27720" y="4183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53040" y="416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33840" y="416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33840" y="33908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3880" y="5657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41200" y="56736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1360" y="5894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56480" y="5894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67400" y="5880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48560" y="588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3880" y="521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48400" y="523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00520" y="5456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66840" y="54468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67400" y="5442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48560" y="544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77000" y="588168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12160" y="5659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87400" y="5675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28360" y="5896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94400" y="589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05680" y="5881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86480" y="58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50080" y="56595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34680" y="5675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66640" y="5896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32680" y="589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43960" y="588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24760" y="58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88080" y="521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72680" y="5235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04640" y="545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70680" y="545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81600" y="5442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62760" y="5442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9480" y="4842360"/>
            <a:ext cx="30636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4200" y="529668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31840" y="5282640"/>
            <a:ext cx="428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미지급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합 직접 진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810760" y="5581080"/>
            <a:ext cx="4280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88080" y="3625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76280" y="3641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05360" y="3862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70680" y="3862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81960" y="3848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854840" y="3848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858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969320" y="15541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31240" y="15699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001720" y="1535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67840" y="134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69920" y="3947400"/>
            <a:ext cx="54972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급분증 미지급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합직접 진료비 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43520" y="40878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38880" y="4829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59520" y="52102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244480" y="52261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56640" y="544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42120" y="544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53040" y="543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3840" y="543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33840" y="4981680"/>
            <a:ext cx="12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43680" y="499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239440" y="5579280"/>
            <a:ext cx="42804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 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24800" y="498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4080" y="360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49040" y="3616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61200" y="383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46680" y="383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382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38760" y="382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5448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20000" y="3632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7104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3708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4800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2916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19440" y="340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99080" y="3948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번차수 지급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55480" y="3940920"/>
            <a:ext cx="549720" cy="13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 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번차수 지급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국고단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24360" y="338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1447920"/>
            <a:ext cx="707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691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45840" y="2682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8392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626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691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339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7600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3736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626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150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24204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24852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30880" y="287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6124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48720" y="3346560"/>
            <a:ext cx="384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A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4348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5476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2764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30880" y="3095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3920" y="33433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88520" y="3359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21200" y="3579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86520" y="3579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97800" y="3565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78600" y="3565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30880" y="320976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73480" y="3560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77960" y="1668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656800" y="1684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94520" y="19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60560" y="1905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71840" y="1890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44720" y="18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62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9040" y="1668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256880" y="1684440"/>
            <a:ext cx="334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I 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85600" y="19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51640" y="1905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62920" y="1890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35800" y="18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534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25887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총괄내역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12360" y="3534120"/>
            <a:ext cx="42804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과세표준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득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민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소득세 원천징수내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96640" y="3522240"/>
            <a:ext cx="7930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타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타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사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전대체부담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채권압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과지급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미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미지급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급보류 또는 차감내역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09920" y="411480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06680" y="446256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85960" y="20523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1796040"/>
            <a:ext cx="306360" cy="24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급의뢰 금융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은행명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좌번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73920" y="320976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91080" y="1971720"/>
            <a:ext cx="67140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지급분중 미지급 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번차수  지급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외래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 입원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87800" y="1676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73480" y="1692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4720" y="1913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70400" y="191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81320" y="189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62480" y="189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9400" y="1915920"/>
            <a:ext cx="140148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 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번차수 지급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국고단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외래 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입원 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외래 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입원 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외래 요양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 입원 요양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32160" y="2022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969320" y="16542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031240" y="167004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01720" y="16351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67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97280" y="1676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2240" y="16923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14560" y="1913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79880" y="191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90800" y="189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71960" y="189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06760" y="1676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91720" y="1692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24040" y="1913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89720" y="19130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00640" y="1898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81440" y="189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574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482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38280" y="2655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15680" y="2681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53040" y="2897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31800" y="287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38280" y="2217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03440" y="2233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45840" y="2454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49600" y="245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31800" y="244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84520" y="244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17640" y="290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00360" y="2874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530360" y="3481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618200" y="3497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6920" y="3718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12960" y="3718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703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797120" y="3703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178000" y="3484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62600" y="3500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94560" y="3720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460600" y="3720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1880" y="3706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52680" y="37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22040" y="2259360"/>
            <a:ext cx="549720" cy="14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감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개산지급 및 개산지급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91200" y="388080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개산지급 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35960" y="3783600"/>
            <a:ext cx="42804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미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차 지급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차 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78596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05040" y="30956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800360" y="3247920"/>
            <a:ext cx="61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0984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 flipV="1">
            <a:off x="27874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521080" y="2749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86960" y="276552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38000" y="2986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03680" y="29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51460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9576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449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82760" y="2749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86800" y="2765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00040" y="2986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65360" y="29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7664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5744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152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48840" y="26827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9628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7504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8152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4632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908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4972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7504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2740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1544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6088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43240" y="287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7360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1080" y="3346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5620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6712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4036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43240" y="3095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5840" y="3560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16280" y="1677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695120" y="169380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32840" y="1914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98880" y="191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10160" y="190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83040" y="190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0068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90760" y="31744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52840" y="2622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1447920"/>
            <a:ext cx="359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78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11240" y="2749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77120" y="27655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27800" y="2986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93840" y="2986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5120" y="2971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8592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03400" y="308160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번차수 실지급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Administrator</cp:lastModifiedBy>
  <cp:lastPrinted>2001-07-05T00:27:11Z</cp:lastPrinted>
  <dcterms:modified xsi:type="dcterms:W3CDTF">2002-07-10T09:30:51Z</dcterms:modified>
  <cp:revision>76</cp:revision>
  <dc:subject/>
  <dc:title>슬라이드 제목 없음</dc:title>
</cp:coreProperties>
</file>