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2A5-03EC-4958-AB69-38BDC7A0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5DF-3BCC-432D-8F9C-1851CC80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579E-3CE9-4468-9530-1A399C52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D0D-85BA-4E86-88E7-03359A2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F0F8-E980-4E5D-8BD7-611A696E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6A7-01B5-425E-9AAB-16F3DE8F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68E-E6C5-4405-84B6-3D0DA4E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A04-625D-4C5B-B0F2-44BDFC1A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7F6-E4D5-45FA-9DDC-A18F95BC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EB7-0704-4DBF-A039-5E04525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2B2-0EA7-4EA2-8DDC-F6A1A44B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CF9-767A-49BB-840B-D430ADF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E61D35-8B7E-4D37-B7B3-40145CB895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605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4382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935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702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52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687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8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7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605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8624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56200" y="32288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444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9920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41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27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383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1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14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2228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68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988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392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890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03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732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22720" y="3139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28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156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208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649840" y="143784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6520" y="383508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99280" y="16588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261280" y="16747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07920" y="16398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47584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0040" y="145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9760" y="190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15640" y="1924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7240" y="214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213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4440" y="213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59200" y="233028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17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200" y="19922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7200" y="20080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3840" y="1973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2000" y="176220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4556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7876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420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2176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04760" y="1733400"/>
            <a:ext cx="26182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336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54520" y="3786480"/>
            <a:ext cx="14014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본인부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5812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7072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578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1200" y="23605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0200" y="20750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670800" y="620712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70800" y="62071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8317080" y="6372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7080" y="6372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55840" y="3473280"/>
            <a:ext cx="420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66080" y="19764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099280" y="199224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74720" y="1957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42280" y="175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1476360" y="1773360"/>
            <a:ext cx="0" cy="72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5440" y="280944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84920" y="3879000"/>
            <a:ext cx="67140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2363760" y="4802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3760" y="4802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237280" y="2884320"/>
          <a:ext cx="150840" cy="2066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7280" y="28843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685440" y="389952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0956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2960" y="2195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77360" y="218916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41720" y="230652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41720" y="230652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3260880" y="2306520"/>
          <a:ext cx="15048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60880" y="2306520"/>
                    <a:ext cx="15048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908760" y="6140520"/>
          <a:ext cx="150840" cy="2062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08760" y="614052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3020040" y="405648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25920" y="267480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78200" y="193212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01216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4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03520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81120" y="2308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5960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9316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6824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4868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15288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940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926440" y="2744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46880" y="2965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296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43280" y="295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29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4940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30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468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1796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43280" y="2503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5444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2104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192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4796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2912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1484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3548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100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470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705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57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019400" y="3435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8564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1688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0200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13280" y="3657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940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8004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1200" y="3284640"/>
            <a:ext cx="116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5200" y="3637800"/>
            <a:ext cx="54972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67640" y="1841760"/>
            <a:ext cx="4280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3056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38120" y="3770640"/>
            <a:ext cx="164484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기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4548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6840" y="2730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92388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4432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12944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4036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1215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4684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22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50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0689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403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215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2008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341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281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566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512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865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9357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57404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349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389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9033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364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15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324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1056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4674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4128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5884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500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4613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2812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16516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51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5992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0708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4408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486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2604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84576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3088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216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12296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84864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0408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57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462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216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1229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11504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6716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304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27904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54976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26104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2780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0216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1182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1660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98248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91408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9920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1012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9128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2928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2132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8432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1880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90068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148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9276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88808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43360" y="26744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53392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6186600" y="206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6918480" y="2076480"/>
          <a:ext cx="15048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18480" y="20764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4233960" y="51516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33960" y="5151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8272440" y="623736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8172360" y="62406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72360" y="62406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1447920"/>
            <a:ext cx="47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A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2959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0936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408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992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101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9128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0166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720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144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3038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101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9128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01804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102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162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006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0115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848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880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12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309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8968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284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135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244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056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181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784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1812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2840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52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0072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49280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3275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2060640"/>
            <a:ext cx="148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4750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408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65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576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85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352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622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496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151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471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4322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431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243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099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525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8112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5588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786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608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7500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558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811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5750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793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590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750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558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7813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30T05:10:23Z</dcterms:modified>
  <cp:revision>223</cp:revision>
  <dc:subject/>
  <dc:title>슬라이드 제목 없음</dc:title>
</cp:coreProperties>
</file>