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C02-D843-4EB7-BC72-1CF6EBE5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723-BA2B-41CF-A8FF-5F851580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369D-AF19-45B0-9778-82B669E2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458-0326-460C-883A-9EACBC2D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83F-FFA4-4BFD-A780-FF9E056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BE8-64D2-446F-9C05-E18532CD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9CD-B259-4EF1-A003-8E262C4C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3B0-4EF8-4DC0-BFD5-708AACD1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404-0307-4927-8DC3-B8166AF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68E-0421-454E-9D0B-9E40456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85C-3220-4CB1-A77A-C13C1DC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EF4B-E3F3-4773-9BE0-4EBEC7D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84DC83-4E07-41F4-A6ED-A642C2AD90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5148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12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14160" y="27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840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038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876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86040" y="1994760"/>
            <a:ext cx="306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약품 구입내역 목록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190404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29440" y="3027960"/>
            <a:ext cx="428040" cy="16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확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기관 기호 및 작성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38640" y="3074400"/>
            <a:ext cx="306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약품 구입내역 총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76520" y="3107520"/>
            <a:ext cx="3063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년월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분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7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899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45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796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63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5132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566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4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2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38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38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815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30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4928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12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56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577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3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884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472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7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1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3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81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77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476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52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103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16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2400" y="318132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77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213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59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95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216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24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94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0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8000" y="42703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844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13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0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24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916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70720" y="4052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05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99160" y="46958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30960" y="545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96840" y="547380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9160" y="569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13560" y="569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68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5640" y="568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9040" y="2963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46440" y="2979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652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1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372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9040" y="2525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264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724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3760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274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4372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3580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760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9040" y="420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34920" y="4221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62920" y="442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4372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8656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637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41160" y="2975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612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463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572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384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637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573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124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33400" y="2757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572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84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305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196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637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9640" y="42163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124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463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572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84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30222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품목구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69960" y="4529520"/>
            <a:ext cx="30636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제약회사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수입업소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98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572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732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224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145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3571920"/>
            <a:ext cx="397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0984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43360" y="4631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가중평균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9720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62720" y="421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4680" y="443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98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9072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718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6720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6440" y="4552200"/>
            <a:ext cx="7930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단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규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품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의약품 품목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25920" y="4218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3320" y="4233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23400" y="445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08520" y="4454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9800" y="4440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00600" y="44402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5920" y="3780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19520" y="3795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23400" y="4016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4840" y="40165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9800" y="4002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00600" y="400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8440" y="3517560"/>
            <a:ext cx="42804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업소 명칭 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업장 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63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30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62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46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57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8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2128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86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9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038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959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909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27360" y="4612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최초구입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53520" y="421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85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060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152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6268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5764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25920" y="4952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91440" y="4968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340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0852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19800" y="5175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0060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32480" y="540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0236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68240" y="4968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984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8496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7704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9000" y="540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4064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06160" y="4968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8120" y="5189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2324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416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532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57880" y="54208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입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8828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53800" y="4968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86120" y="5189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7088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8180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296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05640" y="4781520"/>
            <a:ext cx="260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2640" y="47815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00920" y="478152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67640" y="477216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26560" y="4952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92080" y="4968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024400" y="5189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08800" y="5189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020080" y="5175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0880" y="517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05920" y="477216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5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151840" y="5411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34440" y="5430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95280" y="1447920"/>
            <a:ext cx="364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H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1160" y="1692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32400" y="191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1788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0996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84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775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821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78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514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4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86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456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61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512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433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86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622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668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372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433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4235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372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864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416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96684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5124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6252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4332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955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2424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2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13960" y="2755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1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0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1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874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068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9940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047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89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04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73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2762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486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89440" y="2017080"/>
            <a:ext cx="3063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꼬리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62720" y="20318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03:42Z</cp:lastPrinted>
  <dcterms:modified xsi:type="dcterms:W3CDTF">2002-07-10T09:33:20Z</dcterms:modified>
  <cp:revision>44</cp:revision>
  <dc:subject/>
  <dc:title>슬라이드 제목 없음</dc:title>
</cp:coreProperties>
</file>