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D281-87C5-4926-B93E-42FB5705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F934-0F0C-431D-8C45-EC0898A1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D3DE-8455-4167-97F0-722ABFE3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12EB-F216-474F-BC4D-AB39BBCD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22E0-887A-473A-8CDF-63F0319B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7900-D47D-49F8-8DE7-1109D106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8E16-3A75-4589-9952-BF1C6935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F0F2-D4FB-4E2F-BCB2-6761E609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7B00-19D2-49A6-8D2A-EBF149B2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0EFA-488C-453D-91BC-23D42D28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8456-2C9E-4723-94C8-E44AF2DE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0FAD-D2CD-4CF7-A010-25DAD74A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43A4509-4C04-4727-8D11-1A52A81ACA2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00040"/>
            <a:ext cx="8445600" cy="609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8320" y="6922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D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25640" y="1643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588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3120" y="1879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08240" y="1879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320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19160" y="1865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3280" y="4254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554976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87360" y="140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5920" y="1398600"/>
            <a:ext cx="718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5760" y="27068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9280" y="27226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3240" y="2943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08360" y="2943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19640" y="29289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92520" y="292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62200" y="1614240"/>
            <a:ext cx="306360" cy="33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요양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의료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급여비용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이의신청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재심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심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결정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70000" y="1830600"/>
            <a:ext cx="306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심사차수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85920" y="1865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25640" y="27003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18520" y="27162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23120" y="2936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8240" y="2936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2922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92400" y="292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105000" y="14076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686040" y="14076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649840" y="14076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86240" y="3236760"/>
            <a:ext cx="30636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44480" y="1643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99200" y="16588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41960" y="1879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27080" y="1879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38360" y="1865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11240" y="1865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14480" y="140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322280" y="2413800"/>
            <a:ext cx="30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05320" y="31496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0320" y="9507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505240" y="14076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6800" y="27036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79880" y="27194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3920" y="2940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89040" y="2940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00320" y="2925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73200" y="292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72320" y="309996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문서완료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통보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80200" y="3311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45720" y="33274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78040" y="3548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62440" y="3548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76960" y="3533760"/>
            <a:ext cx="52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51640" y="3530520"/>
            <a:ext cx="0" cy="46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84880" y="39974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68040" y="40132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82360" y="4233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19960" y="423396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78400" y="4219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51640" y="4219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16720" y="3090240"/>
            <a:ext cx="4280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수신자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46280" y="4363920"/>
            <a:ext cx="9147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안내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문서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종별 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차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89920" y="162072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251920" y="163656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98560" y="16016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66120" y="14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3640" y="2797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189000"/>
            <a:ext cx="4624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76720" y="338580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41920" y="2994120"/>
            <a:ext cx="0" cy="31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67240" y="26272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63000" y="2643120"/>
            <a:ext cx="372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M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64720" y="2863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49840" y="2863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61120" y="2849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41920" y="2849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67240" y="21812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60840" y="21970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64720" y="2417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80720" y="241308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61120" y="2403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41920" y="2403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84920" y="2629080"/>
            <a:ext cx="255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65600" y="139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05320" y="1851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71200" y="186696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02800" y="2087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87920" y="2087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98840" y="2073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80000" y="2073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14760" y="227304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66160" y="284472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228160" y="286056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4800" y="28256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442360" y="2624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94480" y="3421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43080" y="343692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90160" y="3662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629400" y="36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88000" y="36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94480" y="2973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59640" y="29894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02040" y="32097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91480" y="3209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45160" y="3195720"/>
            <a:ext cx="146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78520" y="319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73840" y="3666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6560" y="3630600"/>
            <a:ext cx="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232760" y="43768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87480" y="439272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30600" y="4613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15360" y="4613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70760" y="4605480"/>
            <a:ext cx="68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99520" y="4599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11880" y="43142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담당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40720" y="4246560"/>
            <a:ext cx="3063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담당자전화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02400" y="4383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51000" y="439884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17160" y="4624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37320" y="461952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95920" y="4605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02400" y="39355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67560" y="39513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99880" y="4172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1520" y="4172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95920" y="4157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0" y="4157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81760" y="4629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64480" y="4611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11880" y="330300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01600" y="333360"/>
            <a:ext cx="8712360" cy="626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4080" y="66348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9280" y="131904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9280" y="2427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9280" y="3570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9280" y="4713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9000" y="1382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7800" y="161136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800" y="162720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86440" y="15922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2240" y="1384200"/>
            <a:ext cx="606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41720" y="66816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D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97040" y="2565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5200" y="279072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7200" y="280656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3840" y="27716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2000" y="2565360"/>
            <a:ext cx="11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38360" y="39607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15400" y="397656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35840" y="4197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17720" y="4208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31880" y="418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3040" y="418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38360" y="35132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31960" y="35290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35840" y="3749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62640" y="37432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31880" y="3735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13040" y="3735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60200" y="3916440"/>
            <a:ext cx="549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차액합계     정산심사결정차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89360" y="498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16480" y="5067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25840" y="5226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691360" y="52419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23320" y="5462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08440" y="5462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19360" y="5448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00520" y="5448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4640" y="5603760"/>
            <a:ext cx="3063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16120" y="45338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93160" y="45496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13600" y="4770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98720" y="4770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10000" y="4756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90800" y="4756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16120" y="408636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09720" y="41022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14320" y="43228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30320" y="432288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10000" y="4308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90800" y="4308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46600" y="5222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12120" y="52387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44080" y="5459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29200" y="5459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40120" y="5445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21280" y="5445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87800" y="5073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73520" y="39495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40000" y="522936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05520" y="52452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38200" y="54658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22600" y="5465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33880" y="5451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514680" y="5451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41880" y="56419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결정내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95480" y="5064120"/>
            <a:ext cx="12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908000" y="2575080"/>
            <a:ext cx="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76200" y="38592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연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08000" y="43941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38360" y="4549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03880" y="45655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36200" y="4786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20960" y="4786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31880" y="4772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13040" y="4772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18200" y="496260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관련근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125800" y="3957480"/>
            <a:ext cx="734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30640" y="4488480"/>
            <a:ext cx="30636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6087960" y="1380960"/>
            <a:ext cx="0" cy="4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08600" y="2305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85640" y="232092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06080" y="2541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1200" y="2541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802480" y="2527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83280" y="2527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808600" y="1866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64040" y="1882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06800" y="2103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5880" y="2103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02480" y="20890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83280" y="2089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10400" y="29782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902560" y="29941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08240" y="32148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3000" y="321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03920" y="3200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7680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8004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83560" y="13809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622920" y="1838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689160" y="185436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620400" y="2075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05520" y="2075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616800" y="2060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97600" y="2060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410520" y="24177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70400" y="1386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010120" y="1843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76000" y="1859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07600" y="20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292720" y="20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03640" y="20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84800" y="20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19560" y="226512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dc:language>en-US</dc:language>
  <cp:lastModifiedBy>Phillip</cp:lastModifiedBy>
  <cp:lastPrinted>2001-07-05T00:19:08Z</cp:lastPrinted>
  <dcterms:modified xsi:type="dcterms:W3CDTF">2007-05-30T04:46:45Z</dcterms:modified>
  <cp:revision>245</cp:revision>
  <dc:subject/>
  <dc:title>슬라이드 제목 없음</dc:title>
</cp:coreProperties>
</file>