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E4E-FADE-4011-8E58-322135CC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E2B-A6BF-41C1-B91B-D56E55C5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213-24C8-4736-8C59-C4F64758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126-8370-4F4C-BC65-C48D34D3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367-0E9B-4036-855F-9051844A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0BB-7D7D-4B85-ADD2-37C09AFF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343-AF0A-48F9-8F0E-53DAA3B7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FBC-C795-4B24-B613-BD12FD65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595-A947-47A5-84A4-A2BBCAAE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730-210B-4C4B-AFE7-63483339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14C9-0445-4E78-B5BC-7DD8142C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158-E42C-4095-AF1F-917EEDE9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977364-CBFB-47A9-A7AB-38A38EB310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DRG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68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4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9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4320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3572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406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258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672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099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63600" y="1447920"/>
            <a:ext cx="711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0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5384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58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43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54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27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834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145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525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78200" y="2106000"/>
            <a:ext cx="30636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급여비용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04840" y="1780200"/>
            <a:ext cx="306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 일련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45280" y="3213000"/>
            <a:ext cx="4280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업장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장기관   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기관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기관   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78320" y="211356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1520" y="3174480"/>
            <a:ext cx="4280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가입자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세대주   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128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57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306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26000" y="2143080"/>
            <a:ext cx="36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D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40600" y="3352680"/>
            <a:ext cx="671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증번호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장시설기호  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0496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9820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0244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875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884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717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2892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180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712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1152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2280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956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465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6082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228600"/>
            <a:ext cx="485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궁서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68760" y="395460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51040" y="425304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7280" y="398448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56280" y="608652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61280" y="6095880"/>
            <a:ext cx="1055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 관련사항은 사용 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24480" y="2963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01160" y="2979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21960" y="3200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7080" y="3200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8000" y="3186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99160" y="3186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24480" y="2525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18080" y="2541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22680" y="2762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92680" y="2762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8000" y="274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99160" y="274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691240" y="14522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92680" y="3433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24480" y="420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9640" y="4221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22680" y="444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07080" y="444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18000" y="442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99160" y="442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6600" y="2913120"/>
            <a:ext cx="6714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309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23840" y="27558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844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135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977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9460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8712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208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7720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8812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136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721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73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50800" y="3260880"/>
            <a:ext cx="5497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79680" y="405756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18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69120" y="429084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0560" y="29919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구분사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14479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DRG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6920" y="1440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96400" y="167472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58320" y="169056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66960" y="165564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332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79200" y="27748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800" y="2995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9592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0720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8800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664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3880" y="321264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입원일수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요양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0584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8252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0296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8808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9936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8016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0584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908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0296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9312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9936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8016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81960" y="3402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13760" y="4164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79640" y="4179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1600" y="4400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96360" y="4400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07280" y="4386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88080" y="4386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64560" y="330588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34360" y="454500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질병군세부분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0280" y="3200400"/>
            <a:ext cx="36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체"/>
                <a:ea typeface="굴림체"/>
              </a:rPr>
              <a:t>D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1608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93120" y="29750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1356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9868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0996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9076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1608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1356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842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0996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9076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38284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84280" y="341316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1608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8124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1428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9868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0996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9076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67600" y="300348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주진단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9252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5804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9036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751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8604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672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86080" y="3564000"/>
            <a:ext cx="21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621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4952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1540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477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21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4340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242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1952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17800" y="46497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과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87960" y="42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65360" y="42703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85080" y="4491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0560" y="44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81480" y="4476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62640" y="4476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87960" y="3816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81560" y="3832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85800" y="4052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28080" y="40528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81480" y="4038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45000" y="356220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03800" y="5311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69680" y="53276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01280" y="5548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86400" y="5548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97320" y="55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8480" y="55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92760" y="5001120"/>
            <a:ext cx="30636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타진단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6740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4444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488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5000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6128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4208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6740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6100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6560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3560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6128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420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73416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43880" y="3405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83240" y="4184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49480" y="4200480"/>
            <a:ext cx="372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81440" y="4421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65840" y="4421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4406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57920" y="4406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83360" y="32227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입원경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2000" y="425196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 분리항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75754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67320" y="46911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36680" y="459432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요양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7360" y="539640"/>
            <a:ext cx="8445600" cy="591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95280" y="1447920"/>
            <a:ext cx="695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DRG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16360" y="3352680"/>
            <a:ext cx="158436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          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부담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장애인의료비 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대불금 </a:t>
            </a:r>
            <a:r>
              <a:rPr b="0" lang="ko-K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행위별 총진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19560" y="2833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12080" y="28494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17040" y="3070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02520" y="30700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13080" y="3056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6320" y="3056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9200" y="1447920"/>
            <a:ext cx="0" cy="13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43680" y="6181560"/>
            <a:ext cx="228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en-US" sz="10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61280" y="6191280"/>
            <a:ext cx="1055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 관련사항은 사용 유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279520" y="1433520"/>
            <a:ext cx="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00160" y="264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06000" y="26654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9764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7952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94040" y="2871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7484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00160" y="221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8440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9836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50000" y="2448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94040" y="2433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7484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3763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87280" y="37800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78560" y="400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63680" y="40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55760" y="398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3325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65320" y="33415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78560" y="3562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2120" y="3562200"/>
            <a:ext cx="326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74960" y="3548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55760" y="35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270160" y="308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54200" y="26902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252520" y="42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71720" y="4437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45160" y="4452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69200" y="4673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54320" y="46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65240" y="4659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38480" y="4659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19280" y="3804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89080" y="4904640"/>
            <a:ext cx="30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65240" y="398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53000" y="144792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73640" y="2498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50680" y="25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71120" y="27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53000" y="274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67160" y="2720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48320" y="272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73640" y="2060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19720" y="207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90920" y="2297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30680" y="2297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67160" y="2282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48320" y="22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48320" y="292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60800" y="23094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60800" y="42001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84800" y="3308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60400" y="3324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8300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567400" y="3544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278320" y="3530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5948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45080" y="313056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45200" y="3130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94280" y="3321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69880" y="3336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92480" y="355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76880" y="355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88160" y="3543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6896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556240" y="37494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13240" y="4394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90280" y="4410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1072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592600" y="46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07120" y="4616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8000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13240" y="3956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59320" y="3971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2980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03320" y="4192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07120" y="4178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8000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583240" y="48355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232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07200" y="5051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052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61492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2620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607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7996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56280" y="5051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7816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26256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7384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5464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91160" y="4921200"/>
            <a:ext cx="65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9960" y="4921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04520" y="55335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87880" y="525780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62600" y="50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40000" y="5052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60080" y="527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42320" y="52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56480" y="5259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37280" y="52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62600" y="4599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08680" y="4614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79160" y="483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91920" y="48355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56480" y="4821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37280" y="48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032600" y="5478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81680" y="5678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692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79160" y="591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6428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75560" y="5900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5636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2968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0456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27520" y="591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71192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2320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0400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32600" y="556416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9320" y="5564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740268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122960" y="2362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00000" y="23781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20440" y="259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05560" y="259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16840" y="2584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97640" y="258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122960" y="1924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78760" y="19400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21160" y="2160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10600" y="216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16840" y="2146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97640" y="214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24760" y="303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16920" y="3051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122600" y="327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0736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18280" y="325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9152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944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24868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988400" y="1895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54280" y="19112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985880" y="213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271000" y="213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81920" y="211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263080" y="21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86720" y="24750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323840" y="4685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20320" y="56181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60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5384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58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43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254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27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78320" y="211356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306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24360" y="3390840"/>
            <a:ext cx="57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12-05T02:19:36Z</cp:lastPrinted>
  <dcterms:modified xsi:type="dcterms:W3CDTF">2005-06-24T04:20:40Z</dcterms:modified>
  <cp:revision>74</cp:revision>
  <dc:subject/>
  <dc:title>슬라이드 제목 없음</dc:title>
</cp:coreProperties>
</file>