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611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D97-E1BC-4B1D-870F-E01DD6DE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0DC-F205-4A93-98A1-8AF5DD39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05CC-5BA3-4185-BC44-5BB9D2EF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1E1-9443-4BCA-AE77-83A39289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CB7-E40C-41BE-A5E9-908D3FC5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7AB-341C-4C27-B771-B86617DC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265-B2F1-457E-8B3D-6C6E3FA5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FBCB-7F6C-4CFE-A462-2B444D42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359-7230-4CA4-B1FC-F2D77194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11A-3436-4E25-B21C-53FB6E92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6E1-DE1E-4B39-B793-4941FF88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290-352A-43A3-BF27-E2A458E3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902B953-8FF6-482D-B31A-037B9DA645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683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3348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58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509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184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304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8600" y="1447920"/>
            <a:ext cx="711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87720" y="27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70880" y="2762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85920" y="29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7032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81240" y="29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448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4880" y="1827720"/>
            <a:ext cx="306360" cy="26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급여비용 심사결과 통보서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총괄표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84240" y="188820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286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04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0928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35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986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92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828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7957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348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68760" y="2759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4640" y="27748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6660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136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62280" y="2981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4344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9196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49800" y="2759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6040" y="27748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4764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3240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43320" y="2981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2448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5007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60840" y="2657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09440" y="26733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2808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67320" y="2894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54720" y="2879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968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60840" y="2219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2600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68400" y="2455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38760" y="245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54720" y="2441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0708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73408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726240" y="14616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13120" y="323856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8752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4188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850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701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8104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42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75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16532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2431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4472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1780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4220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732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824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148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62080" y="31766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54720" y="39387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31760" y="395460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52200" y="417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34080" y="418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48240" y="4160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29400" y="416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54720" y="3500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48320" y="3516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81360" y="37368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22920" y="37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48240" y="3722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29400" y="372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40560" y="290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488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10760" y="27748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4308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2748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38760" y="2981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956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0958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78480" y="4686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33200" y="470232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05120" y="4923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61080" y="4923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72000" y="4908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45240" y="4908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02280" y="1663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57360" y="16794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99760" y="1900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84880" y="190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96160" y="1886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69040" y="1886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52840" y="3129480"/>
            <a:ext cx="30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74960" y="32036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64400" y="3281400"/>
            <a:ext cx="177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04120" y="2662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2360" y="2678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09520" y="2903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10240" y="2898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97640" y="2884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04120" y="2224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68920" y="2239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10960" y="2460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97080" y="245124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7640" y="2446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50000" y="244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83480" y="2908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0760" y="165888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32680" y="16747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03160" y="16398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40760" y="145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64400" y="289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04120" y="3516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58840" y="3532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30040" y="3753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86720" y="3753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97640" y="3738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70520" y="3738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64400" y="290052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75440" y="3510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30160" y="3525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01360" y="3746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58040" y="3746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68960" y="3732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42200" y="3732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50000" y="3500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24520" y="3516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57200" y="3736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04160" y="37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43880" y="3722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16760" y="372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35720" y="3281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00920" y="327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29400" y="42386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44160" y="3834360"/>
            <a:ext cx="42804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반송 및 기재착오 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 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62480" y="39560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625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80120" y="267444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65920" y="3850560"/>
            <a:ext cx="306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 본인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0760" y="34974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02680" y="351324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73160" y="3478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510760" y="329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20" y="257040"/>
            <a:ext cx="30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07400" y="199368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924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0636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68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50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144792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59920" y="7333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84600" y="3084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498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4272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473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324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433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166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198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7664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53680" y="29750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7412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5924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7052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5132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7664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7024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7484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484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7052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5132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299120" y="145080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6640" y="34034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76640" y="3781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41800" y="3797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74840" y="4017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59240" y="401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70520" y="4003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51320" y="400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4980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4232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667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320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162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591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2584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09000" y="27590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3340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872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1936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926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8764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84440" y="31633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38120" y="3548160"/>
            <a:ext cx="102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09960" y="3767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64320" y="3782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16800" y="4003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54760" y="40035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03480" y="3989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76360" y="3989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60520" y="353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8120" y="3543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52440" y="377820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14440" y="379404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61080" y="37591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28360" y="4292640"/>
            <a:ext cx="127980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반송 및 기재착오 의료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감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지급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 보장기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 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 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 의료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8164440" y="613728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4440" y="61372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8253360" y="61056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448000" y="523872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48000" y="523872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dc:language>en-US</dc:language>
  <cp:lastModifiedBy>Administrator</cp:lastModifiedBy>
  <cp:lastPrinted>2001-07-05T00:22:49Z</cp:lastPrinted>
  <dcterms:modified xsi:type="dcterms:W3CDTF">2002-07-10T09:31:32Z</dcterms:modified>
  <cp:revision>74</cp:revision>
  <dc:subject/>
  <dc:title>슬라이드 제목 없음</dc:title>
</cp:coreProperties>
</file>