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68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819800"/>
            <a:ext cx="3027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2014200"/>
            <a:ext cx="302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정신과 정액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928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560" y="3216600"/>
            <a:ext cx="6678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884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052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226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9648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140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0024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226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955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4640" y="3202920"/>
            <a:ext cx="5461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등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9360" y="30322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66400" y="30481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6840" y="3268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71960" y="3268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240" y="3254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4040" y="3254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2593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2960" y="2610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7560" y="2830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76640" y="283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240" y="28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4040" y="28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6120" y="1520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7920" y="3483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91160" y="4245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56320" y="4260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89000" y="4481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3760" y="4481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4680" y="44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5840" y="44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6520" y="3011400"/>
            <a:ext cx="793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52920" y="1755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46160" y="177156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50400" y="1992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35520" y="1992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46800" y="1978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9680" y="197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70640" y="218664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2920" y="15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04680" y="323604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37920" y="3141360"/>
            <a:ext cx="4280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1528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28195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0684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2404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024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32680" y="304164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556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4060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1800" y="2824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936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3592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3088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96320" y="32227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진료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76680" y="152388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2813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67520" y="282420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5440" y="3044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72000" y="3044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3035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66960" y="3041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112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8160" y="3051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8240" y="3271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8336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464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7544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0112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94360" y="2612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8240" y="2833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50600" y="28335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4640" y="2819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7544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967520" y="1523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69320" y="34862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2560" y="4248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68080" y="42642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00760" y="4484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85160" y="4484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96080" y="4470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77240" y="447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16440" y="466740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43200" y="3040200"/>
            <a:ext cx="42444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512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06440" y="1295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28880" y="15238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0360" y="15001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01760" y="1295280"/>
            <a:ext cx="708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500720" y="1295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797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88320" y="2813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0912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1000" y="30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0516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8632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5772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2892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33040" y="25956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516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8632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0" y="4060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8040" y="407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20640" y="429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5400" y="429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428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7480" y="428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28414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7440" y="2991600"/>
            <a:ext cx="428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59320" y="3286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7052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24880" y="26035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8708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53480" y="28242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372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11172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7376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9040" y="2918520"/>
            <a:ext cx="140148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비급여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비용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258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14000" y="26035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7656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224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2640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90084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62880" y="2809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59080" y="2797560"/>
            <a:ext cx="6714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입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낮병동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의료급여일수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52600" y="2600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8840" y="2616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0" y="28368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35200" y="2836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346480" y="2822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2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41800" y="2955600"/>
            <a:ext cx="6714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호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적용수가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180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94000" y="282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5932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348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31828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7996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52960" y="1530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5840" y="15462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50080" y="1766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35200" y="1766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46480" y="1752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936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0320" y="196128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2260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6960" y="258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52040" y="26035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13520" y="2824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9560" y="282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6372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8381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809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631960" y="129492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79000" y="1290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101080" y="15192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68760" y="1495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87360" y="387360"/>
            <a:ext cx="8445600" cy="592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560" y="57456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PP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6680" y="11304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8600" y="1663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8600" y="27655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600" y="38322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8600" y="489888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6440" y="1279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28880" y="15080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96200" y="14842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1760" y="1279440"/>
            <a:ext cx="552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70480" y="280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28440" y="281952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67960" y="3040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53080" y="3040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64000" y="302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45160" y="302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70480" y="2365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35640" y="23814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68680" y="2602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2602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4000" y="2587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45160" y="2587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4048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3479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45360" y="34956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78040" y="37162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2440" y="3716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73720" y="3701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54520" y="3701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66040" y="1514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20760" y="153036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63160" y="17510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48640" y="17510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9560" y="1736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32440" y="1736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35680" y="1279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28036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649840" y="128736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355840" y="127800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76480" y="2320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53160" y="23367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73960" y="255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55840" y="256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0000" y="2543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51160" y="254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76480" y="1882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22560" y="1898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93400" y="2119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33520" y="2119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70000" y="2104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51160" y="2104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5116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63640" y="2131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63640" y="402228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87640" y="3130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62880" y="314640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85480" y="33670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70240" y="336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8116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6232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47920" y="29527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8040" y="2952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97120" y="3143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72720" y="31590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95320" y="3379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9720" y="3379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90640" y="3365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365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359080" y="3571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116080" y="4216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93120" y="42321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13560" y="4452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95440" y="4464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09960" y="4438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82840" y="443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1160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62160" y="3794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3264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05800" y="40147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099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8284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386080" y="46576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5160" y="4857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0040" y="4873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336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776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28680" y="507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0984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82800" y="48578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58760" y="48736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81000" y="509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65400" y="509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76680" y="50799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7480" y="507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86080" y="474336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52800" y="47433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71640" y="507996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6320" y="48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63360" y="48751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83440" y="5095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5680" y="5106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79840" y="5081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0640" y="5081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6320" y="4421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32040" y="44370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602520" y="4657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15280" y="46576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79840" y="4643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60640" y="46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55960" y="53006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5040" y="55008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8028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02520" y="5737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7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9892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9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53040" y="5500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7920" y="55166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50880" y="57373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35640" y="5737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46560" y="5722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27720" y="5722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55960" y="538632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22680" y="538632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47200" y="45079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48720" y="541512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dc:language>en-US</dc:language>
  <cp:lastModifiedBy>Phillip</cp:lastModifiedBy>
  <cp:lastPrinted>2001-03-16T09:01:46Z</cp:lastPrinted>
  <dcterms:modified xsi:type="dcterms:W3CDTF">2007-05-30T05:05:27Z</dcterms:modified>
  <cp:revision>134</cp:revision>
  <dc:subject/>
  <dc:title>슬라이드 제목 없음</dc:title>
</cp:coreProperties>
</file>