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B77-9DAE-4C4E-852C-64BE9E40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67A-6256-43BC-90DF-8698472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8B8-9D13-411F-AABF-F1C68517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F32-6062-4616-BECE-DDBFDA11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FDB-F065-4628-A674-84833978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CAB-020D-4A3C-B362-34B26709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2EF-BEEA-4A8F-9BFC-76FFB36C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336-4FE8-4AF0-ADA9-EB240D8B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24F-E87D-456A-9A55-B7045AEC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3227-9765-4A04-82EE-20E31457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8A1-9D24-47F9-9731-D7E5A96D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4F4-49DD-4965-B6F2-A6B23D16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D1A7199-3498-44D9-8C98-EEBEF3292D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148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14160" y="2762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9120" y="29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0388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876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3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86040" y="1938960"/>
            <a:ext cx="30636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탁기관 통보확인 결과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190404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91280" y="31269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탁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70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899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45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796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638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91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5132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736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417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26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259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8386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638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3815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8304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49280" y="27748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812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656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577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133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6884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4720" y="2774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70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14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435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819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772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4760" y="2975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52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103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160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02400" y="318132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772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213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59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959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160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024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5944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30960" y="42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8000" y="42703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8440" y="449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13560" y="44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4476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05640" y="447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0960" y="3816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24560" y="3832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29160" y="4052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70720" y="4052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4038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0564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9160" y="46958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30960" y="54579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96840" y="547380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9160" y="5694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13560" y="569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568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5640" y="568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69040" y="2963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46440" y="2979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6520" y="3200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51640" y="3200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1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43720" y="3186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9040" y="2525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62640" y="2541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7240" y="2762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37600" y="2762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747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43720" y="274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435800" y="1452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37600" y="3433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9040" y="4205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4920" y="4221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7240" y="444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1640" y="444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4427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43720" y="442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75080" y="31640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7760" y="31640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3560" y="3099960"/>
            <a:ext cx="30636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보험자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1447920"/>
            <a:ext cx="68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27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6376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0800" y="2975040"/>
            <a:ext cx="40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612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463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5728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84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6376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5736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124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57080" y="275760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5728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84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3052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30760" y="355608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2200" y="4184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28440" y="4200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59680" y="4421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44800" y="442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56080" y="4406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36880" y="440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29520" y="45651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38640" y="4184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04520" y="4200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36120" y="4421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21240" y="442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32160" y="4406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13320" y="440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33400" y="3556080"/>
            <a:ext cx="544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08640" y="35654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76760" y="4184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43000" y="4200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74960" y="4421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59360" y="442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70640" y="4406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51440" y="440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46760" y="35654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85560" y="1545120"/>
            <a:ext cx="115812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업장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 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 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체검사공급내역통보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 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체검사공급내역통보서 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3480" y="4184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09360" y="4200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1680" y="4421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26080" y="442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37360" y="4406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18160" y="440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3480" y="35654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00840" y="4184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76080" y="4200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9040" y="4421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92800" y="442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94360" y="4406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84880" y="440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80200" y="356544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532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63760" y="414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40800" y="41590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61240" y="437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46360" y="437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57280" y="436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38440" y="43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63760" y="3705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57360" y="3720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61600" y="3941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39880" y="39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57280" y="392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38440" y="392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63760" y="533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40800" y="53467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61240" y="5567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46360" y="5567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57280" y="5553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38440" y="555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63760" y="48927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57360" y="490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61600" y="512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41320" y="512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57280" y="511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38440" y="511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33400" y="340056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9840" y="53341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5720" y="534996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38040" y="557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25680" y="557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1720" y="5556240"/>
            <a:ext cx="69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17760" y="5556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33400" y="459108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2836440"/>
            <a:ext cx="30636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 분리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1320" y="3853800"/>
            <a:ext cx="4280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 심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19880" y="549072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66920" y="5751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2600" y="4181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06720" y="41972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89720" y="4417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74840" y="4417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86120" y="4403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6692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59560" y="4408560"/>
            <a:ext cx="4280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 명세서 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체검사공급내역통보서 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52880" y="355284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35720" y="4516200"/>
            <a:ext cx="67140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결과 총 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 총 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결과 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1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 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 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1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 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76600" y="461196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29440" y="4573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급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70320" y="355284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02120" y="4181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67640" y="4197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00320" y="4417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84720" y="4417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896000" y="4403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7680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529520"/>
            <a:ext cx="306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 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447920"/>
            <a:ext cx="364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308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846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756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821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672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782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14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54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864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4568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612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5124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4332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864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06224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668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3720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4332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23540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23720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864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416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684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5124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4332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324240" y="319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210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13960" y="27558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189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36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874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68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9940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47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894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732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762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86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89440" y="2017080"/>
            <a:ext cx="3063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꼬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162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9080" y="275580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1404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9880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0972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829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0574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24200" y="3131280"/>
            <a:ext cx="3063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급금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81920" y="3131280"/>
            <a:ext cx="42804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급건수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확인건수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5T00:31:07Z</cp:lastPrinted>
  <dcterms:modified xsi:type="dcterms:W3CDTF">2002-07-10T09:29:24Z</dcterms:modified>
  <cp:revision>63</cp:revision>
  <dc:subject/>
  <dc:title>슬라이드 제목 없음</dc:title>
</cp:coreProperties>
</file>