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25B-67E7-4E4E-8689-E7FE0B97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7F2-F3E8-447E-9CC3-16CDA95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5B5-F2A2-4F24-89DB-DD40A245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2B6-6F24-4E7B-98D6-03E42064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C9BF-8A49-4E13-8C45-87963C82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CAE-0127-4224-8267-F9349AF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DEF-BD4C-4327-88CD-0721B37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B2C-D4A4-4739-AAF2-1211E90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A1A7-EB78-40FA-90BD-3ADF9E9F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4B76-FB81-4930-8E5C-39A7729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470-50D1-41C9-AF6C-5DC6287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070-1500-42DB-A50C-8A04174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6D98C8-CC70-41E1-AF55-3BC5F54FB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912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192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663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17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5300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58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686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615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754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1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62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3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019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8276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671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676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922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663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896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48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860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89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3852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1556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600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3240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1320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852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321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3672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0708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240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132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8668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4860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0972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4139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8520" y="310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9960" y="3219480"/>
            <a:ext cx="78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2760" y="1933200"/>
            <a:ext cx="30636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1560" y="3240000"/>
            <a:ext cx="67140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0840" y="3230640"/>
            <a:ext cx="1036440" cy="29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분야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40840" y="31845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26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7640" y="3359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446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52920" y="3579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656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99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996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03880" y="334332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48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25840" y="3589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3579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97400" y="3565440"/>
            <a:ext cx="569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1160" y="357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10240" y="358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81800" y="3209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65520" y="1875960"/>
            <a:ext cx="30636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용심사청구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817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7460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889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0924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756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8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56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80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00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9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8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29440" y="2988360"/>
            <a:ext cx="67140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건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64200" y="3251160"/>
            <a:ext cx="12798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408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3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71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95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072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80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83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314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CL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9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24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56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41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3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25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49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0760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424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13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05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43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9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5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2530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056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449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9608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316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13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05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6924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936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93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43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517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9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9400" y="3212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1080" y="2870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7184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436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786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544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653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386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512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036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79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54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692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928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80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892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621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9440" y="309276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대행청구 단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9560" y="3230640"/>
            <a:ext cx="54972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검사승인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작성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642924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0:58:58Z</cp:lastPrinted>
  <dcterms:modified xsi:type="dcterms:W3CDTF">2007-05-21T08:06:32Z</dcterms:modified>
  <cp:revision>93</cp:revision>
  <dc:subject/>
  <dc:title>슬라이드 제목 없음</dc:title>
</cp:coreProperties>
</file>