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7C2-92E5-4737-A3F0-464A4864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B43-3577-492B-A2C5-C13E4B2E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F55F-F83D-41F8-AC2A-B75EC1E7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D45-B389-4777-8A53-7EA50BD8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F7B-9F5B-4ABD-925C-78EB4506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60E-567A-4D99-A5B3-563577D8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B297-39AE-408D-9B20-0D75E71A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64A-DB84-458B-84F0-A13C0DA5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6C6-DE92-45FC-874D-C190807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4E1-6300-41EC-9703-20B53F7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9AA-0280-4C06-A070-A9E58593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5CF-1C8B-4DA0-B43C-D9265BF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C3420D-1FCA-486F-94C3-F53DE84CB7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426960"/>
            <a:ext cx="8445600" cy="61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61920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56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65160" y="158580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74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26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2589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179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7640" y="4181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7640" y="54770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6208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60640" y="1335240"/>
            <a:ext cx="718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0480" y="2558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84000" y="2575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97960" y="2795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3080" y="27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94000" y="27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7240" y="27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36920" y="1798560"/>
            <a:ext cx="30636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원외처방 약제비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4720" y="179460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6064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255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240" y="25686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97840" y="278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82960" y="278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93880" y="2774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67120" y="2774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8080" y="2544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4120" y="256068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3760" y="278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62360" y="278136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11600" y="276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63960" y="276696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18080" y="2106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82880" y="2122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15560" y="2343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29760" y="234324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2328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63960" y="2328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881600" y="1335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60600" y="30891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19200" y="156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3560" y="158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6680" y="180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1800" y="180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720" y="179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85960" y="179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89200" y="133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197000" y="234072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11720" y="30020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8780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51160" y="1344240"/>
            <a:ext cx="0" cy="12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81160" y="25560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54240" y="2571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78640" y="2792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279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5040" y="277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47920" y="277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36680" y="3003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8360" y="277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88040" y="3397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53560" y="3413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85880" y="3633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70640" y="363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1560" y="3619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61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32400" y="387360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46680" y="3171960"/>
            <a:ext cx="3686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99000" y="339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82160" y="3411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6480" y="363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1600" y="363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92520" y="3618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65760" y="3618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97200" y="2835720"/>
            <a:ext cx="3063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6880" y="3762000"/>
            <a:ext cx="914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69320" y="1566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31320" y="1582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77960" y="1547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45520" y="1336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72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1592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3960" y="3870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6856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76600" y="1343160"/>
            <a:ext cx="0" cy="12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00800" y="4510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67400" y="4525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2680" y="4746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83400" y="4746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4680" y="473220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61440" y="473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2800" y="4664880"/>
            <a:ext cx="67140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80160" y="428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07280" y="384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4320" y="3860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04760" y="408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86640" y="40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0800" y="4067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81960" y="406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7280" y="33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00880" y="34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4760" y="36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7040" y="3635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0800" y="3621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361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07160" y="316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12000" y="338364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조정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34020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27880" y="3417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74880" y="3382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4244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89320" y="1339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9040" y="179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94920" y="18129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6520" y="203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203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201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03720" y="201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221904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93280" y="3606840"/>
            <a:ext cx="550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F09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5480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64120" y="381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2720" y="383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0160" y="406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99040" y="405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58000" y="404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4120" y="338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29280" y="339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71680" y="361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61120" y="361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58000" y="360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360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348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262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1480" y="451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76200" y="453384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9680" y="47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4080" y="47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15000" y="47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88240" y="47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60560" y="358200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2080" y="493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234120" y="316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26200" y="42609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31080" y="4535640"/>
            <a:ext cx="533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73480" y="4756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57880" y="475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69160" y="4741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42040" y="47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5680" y="4511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71200" y="4527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17560" y="4748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88280" y="4748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9560" y="473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65960" y="473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12040" y="4850640"/>
            <a:ext cx="306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7360" y="404640"/>
            <a:ext cx="8445600" cy="604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87360" y="131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6840" y="1547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58760" y="1563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9880" y="1528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87360" y="1312920"/>
            <a:ext cx="702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38320" y="59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PR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741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87360" y="199872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00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4760" y="22417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2575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7800" y="2222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8776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3840" y="2786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43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09160" y="30067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62440" y="299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77000" y="264060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년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759200" y="364824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08640" y="3719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30680" y="373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06120" y="39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2400" y="394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2520" y="3941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7080" y="394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08640" y="3278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240" y="3294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5200" y="3514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06640" y="35146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02520" y="34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34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96080" y="3730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608880" y="41796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4520" y="3833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60120" y="38498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82000" y="4070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67120" y="4070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78400" y="4056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59200" y="4056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64240" y="3722760"/>
            <a:ext cx="176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61560" y="42382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43680" y="3832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18920" y="3848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40800" y="406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30960" y="406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37200" y="405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3040" y="404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6280" y="4179600"/>
            <a:ext cx="6714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명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기관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7760" y="3213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64080" y="322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85240" y="3449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67120" y="346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81640" y="3435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62440" y="343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328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032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4040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264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3680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1760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328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36520" y="223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40400" y="245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2443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36800" y="2443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7600" y="244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1148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6160" y="3336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2040" y="3352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43640" y="357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28760" y="357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0040" y="3559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20840" y="355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49600" y="3642840"/>
            <a:ext cx="67140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98240" y="2517120"/>
            <a:ext cx="54972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216160" y="1996920"/>
            <a:ext cx="0" cy="21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06800" y="333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72320" y="3351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04280" y="357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89400" y="357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00320" y="3557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81480" y="3557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5560" y="3565800"/>
            <a:ext cx="549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부담환수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환수금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계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12920" y="3214800"/>
            <a:ext cx="228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73560" y="32194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93960" y="333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59840" y="335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92160" y="357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48480" y="35751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7840" y="356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8640" y="356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0720" y="3222720"/>
            <a:ext cx="0" cy="11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2200" y="374148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6560" y="3726000"/>
            <a:ext cx="0" cy="9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9520" y="4811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06200" y="48276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26640" y="5048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2920" y="504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3040" y="5033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7960" y="503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9520" y="4373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6920" y="4389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45720" y="4610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23040" y="458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08880" y="45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86560" y="460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3420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9440" y="54957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3168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94480" y="572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2772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1356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63600" y="5272200"/>
            <a:ext cx="549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76320" y="51991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의약품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53240" y="5479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728480" y="5495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5072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3584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47120" y="570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2792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23240" y="53658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43760" y="5479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119000" y="5495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41240" y="5716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26360" y="571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37280" y="570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8440" y="570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3760" y="53672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4360" y="4740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29280" y="47325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26160" y="52671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34080" y="5362560"/>
            <a:ext cx="128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635960" y="1312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56600" y="2246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33640" y="22622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53720" y="24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39200" y="248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50120" y="24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31280" y="24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5660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12040" y="1814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5444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4388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5012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128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67760" y="290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59920" y="2925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65600" y="314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50000" y="314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61280" y="313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34160" y="313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9480" y="267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07360" y="1312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47080" y="1770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112960" y="1785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44560" y="2006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29680" y="2006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40600" y="1992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21760" y="199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93080" y="2349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97600" y="131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637320" y="1774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3200" y="1790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34800" y="2011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19920" y="2011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30840" y="1996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12000" y="199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46760" y="2196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33680" y="3328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00280" y="3344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31160" y="3565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6280" y="3565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27200" y="3551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08360" y="3551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00440" y="321300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27280" y="380376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6-05-11T23:08:39Z</dcterms:modified>
  <cp:revision>208</cp:revision>
  <dc:subject/>
  <dc:title>슬라이드 제목 없음</dc:title>
</cp:coreProperties>
</file>