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F7B-C8FE-4F48-8F46-F8237612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097-9A3E-4EBB-BE9D-5A8E868C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25D-59F6-4FF4-A8D1-29B0AA68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91C-5942-4768-815F-BEE7F49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393-E94D-408D-85B4-DE03EBA9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1B2-8082-4A2A-B482-762AD6E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5C1-6EB3-4CFE-A0B6-3237044A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D08-3578-41D9-8645-0E968C9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F53-9502-452D-840B-457A26EB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CEC-F1B9-493B-A54F-F13B5EEE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924-0833-43BE-A02D-850F7213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2D38-E5FB-4918-88F7-81AFBF7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8CA208D-FFCF-4439-A1C9-E405133072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2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672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4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54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52560" y="1447920"/>
            <a:ext cx="738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6640" y="1907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5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922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516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897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74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8616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590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77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73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980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7176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561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5244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51480" y="2657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99360" y="2673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47160" y="2898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95760" y="2894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45000" y="2879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97360" y="2879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51480" y="2219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16640" y="2235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48960" y="2455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63160" y="2455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45000" y="2441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97360" y="244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7150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1792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1112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584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086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372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500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78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11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988920" y="2453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71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730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652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705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556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669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98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9000" y="31672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30840" y="2903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4488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1076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4308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274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3876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95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095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89600" y="3216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86160" y="4498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95920" y="3305160"/>
            <a:ext cx="268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49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09080" y="3508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23400" y="372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08520" y="372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9800" y="3714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92680" y="3714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57880" y="331632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91120" y="2592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6360" y="387792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51680" y="16686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13680" y="16844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60320" y="16495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27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364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6000" y="2192400"/>
            <a:ext cx="4280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 심사결과 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8200" y="3102480"/>
            <a:ext cx="306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5680" y="3521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67680" y="35370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14320" y="35020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3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6840" y="257040"/>
            <a:ext cx="4738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71960" y="319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6960" y="3497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72840" y="35132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05160" y="3733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9560" y="3733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00840" y="3719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81640" y="37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51680" y="39736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38920" y="330516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88000" y="34862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54240" y="35020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5480" y="3722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0600" y="3722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1880" y="3708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2680" y="3708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396252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3868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81240" y="2746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4760" y="2762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78720" y="29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63840" y="29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75120" y="2968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48000" y="29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41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910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66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89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736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846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54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41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41720" y="3276720"/>
            <a:ext cx="306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35440" y="323856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60800" y="3189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01000" y="18543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6880" y="1870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98480" y="2090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83600" y="2090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94520" y="207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75680" y="207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45360" y="2330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51560" y="1444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080" y="2055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42120" y="3960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90720" y="3976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160" y="4202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77040" y="419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418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42120" y="3522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3538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49680" y="3759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9120" y="375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745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6160" y="3745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21480" y="42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41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99480" y="4554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54200" y="457056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97320" y="4791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82080" y="4791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93000" y="4776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66240" y="4776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38560" y="379008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31240" y="4989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12120" y="330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04200" y="4402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328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08720" y="456264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51480" y="47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3588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46800" y="476892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20040" y="476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360" y="106668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006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14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280" y="5292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2460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8976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22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0720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8120" y="384192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45000" y="3618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10880" y="3633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3200" y="385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27600" y="385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3852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9680" y="384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6880" y="23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2563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3760" y="2579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0760" y="2544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1560" y="2347920"/>
            <a:ext cx="773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34960" y="2957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2000" y="2973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32440" y="3193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14680" y="320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8840" y="3179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09640" y="317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34960" y="251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8560" y="2535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33160" y="2755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28640" y="274176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8840" y="2741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9640" y="27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6900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48200" y="363204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648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304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6252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4512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69000" y="3178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64040" y="3193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67200" y="341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68440" y="34146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62520" y="34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45120" y="340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5480" y="4726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53600" y="47419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72600" y="4962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59520" y="4962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69000" y="494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51600" y="494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75480" y="42879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70520" y="4303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600" y="4524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4840" y="452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69000" y="45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51600" y="4510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46920" y="406224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9924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4760" y="5410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6720" y="563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184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76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7392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08720" y="4055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4680" y="337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3352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34960" y="359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01560" y="3606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32440" y="3827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17560" y="382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28840" y="3813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09640" y="3813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63880" y="3616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29400" y="3632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1000" y="3852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46480" y="3852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7400" y="383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38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64360" y="4665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00" y="2809440"/>
            <a:ext cx="7930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7840" y="3962520"/>
            <a:ext cx="428040" cy="16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추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 본인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005120" y="4106880"/>
            <a:ext cx="17665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구분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유형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10960" y="2324160"/>
            <a:ext cx="3713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의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71560" y="3940920"/>
            <a:ext cx="549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60640" y="317664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704960" y="2352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17560" y="34765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46920" y="516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6920" y="5272200"/>
            <a:ext cx="192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64080" y="33004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4080" y="33004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556320" y="3921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30480" y="3619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96360" y="3635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27960" y="38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13440" y="38559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0516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610080" y="34765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102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07600" y="2346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96120" y="25718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58120" y="2587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204760" y="2552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1164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77520" y="3645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948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94240" y="386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0516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8632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53400" y="4137120"/>
            <a:ext cx="4280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11520" y="3629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77040" y="364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09360" y="386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65680" y="3865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05040" y="385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86200" y="385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73080" y="4006800"/>
            <a:ext cx="5497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84880" y="3467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52360" y="176832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936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52388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48600" y="1752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82160" y="176832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57240" y="173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24800" y="153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3173400"/>
            <a:ext cx="342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바탕체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4000" y="233676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84640" y="231624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8972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55960" y="2773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87200" y="2994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67232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8360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64400" y="29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21480" y="32338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7640640" y="23479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20360" y="266832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226120" y="404712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819680" y="329400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968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4948200" y="329400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48200" y="329400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2979720" y="250668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50120" y="5394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15640" y="54100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47960" y="5630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32720" y="5630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43640" y="5616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24800" y="561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557400" y="45896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197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912080" y="6004080"/>
          <a:ext cx="15084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12080" y="6004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8001000" y="597204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5160" y="539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1040" y="54133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82280" y="563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67760" y="563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78680" y="561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59480" y="561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03960" y="5858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13720" y="539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79600" y="5408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11200" y="5629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96320" y="562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07240" y="561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88400" y="561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88440" y="2819160"/>
            <a:ext cx="671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53360" y="52610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83360" y="52689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84480" y="5353200"/>
            <a:ext cx="914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31720" y="530064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5607000" y="5786280"/>
          <a:ext cx="150840" cy="2066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7000" y="578628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5122800" y="5794200"/>
          <a:ext cx="150840" cy="2066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22800" y="579420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7360" y="404640"/>
            <a:ext cx="8445600" cy="619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1360" y="146844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20019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31035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4170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3280" y="531324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8736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6840" y="18446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5876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1988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1628640"/>
            <a:ext cx="702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38320" y="54936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848640" y="162864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559560" y="2600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36240" y="2616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57040" y="2836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216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53080" y="2822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3424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9560" y="2162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15000" y="2178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7760" y="2398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398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53080" y="23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4240" y="23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31000" y="30481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40360" y="44863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2632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59560" y="448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69400" y="448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97480" y="3858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97480" y="2414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48480" y="51015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78120" y="502524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47640" y="51325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51640" y="4695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16080" y="4711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49120" y="4932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34240" y="4932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45160" y="4917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18400" y="491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80200" y="470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53640" y="47181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96760" y="493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62800" y="493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74080" y="492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46960" y="492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790040" y="470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77520" y="47214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787880" y="4941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72280" y="4941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83560" y="492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56440" y="492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61000" y="382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38760" y="38448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558480" y="4065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0" y="4065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4880" y="4051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35680" y="4051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61000" y="3390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16440" y="3406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8480" y="3627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59000" y="36273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4880" y="3613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35680" y="3613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31000" y="42670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584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11320" y="1879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0296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8808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29936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7224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7548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659640" y="1933560"/>
          <a:ext cx="164880" cy="2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933560"/>
                    <a:ext cx="16488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8088480" y="6318360"/>
          <a:ext cx="15048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8480" y="631836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8177040" y="6286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25360" y="220320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2873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68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87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198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98100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92960" y="98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02440" y="11970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064360" y="12128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25480" y="117792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94400" y="18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60640" y="1879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91880" y="2100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77000" y="21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87920" y="2085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69080" y="2085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86440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15080" y="21967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308800" y="162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18640" y="1844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080200" y="1860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41320" y="1825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03760" y="2973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69280" y="2989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15640" y="3209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986360" y="3209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97280" y="3195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64040" y="3195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83120" y="2824200"/>
            <a:ext cx="67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9760" y="33350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83120" y="273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05200" y="2295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2240" y="2311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02680" y="253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84920" y="254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99080" y="2517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7988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05200" y="1857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98800" y="1873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03400" y="2093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44960" y="2093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99080" y="20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979880" y="2079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8320" y="198396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005440" y="162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80200" y="299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46080" y="30067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7320" y="322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662440" y="322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73720" y="321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54520" y="321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5240" y="34718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283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12800" y="189864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284560" y="163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81080" y="2309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8120" y="2325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78560" y="2546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63680" y="254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74960" y="2532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55760" y="2532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81080" y="1871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74680" y="188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78560" y="210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49640" y="210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74960" y="209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255760" y="209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8612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046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8324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68360" y="326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7964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260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846520" y="2881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67160" y="303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32680" y="30463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78680" y="3267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02240" y="3267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560680" y="325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27440" y="325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43160" y="3025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9040" y="30416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40640" y="3262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25760" y="3262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37040" y="3247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17840" y="32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03440" y="2873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68360" y="2874960"/>
            <a:ext cx="112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51080" y="2743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76800" y="189360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52960" y="203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8840" y="2054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50080" y="227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35200" y="227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46480" y="2260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27280" y="226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97320" y="25146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503520" y="16282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5920" y="24141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64720" y="323496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61920" y="2855160"/>
            <a:ext cx="5497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급권확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상건수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77720" y="3366360"/>
            <a:ext cx="164484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 의료비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비용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987640" y="4748040"/>
          <a:ext cx="150840" cy="2066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748040"/>
                    <a:ext cx="150840" cy="2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387360" y="404640"/>
            <a:ext cx="8445600" cy="590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360" y="1152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3280" y="1685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3280" y="2787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87360" y="99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96840" y="12063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58760" y="154476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19880" y="1187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95280" y="990720"/>
            <a:ext cx="62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38320" y="48564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81280" y="4741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05320" y="4970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81280" y="4970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858000" y="9903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7864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655680" y="19209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7612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6124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7216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332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78640" y="146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34080" y="1482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76480" y="1703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65920" y="170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72160" y="168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53320" y="168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80080" y="2577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72600" y="2593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578280" y="2814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62680" y="2814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73960" y="280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6840" y="280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0080" y="235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564320" y="990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04040" y="143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369920" y="14540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301520" y="167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586640" y="167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97560" y="166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578720" y="166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80200" y="2017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134040" y="99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73760" y="1441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39640" y="1457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871240" y="167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56360" y="167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67280" y="166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48440" y="166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20095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287360" y="157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96840" y="179532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58760" y="181116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1988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284120" y="1579680"/>
            <a:ext cx="400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52560" y="33148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829960" y="333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50040" y="3551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32280" y="356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46440" y="3537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27240" y="353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752560" y="287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798640" y="28926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69120" y="311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73960" y="3112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6440" y="3098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27240" y="309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27240" y="3753000"/>
            <a:ext cx="0" cy="21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82920" y="38113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16640" y="576972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6372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38960" y="3987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761200" y="4208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046320" y="420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57600" y="4194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38400" y="419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043080" y="4413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92520" y="505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6992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900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71880" y="530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86040" y="528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672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92520" y="461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38600" y="46353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808720" y="485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82240" y="485604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86040" y="484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67200" y="48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46200" y="5103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3062160" y="549900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11600" y="5699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86840" y="5715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8094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09420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05120" y="5921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8628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67160" y="5699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32680" y="5715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556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4004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54560" y="592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4652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54240" y="558468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759120" y="55846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46200" y="56944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16240" y="5699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1480" y="5715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114440" y="5935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98840" y="5935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10120" y="5921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90920" y="592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386240" y="558468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2205000" y="156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13040" y="2536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89720" y="2552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13400" y="2773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195640" y="2773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906560" y="2759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190600" y="27590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13040" y="2098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68480" y="21146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14120" y="2335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135160" y="233532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6560" y="2320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190600" y="232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654200" y="23508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81240" y="3321000"/>
            <a:ext cx="104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49840" y="5726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76560" y="178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142080" y="180180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74040" y="202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9160" y="202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70080" y="200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1240" y="200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34980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79800" y="2914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045680" y="2930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91680" y="3151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262400" y="3151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73680" y="3137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40080" y="313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67080" y="278748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654440" y="2932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720320" y="2948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52640" y="3168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37040" y="3168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3154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29120" y="3154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15080" y="277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267080" y="2687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86280" y="2236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063680" y="2252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83760" y="2473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65640" y="248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79800" y="2459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0960" y="2459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86280" y="1798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79880" y="1814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84120" y="2035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26040" y="2035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979800" y="2021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0960" y="2021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286160" y="156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14840" y="1753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4400" y="3212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10120" y="180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075640" y="1817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008320" y="2038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292720" y="203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003640" y="202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84800" y="20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54480" y="22780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26040" y="2274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276880" y="156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21:04Z</cp:lastPrinted>
  <dcterms:modified xsi:type="dcterms:W3CDTF">2007-05-30T05:08:51Z</dcterms:modified>
  <cp:revision>159</cp:revision>
  <dc:subject/>
  <dc:title>슬라이드 제목 없음</dc:title>
</cp:coreProperties>
</file>