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84963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452-70DB-4EA2-9FD3-1F5815B4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AC1-1BC3-4A7E-B2F0-11F68A91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5579-72E6-4B89-B3B8-E92419D4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C39-0899-45D4-A2B8-1875BFFD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B89-0EE1-47CF-8C24-10CE0139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EA6-FF8B-47BB-BE97-78851CB7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FDE-8027-4989-B6BB-22B60CFD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31F-2CF4-4BE9-8043-56B64C56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A5C-C5B2-4859-B21E-A6F65EF6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E8C-0382-4B9B-8561-FB673831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836-07BE-43E2-A312-FAA0C5DB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CB3A-538F-4E81-82FC-A17FE0FA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22C4FF-3924-44EF-B368-6D39466A9F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59920" y="72396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A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612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8092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32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987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778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5760" y="1447920"/>
            <a:ext cx="737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764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922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65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896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48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860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89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622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623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38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768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610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64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302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59600" y="1673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33400" y="16891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57080" y="1909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42200" y="1909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3120" y="1895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26360" y="1895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292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45000" y="2249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21320" y="22654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42480" y="248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27600" y="248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38520" y="247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19680" y="24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45000" y="1811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09800" y="1827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42480" y="2048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13200" y="2048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38520" y="2033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19680" y="2033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938760" y="144288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19680" y="265104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68960" y="5724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34480" y="5740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66080" y="5961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1200" y="5961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62480" y="5946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594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68760" y="3340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45440" y="3355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66240" y="3576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51360" y="3576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62280" y="3562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43440" y="356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68760" y="2901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560" y="2917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75600" y="3138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36960" y="3138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2280" y="3124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43440" y="3124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8120" y="37465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105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065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80720" y="2759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404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891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0044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733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73440" y="4435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50840" y="44514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70920" y="4672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6040" y="4672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6960" y="465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48120" y="4657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73440" y="399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8600" y="4013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80280" y="423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13560" y="42339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66960" y="421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48120" y="421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48120" y="48751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87840" y="554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74960" y="55641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85320" y="578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70440" y="578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81360" y="5770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577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87840" y="5110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52640" y="5126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4680" y="534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90880" y="534672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81360" y="5332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533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0480" y="5553000"/>
            <a:ext cx="23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38600" y="555300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87800" y="5724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54040" y="5740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4360" y="5961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70400" y="5961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81680" y="5946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94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555300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6720" y="5734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82240" y="5749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14560" y="5970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99320" y="5970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10240" y="595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91040" y="595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86360" y="556272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64360" y="5724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9880" y="5740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1840" y="5961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09160" y="59612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7880" y="5946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39040" y="594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34000" y="5553000"/>
            <a:ext cx="0" cy="18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79148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120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0824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2868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1380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2472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0588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3120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9600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81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79940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2472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058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788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5264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76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61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72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456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4488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067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690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2520" y="2759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6728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35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26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358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3120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04280" y="3632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8120" y="3852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1380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2472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9796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00840" y="340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2960" y="1924920"/>
            <a:ext cx="30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신청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12120" y="315720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97920" y="313848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화상자료총매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 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1960" y="1588680"/>
            <a:ext cx="306360" cy="19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완자료 요청내역서통보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318384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통보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81400" y="424800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통보서신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0560" y="57351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58240" y="47095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품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통보품목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62680" y="47271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화상자료매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91240" y="47080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완자료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57960" y="46908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완자료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81760" y="3222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20160" y="29941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92280" y="2025000"/>
            <a:ext cx="306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완자료 제출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98200" y="20095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5T00:01:28Z</cp:lastPrinted>
  <dcterms:modified xsi:type="dcterms:W3CDTF">2002-07-10T09:34:27Z</dcterms:modified>
  <cp:revision>67</cp:revision>
  <dc:subject/>
  <dc:title>슬라이드 제목 없음</dc:title>
</cp:coreProperties>
</file>