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84963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8D5-280D-4611-A8DE-5FC4EED4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CDF-EBE0-46F5-9C24-186C8512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6B6-BB0C-4399-AA6F-264F7549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510-70B5-4D02-A4E9-AEBD5B2B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2B60-0FB9-4FB0-8A0A-6D9862CE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92E-7074-49D5-9D5E-2527F3B8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45A-CE68-4498-9992-AB291666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5FC-96F5-4B9D-A2C8-A79FACCF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9C4-F554-47C0-9C0D-52338E9A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9CB-2547-4392-8CE9-07322723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700-F52A-4984-A4BA-1B926A0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7DC-466A-42DC-A6D0-A3968538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02CA696-16BB-442B-BB4E-763AEE98A7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D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208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751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182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034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146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7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908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647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493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2352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4684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319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324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161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49560" y="2955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6680" y="29718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4704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3216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43440" y="3178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424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49560" y="2517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14720" y="2533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6120" y="2744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42520" y="275436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43440" y="2739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424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17204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19560" y="34034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4099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114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5280" y="2759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089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940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050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82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29280" y="3505320"/>
            <a:ext cx="41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9560" y="3657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24800" y="3673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6840" y="3894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32160" y="38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43440" y="38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24240" y="38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6280" y="350532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16280" y="3657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91520" y="36734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32840" y="3894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98880" y="38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10160" y="3879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0960" y="38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33920" y="351468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64280" y="3666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8800" y="3683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1200" y="3903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46880" y="3903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3889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38960" y="388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53120" y="351468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83120" y="3666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58360" y="3683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99680" y="3903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65720" y="3903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77000" y="3889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7800" y="388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72320" y="351468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02320" y="3666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77560" y="36831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880" y="3903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4920" y="3903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96200" y="3889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77000" y="388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00880" y="350532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30880" y="3657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5760" y="3673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47440" y="3894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13480" y="38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24760" y="3879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05560" y="38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18640" y="16858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80280" y="17017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27280" y="16668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8920" y="37209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70920" y="37368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17560" y="37018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7252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7252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2480" y="1963080"/>
            <a:ext cx="30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신청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07320" y="3148920"/>
            <a:ext cx="428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24160" y="3203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총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1000" y="2966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97800" y="4037760"/>
            <a:ext cx="42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제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9160" y="408996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품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요효능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70480" y="3933360"/>
            <a:ext cx="30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군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청신고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6160" y="41176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50560" y="414576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규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53280" y="408996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격적용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0880" y="1929600"/>
            <a:ext cx="30636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자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약 내역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0636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6836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500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1447920"/>
            <a:ext cx="695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D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2520" y="3181320"/>
            <a:ext cx="436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2520" y="319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95480" y="34164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57480" y="343224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4120" y="3397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62080" y="4524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7320" y="4540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78640" y="476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44680" y="476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5960" y="474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36760" y="474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2720" y="383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48840" y="38545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0200" y="407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3532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46240" y="406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740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2720" y="3400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17520" y="3416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200" y="3637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02200" y="3637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46240" y="362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27400" y="362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22360" y="42829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130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24160" y="4400640"/>
            <a:ext cx="25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81160" y="440676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11520" y="4559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86400" y="4575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28080" y="479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94120" y="479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05040" y="478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6200" y="478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440676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87600" y="4559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62840" y="4575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04160" y="479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70200" y="479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81480" y="478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2280" y="478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76800" y="440676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06800" y="4559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82400" y="45752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23360" y="479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89400" y="479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00680" y="478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81480" y="478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439740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06920" y="4549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82160" y="45655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23480" y="4786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89520" y="4786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00440" y="4772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81600" y="477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05640" y="319104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48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10880" y="3498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2560" y="3719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8240" y="3719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29160" y="37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10320" y="37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4760" y="2162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22440" y="21780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2240" y="239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37360" y="2398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48640" y="2384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29440" y="238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4760" y="1724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19920" y="1739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81400" y="1960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04240" y="1960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48640" y="1946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29440" y="194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10240" y="144792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40240" y="1739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5840" y="17557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56800" y="197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22840" y="19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1962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14920" y="196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15040" y="144792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24760" y="261936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64480" y="2771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9000" y="27874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81400" y="3008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47080" y="300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99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139160" y="2994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58040" y="144792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88400" y="17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63640" y="175572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04600" y="197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271000" y="19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981920" y="196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63080" y="196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67160" y="3822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입기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22640" y="5049720"/>
            <a:ext cx="14014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약품규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약품단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약품품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4840" y="5013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입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0640" y="49759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단위당가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9480" y="503136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9320" y="496656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분량당가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0640" y="389952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용법및용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효능및효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86840" y="2222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040" y="2751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01280" y="27669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43320" y="298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08640" y="298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2973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29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26760" y="320472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299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58320" y="208584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0-07-03T06:38:26Z</cp:lastPrinted>
  <dcterms:modified xsi:type="dcterms:W3CDTF">2002-07-10T09:34:43Z</dcterms:modified>
  <cp:revision>66</cp:revision>
  <dc:subject/>
  <dc:title>슬라이드 제목 없음</dc:title>
</cp:coreProperties>
</file>