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9274-B9BD-407C-AE30-BA589F163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F297-0805-4ACA-963F-6D8C48DC9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3499-ECEB-4651-9E79-660F62861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9F07-4700-4DE7-8D93-3A1755CEF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F290-1858-449E-97A2-F8F81E287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37D6-6F15-4513-8CED-8370BE105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58FF-B65E-438B-9E8A-F8D3A0FA5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257A-CC92-458C-92D4-2D86AE0A5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F422-D47F-4B4D-A460-9E2CF326B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8445-82B4-4CA6-86A1-47E76BD2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3C0D-388D-4740-9D07-61A7C774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DC86-BE70-43CC-AA83-94205D81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CCDCBFB-3CB2-4DC3-8940-D6A57AAA4B3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돋움체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돋움체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체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바탕체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SH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25640" y="1682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90440" y="1698480"/>
            <a:ext cx="404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2312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0824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120" y="13716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3280" y="30751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1916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3280" y="42940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3280" y="55897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1447920"/>
            <a:ext cx="711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22480" y="1947240"/>
            <a:ext cx="306360" cy="17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청구번호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+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명세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8592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978280" y="2739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70800" y="27558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995200" y="29764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88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71800" y="2962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4468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25764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58960" y="1682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13320" y="169848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BG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5644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4156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5248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2572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289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0320" y="99072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62908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30280" y="27432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04440" y="27590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27760" y="2979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612880" y="2979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324160" y="2965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97040" y="296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64080" y="1682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37880" y="16984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6120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4668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5760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3048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3372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72400" y="2955240"/>
            <a:ext cx="428040" cy="20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사업장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보장기관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기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기관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기관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기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88720" y="3083400"/>
            <a:ext cx="54972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액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정율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공상  등 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의료급여 종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16360" y="29592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93400" y="29750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713840" y="3195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998960" y="3195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710240" y="3181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991040" y="3181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16360" y="25210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781520" y="25369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14560" y="27576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84920" y="2757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10240" y="2743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91040" y="2743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938840" y="145080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30760" y="36608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795920" y="367668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28960" y="38973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13360" y="38973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724280" y="38829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05440" y="3882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91040" y="3409920"/>
            <a:ext cx="0" cy="25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52880" y="2877840"/>
            <a:ext cx="67140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사유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명세서 일련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접수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청구구분 코드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413920" y="1438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128080" y="166356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290080" y="167940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136720" y="16444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71640" y="1805760"/>
            <a:ext cx="306360" cy="27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의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치과용 요양급여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의료급여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비용 명세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27399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341040" y="27558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64720" y="29764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531120" y="2976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2040" y="2962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515280" y="2962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52788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5899320" y="1447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00880" y="27432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674680" y="27590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598000" y="29797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883120" y="2979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94400" y="2965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67280" y="296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642640" y="3052440"/>
            <a:ext cx="428040" cy="13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수진자 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가입자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세대주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성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318720" y="3027240"/>
            <a:ext cx="428040" cy="14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수진자 주민등록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증번호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장시설기호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169040" y="26496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227000" y="26654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176600" y="24480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51640" y="28861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2920" y="28576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443720" y="2871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169040" y="22114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262640" y="22273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176240" y="28908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37600" y="2448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162920" y="24289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443720" y="2433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7448400" y="1447920"/>
            <a:ext cx="0" cy="76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39040" y="3094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169040" y="34718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234920" y="34876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85600" y="37051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51640" y="37083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162920" y="36957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443720" y="3693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6080" y="228600"/>
            <a:ext cx="5005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다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1" lang="zh-CN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</a:t>
            </a:r>
            <a:r>
              <a:rPr b="1" lang="en-US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(Message branching diagra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81800" y="2022480"/>
            <a:ext cx="30276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59640" y="4019760"/>
            <a:ext cx="30276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돋움"/>
                <a:ea typeface="돋움"/>
              </a:rPr>
              <a:t>최초입원개시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3280" y="3227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93280" y="4370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93280" y="5513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9060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68480" y="168264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36836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7712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95280" y="1447920"/>
            <a:ext cx="7010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SH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82920" y="26449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52040" y="266076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499480" y="28814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65520" y="2881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476440" y="28670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757600" y="2867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82920" y="22068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76520" y="222264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480400" y="24433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34200" y="243828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476440" y="2428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57600" y="2428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2752560" y="1447560"/>
            <a:ext cx="0" cy="75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52560" y="308916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463840" y="3467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67160" y="348300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461680" y="37036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46440" y="3703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457360" y="3689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38520" y="3689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45000" y="26370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22040" y="265284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42480" y="28735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27600" y="2873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38520" y="2859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19680" y="2859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45000" y="21985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638600" y="22147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51840" y="24354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85120" y="243540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38520" y="24210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9680" y="2421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767120" y="1447560"/>
            <a:ext cx="0" cy="74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815000" y="308124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45000" y="34592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610160" y="347508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43200" y="36957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827600" y="36957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38520" y="36813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819680" y="3681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82640" y="26398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76960" y="265572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680840" y="28764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927440" y="287640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76520" y="28623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38240" y="2862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083040" y="3467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57920" y="348300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80880" y="37036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65640" y="3703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76560" y="3689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357720" y="3689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52560" y="3276720"/>
            <a:ext cx="122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20920" y="391788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치식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99360" y="3799800"/>
            <a:ext cx="42804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내과세부전문과목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진료과목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012160" y="168264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074080" y="169848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03520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2821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7137360" y="1433520"/>
            <a:ext cx="0" cy="76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58000" y="26496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963480" y="2665440"/>
            <a:ext cx="351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5480" y="28861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137360" y="28972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1520" y="28717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32680" y="2871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0" y="22114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941880" y="22273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6200" y="24480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107480" y="244800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1520" y="2433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132680" y="2433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38920" y="37638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96520" y="378000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36400" y="4000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21520" y="4000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113600" y="3986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38920" y="33256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923160" y="33415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36400" y="35622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059600" y="3562200"/>
            <a:ext cx="326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32440" y="35481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113600" y="3548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7128000" y="3087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412040" y="269028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항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626240" y="376092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720920" y="3776760"/>
            <a:ext cx="351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623720" y="39974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908840" y="3997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620120" y="39830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900920" y="3983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842160" y="3983040"/>
            <a:ext cx="84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151840" y="380808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목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19840" y="48783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26040" y="489420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17320" y="51148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102440" y="51148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13720" y="51004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94520" y="5100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819840" y="44402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865920" y="445608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17320" y="46767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981120" y="467676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13720" y="46623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94520" y="4662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7118280" y="4201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29560" y="5540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03000" y="555624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26680" y="5776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112160" y="5776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23080" y="5762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095960" y="5762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099200" y="5329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086600" y="5410080"/>
            <a:ext cx="132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155080" y="553068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217000" y="5546880"/>
            <a:ext cx="420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177760" y="55119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410680" y="5410080"/>
            <a:ext cx="0" cy="13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706920" y="34624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781800" y="347832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733560" y="36990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89520" y="3699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700440" y="3684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81600" y="368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195640" y="2515320"/>
            <a:ext cx="306360" cy="18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상병분류기호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상병분류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672440" y="3909600"/>
            <a:ext cx="42804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내원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372720" y="3552480"/>
            <a:ext cx="4280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477120" y="489060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61600" y="1942200"/>
            <a:ext cx="428040" cy="14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입원일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총내원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급여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352680" y="3276720"/>
            <a:ext cx="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971880" y="3276720"/>
            <a:ext cx="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1944720" y="1447560"/>
            <a:ext cx="0" cy="119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64280" y="26398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358600" y="26557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262120" y="28764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508720" y="2876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257800" y="28623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19880" y="2862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81640" y="306252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진료결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5526000" y="1447560"/>
            <a:ext cx="0" cy="119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950080" y="26398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44400" y="26557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TD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947920" y="28764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194520" y="2876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943600" y="28623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205680" y="2862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067440" y="306252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입원경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6211800" y="1447560"/>
            <a:ext cx="0" cy="119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276960" y="5647320"/>
            <a:ext cx="671400" cy="7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코드구분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73960" y="55530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575840" y="55688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472160" y="57895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756560" y="5789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467480" y="57754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740720" y="5775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596360" y="492084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변경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743960" y="5410080"/>
            <a:ext cx="0" cy="13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549520" y="3764520"/>
            <a:ext cx="306360" cy="17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당월요양개시일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내원일자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93280" y="29224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93280" y="3989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93280" y="5132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28736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99684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05876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06596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95280" y="1447920"/>
            <a:ext cx="705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SH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247760" y="4491000"/>
            <a:ext cx="28926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247760" y="4500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90720" y="472608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152360" y="4741920"/>
            <a:ext cx="42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999360" y="471168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68560" y="515160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71160" y="5167440"/>
            <a:ext cx="355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66040" y="53881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151160" y="53881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862440" y="53737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135320" y="5373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43240" y="4492800"/>
            <a:ext cx="0" cy="66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617920" y="51544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691720" y="51703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615760" y="53910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900520" y="5391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611440" y="53769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884320" y="5376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92600" y="4495680"/>
            <a:ext cx="0" cy="66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6083280" y="14475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803920" y="29494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880600" y="296532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801400" y="31860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083280" y="3197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797440" y="31719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078600" y="3171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803920" y="25113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850000" y="25272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20840" y="27478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025320" y="2747880"/>
            <a:ext cx="3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797440" y="27338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78600" y="27338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078600" y="338760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738880" y="2522520"/>
            <a:ext cx="140148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보훈청구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진료비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장애인의료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대불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부담상한액초과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청구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본인일부부담금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요양급여비용 총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504040" y="2957400"/>
            <a:ext cx="30636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처방전 교부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924720" y="5607720"/>
            <a:ext cx="428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금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단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986120" y="51544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059920" y="517032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983240" y="53910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268360" y="5391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79640" y="53769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252520" y="5376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491840" y="4701960"/>
            <a:ext cx="549720" cy="18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회투약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총 투여일수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,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실시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 투여량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,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투여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실시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236680" y="4495680"/>
            <a:ext cx="0" cy="66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43240" y="51544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345480" y="517032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241440" y="53910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5840" y="53910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6760" y="53769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510000" y="5376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517920" y="4495680"/>
            <a:ext cx="0" cy="66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358080" y="556596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치식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504040" y="396396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처방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5080" y="37591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90320" y="377496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2560" y="3995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097680" y="3995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808600" y="3981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089760" y="3981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075360" y="3581280"/>
            <a:ext cx="60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675480" y="3581280"/>
            <a:ext cx="0" cy="19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945840" y="3650760"/>
            <a:ext cx="4280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현행미사용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반복조제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424560" y="37720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500160" y="378792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422760" y="40086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707160" y="4008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418440" y="3994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699240" y="3994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6094440" y="4200480"/>
            <a:ext cx="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43520" y="484488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921280" y="486108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841000" y="50817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22880" y="5092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837400" y="50673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118200" y="5067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843520" y="44067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889600" y="44226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0080" y="46432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033240" y="464328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37400" y="46292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118200" y="4629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504040" y="4932000"/>
            <a:ext cx="30636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6113520" y="5286240"/>
            <a:ext cx="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862600" y="5486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938200" y="550224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860080" y="5722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145200" y="5722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856120" y="5708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137280" y="5708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258880" y="5531040"/>
            <a:ext cx="54972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총투약일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일투여횟수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회투약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10240" y="54864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585480" y="550224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507720" y="5722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792840" y="5722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504120" y="57085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784920" y="5708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113520" y="5372280"/>
            <a:ext cx="193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780240" y="537228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676200" y="472608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코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코드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169040" y="1682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243200" y="169848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16652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45164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162920" y="1905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43580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43904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169040" y="54864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244640" y="5502240"/>
            <a:ext cx="355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167240" y="57229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451640" y="5722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162920" y="57085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443720" y="5708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439040" y="537228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788240" y="54864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863840" y="550224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786440" y="57229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070840" y="5722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781760" y="57085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062920" y="5708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8058240" y="537228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069400" y="1682640"/>
            <a:ext cx="52056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8131320" y="1698480"/>
            <a:ext cx="420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09208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33904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288560" y="2012760"/>
            <a:ext cx="30276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0480" y="16826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204640" y="169848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127960" y="1919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413080" y="1919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2400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39724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40048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250000" y="2036520"/>
            <a:ext cx="30276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굴림체"/>
                <a:ea typeface="굴림체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121280" y="26398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215240" y="2655720"/>
            <a:ext cx="418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O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118400" y="287640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366080" y="2876400"/>
            <a:ext cx="297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114800" y="28623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376880" y="2862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4383000" y="1447560"/>
            <a:ext cx="0" cy="119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807080" y="263988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901400" y="265572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C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804920" y="28764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51520" y="2876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800600" y="28623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062680" y="2862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5068800" y="1447560"/>
            <a:ext cx="0" cy="119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387360" y="539640"/>
            <a:ext cx="844560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42440" y="1287360"/>
            <a:ext cx="576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93280" y="1820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93280" y="29224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93280" y="3989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93280" y="513252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251000" y="144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996840" y="16826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058760" y="1698480"/>
            <a:ext cx="4208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067400" y="1663560"/>
            <a:ext cx="50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Se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Pag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243080" y="1447920"/>
            <a:ext cx="496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839040" y="731880"/>
            <a:ext cx="1684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전자문서 구조도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AGE 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(MEDSH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2120760" y="1447920"/>
            <a:ext cx="0" cy="61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841400" y="24987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918440" y="2514600"/>
            <a:ext cx="383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R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838880" y="27352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120760" y="27464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835280" y="27208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116080" y="2720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841400" y="206064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887480" y="207648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858680" y="22971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051640" y="2289240"/>
            <a:ext cx="3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835280" y="22827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116080" y="2282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116080" y="292104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407240" y="2285280"/>
            <a:ext cx="42804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처방전교부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발생단위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528920" y="4200120"/>
            <a:ext cx="306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모호성분리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852560" y="33084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928160" y="3324240"/>
            <a:ext cx="39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N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850760" y="35449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135160" y="3544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846440" y="35305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127240" y="3530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112840" y="3130560"/>
            <a:ext cx="60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712960" y="3130560"/>
            <a:ext cx="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462040" y="33210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537640" y="3336840"/>
            <a:ext cx="39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Q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460240" y="35575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744640" y="35575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455920" y="35434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736720" y="3543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2124000" y="374940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881360" y="439416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958400" y="4410000"/>
            <a:ext cx="36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878480" y="463068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160720" y="4641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874880" y="4616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147760" y="4616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881360" y="395604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927080" y="397188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897560" y="41925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071080" y="4192560"/>
            <a:ext cx="41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874880" y="41781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147760" y="4178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2151000" y="4835520"/>
            <a:ext cx="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900080" y="5035680"/>
            <a:ext cx="52092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974960" y="505152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898280" y="52722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182680" y="5272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893960" y="5257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174760" y="525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548080" y="503568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624040" y="5051520"/>
            <a:ext cx="343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L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545920" y="527220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830680" y="5272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541600" y="5257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822400" y="525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158920" y="4921200"/>
            <a:ext cx="65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817720" y="49212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672280" y="5533560"/>
            <a:ext cx="428040" cy="5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줄번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556000" y="5257800"/>
            <a:ext cx="906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330720" y="503712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407760" y="505296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G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327840" y="52736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10080" y="52848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324240" y="52592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605040" y="5259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330720" y="4599000"/>
            <a:ext cx="52056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376440" y="461484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346920" y="48355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559680" y="4835520"/>
            <a:ext cx="3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324240" y="4821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05040" y="482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3600360" y="5478480"/>
            <a:ext cx="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349800" y="56786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424680" y="569448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FT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346920" y="591516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632040" y="5915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343320" y="5900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624120" y="5900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997440" y="567864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072320" y="5694480"/>
            <a:ext cx="37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T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995280" y="591516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280040" y="59151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990960" y="590076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272120" y="5900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600360" y="5564160"/>
            <a:ext cx="66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267080" y="556416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5362560" y="14475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083200" y="236232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160240" y="2378160"/>
            <a:ext cx="3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A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080680" y="259884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365800" y="2598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076720" y="258444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357880" y="2584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083200" y="1924200"/>
            <a:ext cx="52056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138640" y="1940040"/>
            <a:ext cx="439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Gr.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081400" y="216072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370480" y="2160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076720" y="2146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357880" y="2146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084640" y="303516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77160" y="3051000"/>
            <a:ext cx="40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D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082840" y="3271680"/>
            <a:ext cx="25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367240" y="32716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078520" y="32576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51400" y="3257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354640" y="2809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208560" y="1447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948280" y="1895400"/>
            <a:ext cx="520920" cy="44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014160" y="1911240"/>
            <a:ext cx="39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U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945760" y="2131920"/>
            <a:ext cx="27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230880" y="2131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942160" y="21178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222960" y="2117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788000" y="2475000"/>
            <a:ext cx="30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인증결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891600" y="4685760"/>
            <a:ext cx="4280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특정내역구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088440" y="5618160"/>
            <a:ext cx="42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  <a:ea typeface="돋움"/>
              </a:rPr>
              <a:t>특정내역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8T08:21:48Z</dcterms:created>
  <dc:creator>(주)KT인포텍</dc:creator>
  <dc:description/>
  <dc:language>en-US</dc:language>
  <cp:lastModifiedBy>Phillip</cp:lastModifiedBy>
  <cp:lastPrinted>2001-07-04T11:11:32Z</cp:lastPrinted>
  <dcterms:modified xsi:type="dcterms:W3CDTF">2007-06-05T06:30:37Z</dcterms:modified>
  <cp:revision>126</cp:revision>
  <dc:subject/>
  <dc:title>슬라이드 제목 없음</dc:title>
</cp:coreProperties>
</file>