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2C1E-2066-41D1-9294-F3B9E5211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4837-7BEA-4D7D-9F8F-46939A84C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F6FB-CC32-4906-943D-6B20BF0D7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0D96-4792-4C83-BAD4-11721E04F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2911-892D-4A1C-AD9F-8F224E2B2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DFBF-B610-470D-8E7E-E0CBE9DFD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498B-374A-48B7-9B90-49ABD4C15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B124-FBAA-4420-8C93-7EF1A1A1D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45BE-88A0-43A6-8054-AB37B2030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FD94-F541-4B74-9FDD-AF06EAA09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77EE-BEC1-48EF-9511-8E5E3F738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F778-CFA5-44BB-BCF4-4CD4B9F2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CE351BB-8345-4FE4-B3EB-67A035B8608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돋움체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7360" y="539640"/>
            <a:ext cx="8445600" cy="598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3832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A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1682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2080" y="1698480"/>
            <a:ext cx="404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2440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0952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4760" y="13716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20800" y="1905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8920" y="42940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8920" y="55897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900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87560" y="1447920"/>
            <a:ext cx="7334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27400" y="26719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310920" y="268776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24880" y="29084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10000" y="29084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20920" y="28940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94160" y="2894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63840" y="1609560"/>
            <a:ext cx="306360" cy="39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요양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의료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급여비용 원외처방 약제비심사결과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추가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통보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71640" y="1724760"/>
            <a:ext cx="306360" cy="32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참조번호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정산심사차수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정산통보번호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)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8756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627280" y="26654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720160" y="268128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24760" y="29019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909880" y="2901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620800" y="28875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894040" y="2887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87880" y="3201840"/>
            <a:ext cx="306360" cy="8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446120" y="1682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00840" y="169848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G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4360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2872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40000" y="1905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1288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123920" y="2453400"/>
            <a:ext cx="30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338640" y="311472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지원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99072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78080" y="1456920"/>
            <a:ext cx="0" cy="120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008080" y="266868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081520" y="268452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05560" y="29052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90680" y="2905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001960" y="28908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74840" y="2890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63960" y="307944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정산통보일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724120" y="2948760"/>
            <a:ext cx="30636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요양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의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급여기관  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9280" y="2836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28600"/>
            <a:ext cx="4624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다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1" lang="zh-CN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(Message branching diagra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2895480" y="1455840"/>
            <a:ext cx="0" cy="1203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3503520" y="1455840"/>
            <a:ext cx="0" cy="1203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75040" y="2662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41280" y="26780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73240" y="28987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57640" y="2898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68560" y="2884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149720" y="2884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125960" y="1449360"/>
            <a:ext cx="0" cy="12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19400" y="313848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10480" y="4943520"/>
            <a:ext cx="550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(F08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83360" y="26575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69400" y="2673360"/>
            <a:ext cx="372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M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279040" y="2898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27640" y="289404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76880" y="28796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529240" y="2879640"/>
            <a:ext cx="0" cy="62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283360" y="22194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48160" y="22352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280480" y="2455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495040" y="2455920"/>
            <a:ext cx="35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76880" y="24415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529240" y="2441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5546880" y="14479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43640" y="2890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997680" y="38703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063200" y="388620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995880" y="41068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280280" y="41068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00760" y="4102200"/>
            <a:ext cx="723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272360" y="4092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142040" y="434664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27800" y="3284640"/>
            <a:ext cx="10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264280" y="3508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47440" y="35244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261400" y="37450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09080" y="374508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257800" y="3730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530680" y="3730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18800" y="3874680"/>
            <a:ext cx="115812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청구단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험자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청구서 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묶음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접수년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접수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청구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차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050320" y="167940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211960" y="169560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058960" y="166068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426520" y="144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480440" y="391284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참조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767120" y="14526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06840" y="19098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720" y="19256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04320" y="21463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789440" y="21463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00720" y="21319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781520" y="2131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616640" y="2331720"/>
            <a:ext cx="30636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구분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제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323040" y="4975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71640" y="49910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318720" y="52164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357960" y="5211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316560" y="5197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323040" y="45277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387840" y="45435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30600" y="47642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20040" y="47642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316560" y="47498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607080" y="4749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602400" y="52214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585120" y="518472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961320" y="59310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16040" y="5946840"/>
            <a:ext cx="422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959160" y="61675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243920" y="6167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799320" y="6153120"/>
            <a:ext cx="68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227720" y="6153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918760" y="5831640"/>
            <a:ext cx="42804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담당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담당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469280" y="585648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전화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330960" y="59371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379560" y="5952960"/>
            <a:ext cx="3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345720" y="61786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365880" y="6173640"/>
            <a:ext cx="1843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324480" y="6159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330960" y="5489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396120" y="55054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328440" y="5726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580080" y="5726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24480" y="57117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586560" y="5711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10320" y="61833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593040" y="6165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6593040" y="4253040"/>
            <a:ext cx="0" cy="255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18360" y="38782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414480" y="389412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315840" y="41148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00960" y="4114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311880" y="41004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93040" y="4100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318360" y="34401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411960" y="34560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315840" y="36766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555240" y="367668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311880" y="3662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593040" y="3662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564240" y="3284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27840" y="393084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연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597720" y="4437000"/>
            <a:ext cx="184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062920" y="465768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224920" y="4673520"/>
            <a:ext cx="4204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071560" y="463860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439120" y="4437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675400" y="4782960"/>
            <a:ext cx="67140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업무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업무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담당자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담당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87360" y="539640"/>
            <a:ext cx="8445600" cy="5972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93280" y="29224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93280" y="3989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93280" y="5132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873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96840" y="168264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058760" y="169848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01988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287360" y="1447920"/>
            <a:ext cx="702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3832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A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81280" y="487692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5105520"/>
            <a:ext cx="2514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287360" y="2133720"/>
            <a:ext cx="7002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295280" y="2141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004760" y="237636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066680" y="239220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027800" y="235728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437000" y="2905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83080" y="29210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53560" y="3141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658400" y="3141720"/>
            <a:ext cx="35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30880" y="3127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711680" y="3127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925880" y="2775600"/>
            <a:ext cx="306360" cy="12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조제기관접수년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4708440" y="3782520"/>
            <a:ext cx="0" cy="18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26040" y="36417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148080" y="365760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23520" y="38782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319800" y="38703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19920" y="38638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324480" y="3863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26040" y="32004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19640" y="32162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43320" y="34369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224040" y="3436920"/>
            <a:ext cx="410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34164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305400" y="3413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13480" y="364284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6326280" y="4082760"/>
            <a:ext cx="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33760" y="3968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509000" y="39844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31240" y="4205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716360" y="4205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427640" y="4191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70844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703760" y="3857760"/>
            <a:ext cx="134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167800" y="4373280"/>
            <a:ext cx="4280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제기관명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제기관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092560" y="3967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168160" y="39830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090040" y="4203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380200" y="4199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086440" y="4189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372280" y="4184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424400" y="4289040"/>
            <a:ext cx="67140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조제기관명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조제기관접수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처방전교부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37000" y="33480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513320" y="33638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34480" y="35845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716360" y="3595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430880" y="3570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711680" y="3570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43280" y="2793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020320" y="280980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940400" y="3030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222640" y="30416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936800" y="30160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09680" y="3016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43280" y="23464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036520" y="23716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940400" y="25923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146320" y="2577960"/>
            <a:ext cx="466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936800" y="25779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17600" y="2577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11480" y="3205080"/>
            <a:ext cx="0" cy="50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543040" y="3697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608920" y="37130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540520" y="3933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5640" y="3933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536920" y="39196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817720" y="3919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276560" y="2492640"/>
            <a:ext cx="671400" cy="15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사업장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장기관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가입자성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수진자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세대주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성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2216160" y="2131920"/>
            <a:ext cx="0" cy="21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129120" y="36957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194640" y="371160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126240" y="39322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383280" y="393228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122640" y="3917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403440" y="3917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205000" y="3567240"/>
            <a:ext cx="2220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395520" y="3579840"/>
            <a:ext cx="0" cy="11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716280" y="369900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781800" y="371484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714480" y="39355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998880" y="3935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10160" y="3921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990960" y="392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983040" y="3567240"/>
            <a:ext cx="0" cy="11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28960" y="4101840"/>
            <a:ext cx="30636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명일련 비고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365800" y="3860640"/>
            <a:ext cx="0" cy="9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46920" y="47149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123600" y="47307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44040" y="49514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340320" y="4943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040440" y="49370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45360" y="4937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046920" y="42768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124320" y="42926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63120" y="45133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040440" y="4492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326280" y="4489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304320" y="450540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656400" y="53830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732000" y="539892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653880" y="56196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916680" y="56293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649920" y="56055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935760" y="5605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660720" y="4017960"/>
            <a:ext cx="5497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총투인정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일투인정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회투약량인정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327160" y="5139360"/>
            <a:ext cx="42804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비고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의약품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804080" y="53830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879320" y="539892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801560" y="56196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086680" y="5619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797960" y="56055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078760" y="5605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074080" y="526896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232760" y="53830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308000" y="53989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230240" y="56196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515360" y="5619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226280" y="56055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507440" y="5605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502400" y="527040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380360" y="573084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정사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194520" y="580248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환수금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6351480" y="5180040"/>
            <a:ext cx="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345360" y="5265720"/>
            <a:ext cx="171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070680" y="53863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145560" y="540216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068160" y="56228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330960" y="56325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064200" y="5608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350040" y="5608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652000" y="4309560"/>
            <a:ext cx="4280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심사결정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929280" y="526572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31204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031240" y="167328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093160" y="1689120"/>
            <a:ext cx="420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054280" y="165420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99440" y="2141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018640" y="235728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080200" y="237348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041320" y="2338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951200" y="3697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017800" y="37130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L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948320" y="3933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233440" y="3933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944720" y="3919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225520" y="3919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019960" y="4087440"/>
            <a:ext cx="428040" cy="11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환급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정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865240" y="1964160"/>
            <a:ext cx="914760" cy="17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결정금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훈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험자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장기관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기관환수금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계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정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814480" y="3571920"/>
            <a:ext cx="0" cy="11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479680" y="4003200"/>
            <a:ext cx="671400" cy="15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의료급여종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증 번호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보장시설기호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명세서 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93280" y="29224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93280" y="3989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93280" y="5132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2873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96840" y="168264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058760" y="169848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01988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287360" y="1447920"/>
            <a:ext cx="5176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83832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A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581280" y="487692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505320" y="5105520"/>
            <a:ext cx="2514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287360" y="2133720"/>
            <a:ext cx="187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295280" y="2141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4760" y="237636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066680" y="239220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027800" y="235728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5802480" y="14475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522760" y="23716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99800" y="2387520"/>
            <a:ext cx="3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U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520240" y="26082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805360" y="2608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516640" y="25938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797440" y="2593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522760" y="19335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578560" y="194940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520960" y="21700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810400" y="21700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516640" y="21556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97440" y="2155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524560" y="30448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616720" y="306072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522400" y="32814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807160" y="3281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518080" y="32670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791320" y="3267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796000" y="2809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465960" y="1447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205680" y="19051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271560" y="1920960"/>
            <a:ext cx="39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202800" y="21416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88280" y="21416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99200" y="2127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480000" y="2127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259240" y="248436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인증결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064120" y="14526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803840" y="19098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869720" y="19256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801320" y="21463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086440" y="21463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97360" y="2131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078520" y="2131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13280" y="2331720"/>
            <a:ext cx="30636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구분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제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481120" y="230832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52880" y="2120400"/>
            <a:ext cx="0" cy="1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849400" y="27288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926440" y="27446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846880" y="29653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132000" y="29653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843280" y="29512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124080" y="2951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49400" y="228132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943000" y="22971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846880" y="25178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117960" y="2517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843280" y="25034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124080" y="2503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854440" y="34401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921040" y="34560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L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851920" y="36766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137040" y="3676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847960" y="3662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129120" y="3662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14840" y="329076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35480" y="34401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501000" y="345600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447000" y="36766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670560" y="367668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429000" y="3662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695760" y="3662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011480" y="343548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077720" y="345132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008960" y="36720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294080" y="3672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005360" y="3657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286160" y="3657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272120" y="328284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117960" y="3284640"/>
            <a:ext cx="1139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935800" y="3618720"/>
            <a:ext cx="428040" cy="15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 환급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504320" y="3503880"/>
            <a:ext cx="428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건수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119400" y="3162240"/>
            <a:ext cx="0" cy="28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272400" y="3805920"/>
            <a:ext cx="79308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결정금액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훈부담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험자 부담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기관환수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환수금액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416680" y="2327400"/>
            <a:ext cx="428040" cy="13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정사항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합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073240" y="2131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812960" y="25891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918440" y="260496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810440" y="28256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095560" y="28256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806480" y="2811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087640" y="2811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928880" y="299844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8T08:21:48Z</dcterms:created>
  <dc:creator>(주)KT인포텍</dc:creator>
  <dc:description/>
  <dc:language>en-US</dc:language>
  <cp:lastModifiedBy>Phillip</cp:lastModifiedBy>
  <cp:lastPrinted>2001-07-05T00:19:08Z</cp:lastPrinted>
  <dcterms:modified xsi:type="dcterms:W3CDTF">2006-05-17T01:19:09Z</dcterms:modified>
  <cp:revision>227</cp:revision>
  <dc:subject/>
  <dc:title>슬라이드 제목 없음</dc:title>
</cp:coreProperties>
</file>