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78A-7785-4FD6-892F-F6A67C67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1CB-5D53-4C67-97CE-FED0830C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6B2-97A6-4648-BA85-40780FA9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7DD-4C11-4A3A-BB6C-75346F02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506-0E12-4B3D-BB36-1F4C3738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F72-E1A2-47D9-B589-C3561B1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C4B-4A4A-4617-ADBE-D688B1F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350-1F40-45C4-9569-1C034A5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61A-895B-4141-8B14-34D79BB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26D-CCF6-4ACE-BD01-5861D4D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868-153D-4F30-BBC5-C0B942D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C8E-DE6A-4098-83E7-E630648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4C34C7-63A3-493D-8146-008E3BA600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605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382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702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52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7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60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620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2720" y="3139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208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49840" y="143784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520" y="383508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9928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12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0792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7584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004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190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15640" y="1924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7240" y="214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13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4440" y="213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9200" y="233028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19922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200" y="20080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3840" y="1973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176220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556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876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420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2176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4760" y="1733400"/>
            <a:ext cx="26182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336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4520" y="3786480"/>
            <a:ext cx="1401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본인부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21680" y="5559120"/>
            <a:ext cx="67140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605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578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1200" y="23605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0200" y="20750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548400" y="620712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8400" y="62071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317080" y="6372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72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55840" y="3473280"/>
            <a:ext cx="42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66080" y="197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9280" y="19922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74720" y="195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42280" y="175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76360" y="1773360"/>
            <a:ext cx="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440" y="280944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84920" y="3879000"/>
            <a:ext cx="6714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363760" y="4802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3760" y="4802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237280" y="278136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7280" y="2781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50956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72960" y="2195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77360" y="21891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141720" y="230652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1720" y="23065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260880" y="2306520"/>
          <a:ext cx="15048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60880" y="2306520"/>
                    <a:ext cx="1504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908760" y="6140520"/>
          <a:ext cx="150840" cy="206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6140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02004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25920" y="267948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78200" y="193212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1216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4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3520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5960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9316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6824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868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15288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1940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8564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1688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0200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1328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940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800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1200" y="3284640"/>
            <a:ext cx="11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67640" y="184176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3056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8800" y="3770640"/>
            <a:ext cx="16448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07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46840" y="2730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2388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432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944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036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215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684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022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50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689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403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215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2008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341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281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56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8512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65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357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7404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49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389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033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364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15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324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056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128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5884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7500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13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2812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773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6516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51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992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708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408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86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2604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4576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3088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216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2296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864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0408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457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462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216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1229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1504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6716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304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7904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4976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6104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2780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0216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1182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1660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8248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140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9920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1012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12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2928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2132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8432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1880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0068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48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92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88808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43360" y="2674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3392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186600" y="206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918480" y="20764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20764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454640" y="51516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4640" y="5151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8272440" y="623736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8172360" y="62406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6240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2843640" y="362196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14479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2959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936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408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992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101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9128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166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720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144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38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101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9128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1804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102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162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06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115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848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880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12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968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284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44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056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181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78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18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84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52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2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27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2060640"/>
            <a:ext cx="14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750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408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65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576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85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52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622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51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71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322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31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43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099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525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112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88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786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08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7500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558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750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3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590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750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58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7813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19:52Z</dcterms:modified>
  <cp:revision>229</cp:revision>
  <dc:subject/>
  <dc:title>슬라이드 제목 없음</dc:title>
</cp:coreProperties>
</file>