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EC1-F537-4E0F-8A25-030E47F4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BA2-5778-4F45-9F43-C0FBD20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C2F-689E-46B1-BC8E-DEE0A48D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88A-77A0-483B-B84B-183CB170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953-B69A-4A63-9882-B692CCE5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942-A88A-4535-A358-5D959491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CB5-7C84-47A3-A85B-C999CEDE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10B-6EDA-402D-A55A-F3629DD8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123-729D-4E4F-ACCC-3B992BF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98D-565E-41C2-8D2B-863DFBD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E3C-8B87-4AE1-AB56-DC92B3B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081-7388-4A00-8591-13860CCD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38B777-C235-48E6-81EE-F34BA8C87B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7464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86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0800" y="1833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31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120" y="1506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3280" y="4429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80" y="57243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5920" y="1582560"/>
            <a:ext cx="718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6120" y="288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9280" y="2897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3240" y="311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31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9640" y="31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2520" y="31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2200" y="2070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042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592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48880" y="2890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3120" y="3111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240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3536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640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656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1120" y="289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344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82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591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02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165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874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2240" y="2890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42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9880" y="309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06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069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9320" y="2792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77200" y="2808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500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302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2840" y="3014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3014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9320" y="2354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4120" y="2370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6800" y="2590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1000" y="2590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22840" y="2576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5200" y="25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92840" y="1582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6240" y="34113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9960" y="337356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0" y="1833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74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83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4160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448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52640" y="2588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5320" y="3324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320" y="1125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3524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0" y="28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28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4280" y="31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9400" y="31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100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356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3349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03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676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2280" y="2890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446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2936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028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2144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1973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9520" y="4633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3760" y="3424320"/>
            <a:ext cx="22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3760" y="36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6920" y="36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01240" y="38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6360" y="38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7640" y="386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0520" y="386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8880" y="4078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7480" y="4094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04560" y="4319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314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2400" y="43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8880" y="36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4040" y="3656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16440" y="3876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05880" y="3876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2400" y="38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92920" y="38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88240" y="4324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0960" y="429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4672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20960" y="4687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080" y="49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8840" y="49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9760" y="4894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32640" y="48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304440"/>
            <a:ext cx="306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68960" y="2727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40096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5320" y="384084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98000" y="5106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4320" y="17953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96320" y="18111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296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0520" y="157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3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268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8200" y="3662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052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1528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620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0700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120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7040" y="41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1240" y="366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7120" y="3681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720" y="390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43840" y="390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4760" y="388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35920" y="388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40600" y="343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5600" y="41418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7888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5480" y="2906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7480" y="2922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4120" y="288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102520" y="319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2760" y="4003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8040" y="198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54280" y="2004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5520" y="222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0640" y="222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1920" y="221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2720" y="221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2760" y="2465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38960" y="1579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20480" y="2190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0960" y="45194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0040" y="4664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46800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17880" y="490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0264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13560" y="488628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86800" y="48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360" y="68580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2711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764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4558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52360" y="1471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9360" y="1436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219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1120" y="33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6280" y="3332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58960" y="3552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355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54640" y="3538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0376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35440" y="331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1320" y="333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3640" y="355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35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9320" y="354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10120" y="354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6880" y="205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27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3760" y="2292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0760" y="225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1560" y="2052720"/>
            <a:ext cx="764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48600" y="1447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2160" y="1463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57240" y="1428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248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16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420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239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84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445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816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427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38240" y="2433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384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192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40240" y="2052720"/>
            <a:ext cx="4200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54640" y="3526200"/>
            <a:ext cx="103644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1960" y="3181320"/>
            <a:ext cx="42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42120" y="3704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4560" y="30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17920" y="318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44560" y="3311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11160" y="332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2040" y="354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2716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38440" y="353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9240" y="353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47920" y="332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13800" y="33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5400" y="35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80120" y="3564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41440" y="354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2600" y="35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4800" y="2564280"/>
            <a:ext cx="549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64960" y="370656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07200" y="363564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78160" y="2914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2560" y="291780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23920" y="2054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8000" y="3746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5400" y="3762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5480" y="398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0600" y="398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51520" y="396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2680" y="396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80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51600" y="3324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584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7720" y="3544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515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326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64120" y="48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0800" y="4871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1600" y="50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672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58000" y="507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38800" y="507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64120" y="4417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57720" y="4433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61600" y="46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2040" y="4654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58000" y="464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38800" y="464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34120" y="419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86440" y="5508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52320" y="5524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3920" y="5745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69040" y="5745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79960" y="5730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573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6160" y="551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91680" y="5533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4360" y="575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8760" y="57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0040" y="5740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00840" y="574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032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00600" y="4795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3800" y="472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760" y="5516640"/>
            <a:ext cx="11581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47640" y="546408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34120" y="529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8020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96160" y="537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43240" y="3324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9120" y="33400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0720" y="356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80120" y="35607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37120" y="3546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7920" y="354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8480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13360" y="318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99080" y="3166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8560" y="3171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832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38320" y="3330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04200" y="3346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365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92840" y="3567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2200" y="3552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130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17440" y="372888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15200" y="245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1440" y="2473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2680" y="269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97800" y="2693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720" y="267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89880" y="267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56200" y="2933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566120" y="2048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14920" y="3191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4492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10800" y="3346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431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75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3844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96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65520" y="3660480"/>
            <a:ext cx="30636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45360" y="22654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78920" y="2281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5400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215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02360" y="20527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68880" y="191628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151600" y="30178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1600" y="30178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64280" y="301788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3017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823000" y="594216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3000" y="59421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088480" y="6137280"/>
          <a:ext cx="15048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88480" y="61372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17704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40240" y="2133720"/>
            <a:ext cx="5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1200" y="5521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27080" y="55371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58680" y="575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575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54720" y="574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35880" y="574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0360" y="59918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89760" y="5516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56000" y="5532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87240" y="5753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5753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83640" y="5738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64440" y="5738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64480" y="2968560"/>
            <a:ext cx="671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29400" y="536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5080" y="5356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7800" y="2436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30880" y="59500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0880" y="5950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26240" y="272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920" y="273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23720" y="295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08840" y="295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19760" y="2943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00920" y="29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2624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244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483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197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009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991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35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0716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360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641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59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151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59200" y="511416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143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183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27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58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09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118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850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468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03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3788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94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407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0716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567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442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545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389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502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2312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27680" y="3949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05440" y="39654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25160" y="418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02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21560" y="41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02360" y="41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2768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8312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251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56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2156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023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0560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03920" y="2301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66920" y="2317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1400" y="2538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3280" y="253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7440" y="2523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75360" y="252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8656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244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404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6916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80440" y="2505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6124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8452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50400" y="34178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640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6712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7840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4516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61000" y="3252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30880" y="37634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64240" y="315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8632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63000" y="2739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8380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6568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7984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6100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8632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9920" y="2301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8416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2608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7984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100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9720" y="241272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7862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024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643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0254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15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70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997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5980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0716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08720" y="21650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9880" y="341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15760" y="3435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7360" y="36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3248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3400" y="36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2456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59320" y="3900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94680" y="2265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27880" y="2281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0332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7584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14840" y="3259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212920" y="204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9800" y="27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6480" y="27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728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240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8448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9800" y="2281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034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72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780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33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844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1448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196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970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8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955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610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7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309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890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558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188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377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693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44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54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65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3216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970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11960" y="3619440"/>
            <a:ext cx="42804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67600" y="34257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7980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56840" y="3740760"/>
            <a:ext cx="152316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원금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05520" y="230292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81320" y="24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47560" y="24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8800" y="26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63920" y="26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74840" y="267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56000" y="26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25680" y="29242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432240" y="20383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94640" y="28238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62160" y="20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22795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52640" y="22953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13400" y="2260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62160" y="2052720"/>
            <a:ext cx="720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1447920"/>
            <a:ext cx="69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4613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820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590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791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646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755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63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1820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374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798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692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755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563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834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756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816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660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769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502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628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566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963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622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93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789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898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71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835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438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8316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494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806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6576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770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5784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929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784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442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899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610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719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386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656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530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185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51240" y="36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356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465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77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33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80760" y="3762720"/>
            <a:ext cx="428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02720" y="3790080"/>
            <a:ext cx="7930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근무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6568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84520" y="2727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62280" y="2743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82000" y="29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4240" y="29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8400" y="2949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59200" y="29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45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84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827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428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784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592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7847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2560" y="2711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68680" y="314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5720" y="316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66160" y="33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48040" y="339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62200" y="33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43360" y="33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868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14760" y="27241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848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89720" y="29448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220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43360" y="293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43360" y="35845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98680" y="39826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88360" y="56595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79840" y="3803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55080" y="3819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76960" y="4040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62440" y="404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73360" y="4025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54160" y="402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959200" y="4244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08280" y="488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86040" y="490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05760" y="512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87640" y="513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01800" y="511164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82960" y="51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08280" y="445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54360" y="44672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24840" y="468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05920" y="4687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01800" y="4673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82960" y="467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0760" y="4935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710160" y="5513400"/>
            <a:ext cx="14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44840" y="5713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20080" y="5729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42320" y="595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27440" y="595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38360" y="593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19520" y="5935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03680" y="559908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355640" y="5599080"/>
            <a:ext cx="1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78360" y="5010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94280" y="5713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69160" y="572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92120" y="595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76880" y="595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7800" y="593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68960" y="5935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8136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58040" y="2724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4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63600" y="294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7488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81360" y="227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36800" y="2286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79200" y="2506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79360" y="2506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4880" y="249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55680" y="249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19280" y="2522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10120" y="3050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1337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43240" y="24955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24280" y="24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38360" y="227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3880" y="228924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35840" y="250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20960" y="250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32240" y="249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13040" y="249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7116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56544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5100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08240" y="20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09800" y="2292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717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32480" y="227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8488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50400" y="2311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82720" y="2532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6748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7840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5956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529240" y="2771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00800" y="27680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6516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8520" y="2060640"/>
            <a:ext cx="434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38360" y="51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15760" y="51246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435840" y="534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718080" y="53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32240" y="5330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13040" y="533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8360" y="467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84440" y="468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54920" y="490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0836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32240" y="489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13040" y="489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08-06-27T05:16:00Z</dcterms:modified>
  <cp:revision>182</cp:revision>
  <dc:subject/>
  <dc:title>슬라이드 제목 없음</dc:title>
</cp:coreProperties>
</file>