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E02-1C62-4356-93BC-6B25BBDF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91B-41E5-4081-BC21-5FACDB62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3D2-6D28-4250-AFC0-B3DC8B46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8B3-0843-46CC-A3C5-52F9473A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367-5E11-458F-8CC9-00674E34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652-3993-4CE3-984A-68CD1B0F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C0F-E38F-472C-833C-8F77E513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332-6EDD-4996-BA92-DF9A5CE4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BEF-5F23-4561-9AB2-4770B23B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7B8-9870-460B-BD6F-77F15B8F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E2F-C345-4114-9D5C-76492A9E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8FE-9389-48D0-BBE3-F93678FB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52BDDF-449B-4692-872F-9E186E12BD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98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340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856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8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384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764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764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954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93680" y="1447920"/>
            <a:ext cx="733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33880" y="2671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17040" y="26877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31000" y="2908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6480" y="2908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27400" y="2894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0280" y="2894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69960" y="1704600"/>
            <a:ext cx="30636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급여비용 원외처방 약제비정산심사내역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77760" y="1724760"/>
            <a:ext cx="30636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936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33760" y="2665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26640" y="2681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31240" y="2901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2901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2887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00520" y="2887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8336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78760" y="267336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7904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27640" y="2894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7688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2924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8336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4816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8048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95040" y="2455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7688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2924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54688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94000" y="320184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5260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0696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500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352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612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193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226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13040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44760" y="31147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284560" y="1456920"/>
            <a:ext cx="0" cy="12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14560" y="2668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87640" y="2684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12040" y="2905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97160" y="290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08080" y="289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1320" y="289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70080" y="3079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43640" y="2890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97680" y="3870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63200" y="38862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95880" y="4106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80280" y="410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00760" y="41022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72360" y="409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42040" y="4346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27800" y="3284640"/>
            <a:ext cx="10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64280" y="3508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7440" y="3524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61400" y="3745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9080" y="3745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373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30680" y="373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30600" y="2948760"/>
            <a:ext cx="306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급여기관 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18800" y="3874680"/>
            <a:ext cx="115812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50320" y="167940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11960" y="169560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58960" y="166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6520" y="144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286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80440" y="3912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901960" y="145584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10000" y="145584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6712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6840" y="1909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72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0432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8944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2131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152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1664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1520" y="2662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47400" y="2678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79360" y="2898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64120" y="2898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75040" y="2884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6200" y="288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132440" y="1449360"/>
            <a:ext cx="0" cy="12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25880" y="31384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3040" y="4975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71640" y="4991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18720" y="521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57960" y="521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16560" y="5197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3040" y="4527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87840" y="4543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30600" y="4764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0040" y="4764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16560" y="474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07080" y="47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02400" y="522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85120" y="51847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61320" y="5931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6040" y="5946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59160" y="616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43920" y="616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9320" y="615312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27720" y="615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18760" y="58316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69280" y="5856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30960" y="5937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79560" y="5952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45720" y="617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65880" y="61736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615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30960" y="5489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96120" y="5505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8440" y="572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8008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24480" y="571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86560" y="571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0320" y="618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93040" y="61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593040" y="4253040"/>
            <a:ext cx="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18360" y="3878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14480" y="389412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5840" y="4114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00960" y="411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11880" y="410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93040" y="41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1836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1196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1584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524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1188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9304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64240" y="328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06160" y="393084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연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97720" y="4437000"/>
            <a:ext cx="18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62920" y="46576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24920" y="467352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71560" y="4638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439120" y="443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75400" y="478296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7360" y="539640"/>
            <a:ext cx="8445600" cy="597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198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87360" y="1447920"/>
            <a:ext cx="702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87360" y="2133720"/>
            <a:ext cx="700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04760" y="237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3922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27800" y="235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37000" y="2905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06840" y="2921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53560" y="3141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58400" y="31417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30880" y="3127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1680" y="3127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25880" y="2775600"/>
            <a:ext cx="3063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708440" y="378252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26040" y="3633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48080" y="36496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23520" y="3870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19800" y="3862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3855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24480" y="3855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26040" y="31910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19640" y="3206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43320" y="3427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24040" y="34275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3406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05400" y="34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13480" y="36349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326280" y="408276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33760" y="3968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09000" y="3984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31240" y="420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16360" y="420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27640" y="4191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0844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03760" y="3857760"/>
            <a:ext cx="133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72840" y="43653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92560" y="3967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68160" y="3983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90040" y="420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80200" y="419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86440" y="4189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72280" y="418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37000" y="4325400"/>
            <a:ext cx="6714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37000" y="3348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13320" y="3363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34480" y="3584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16360" y="359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30880" y="3570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11680" y="357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43280" y="2793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20320" y="2809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40400" y="3030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22640" y="30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36800" y="3016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3016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43280" y="2346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36520" y="2371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40400" y="2592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46320" y="25779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36800" y="2577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17600" y="257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1480" y="3205080"/>
            <a:ext cx="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43040" y="3697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08920" y="3713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40520" y="39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25640" y="39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36920" y="3919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17720" y="391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83200" y="3921120"/>
            <a:ext cx="103644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 번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환수환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76560" y="2492640"/>
            <a:ext cx="6714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가입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216160" y="2131920"/>
            <a:ext cx="0" cy="2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9120" y="3695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94640" y="37116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6240" y="3932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64200" y="39322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2640" y="391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03440" y="39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5000" y="3567240"/>
            <a:ext cx="22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95520" y="357984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16280" y="36990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81800" y="3714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14480" y="3935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98880" y="3935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0160" y="3921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90960" y="39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83040" y="3567240"/>
            <a:ext cx="0" cy="11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28960" y="410184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65800" y="3860640"/>
            <a:ext cx="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46920" y="4714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23600" y="4730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44040" y="4951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40320" y="494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40440" y="4937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45360" y="493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46920" y="42688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24320" y="4284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63120" y="4505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40440" y="4484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26280" y="44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04320" y="44974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56400" y="5383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32000" y="53989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388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6680" y="562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49920" y="5605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576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60720" y="4017960"/>
            <a:ext cx="549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27160" y="513936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약품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804080" y="5383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79320" y="5398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02280" y="5619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86680" y="5619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97960" y="5605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7876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74080" y="52689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232760" y="5383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08000" y="5398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3024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15360" y="5619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26280" y="5605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0744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02400" y="52704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258680" y="568908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상세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81080" y="5322600"/>
            <a:ext cx="54972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환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351480" y="51800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45360" y="5265720"/>
            <a:ext cx="171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0680" y="5386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45560" y="5402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68160" y="5622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30960" y="5632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64200" y="560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50040" y="560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52000" y="422388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29280" y="52657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12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31240" y="16732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93160" y="16891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542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9944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18640" y="23572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80200" y="23734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41320" y="2338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51200" y="3697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17800" y="3713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48320" y="39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33440" y="39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44720" y="391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25520" y="391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54920" y="4093920"/>
            <a:ext cx="793080" cy="13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06480" y="1914120"/>
            <a:ext cx="164484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14480" y="357192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198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87360" y="1447920"/>
            <a:ext cx="547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87360" y="2133720"/>
            <a:ext cx="20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04760" y="237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23922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27800" y="235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0897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10400" y="2371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8744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0752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300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03920" y="2593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8472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0400" y="19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6584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0824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768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03920" y="215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8472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11840" y="3044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0400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1004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44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05360" y="3267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7860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328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5324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9296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5884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9044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7556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8648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6764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4688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5140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91120" y="1909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15700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8860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372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8464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6580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0056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631960" y="23083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303720" y="2120400"/>
            <a:ext cx="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00240" y="2728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78000" y="274464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997720" y="2965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82840" y="296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94120" y="2951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74920" y="29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00240" y="2281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9384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97720" y="251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68800" y="251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94120" y="2503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492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0528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0240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8788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99880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7960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6568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632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51840" y="3456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9784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2140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7984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4660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62320" y="3435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28560" y="3451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59800" y="3672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44920" y="3672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56200" y="3657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3700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2260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87880" y="3284640"/>
            <a:ext cx="112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59640" y="3618720"/>
            <a:ext cx="42804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55160" y="35038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70240" y="3152880"/>
            <a:ext cx="0" cy="28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95240" y="3787560"/>
            <a:ext cx="914760" cy="15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환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67520" y="2154600"/>
            <a:ext cx="428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합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73240" y="2131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812960" y="2589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18440" y="26049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10440" y="2825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95560" y="2825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06480" y="281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87640" y="2811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28880" y="2998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cp:keywords/>
  <dc:language>en-US</dc:language>
  <cp:lastModifiedBy>김진성</cp:lastModifiedBy>
  <cp:lastPrinted>2001-07-05T00:19:08Z</cp:lastPrinted>
  <dcterms:modified xsi:type="dcterms:W3CDTF">2008-06-27T05:20:26Z</dcterms:modified>
  <cp:revision>246</cp:revision>
  <dc:subject/>
  <dc:title>슬라이드 제목 없음</dc:title>
</cp:coreProperties>
</file>