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076-1564-4BEF-AFBD-4ED5271C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838A-70FE-43D2-8417-EB020973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5C2-D41C-4E61-A4E6-3AC63C02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5E8-E37C-4714-80CD-2C848AB9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29A-F511-49B1-B5E4-641496BE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B6FA-0A69-4220-879B-730BE43E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1D2-ADE2-44AA-98F5-29EE8C6D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998-D97C-4423-9216-6E6D28F2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90A-343B-45F6-8CCC-2C291DC4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60C8-73B5-4A8A-8265-494410AB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C97-983B-4EA4-AE67-BD7074CB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5BB-8DEB-4575-9629-CA3DE8DC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53833A-F1D4-479A-91C3-09F07C371E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00040"/>
            <a:ext cx="8445600" cy="609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6922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4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588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879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879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320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9160" y="1865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54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497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7360" y="140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5920" y="1398600"/>
            <a:ext cx="718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5760" y="27068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9280" y="27226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3240" y="2943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94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2928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92520" y="292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2200" y="1895040"/>
            <a:ext cx="30636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급여비용 정산심사내역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0000" y="1830600"/>
            <a:ext cx="306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5920" y="1865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5640" y="2700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8520" y="27162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3120" y="2936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8240" y="293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922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2400" y="292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0500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8604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11480" y="2712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7720" y="2728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09680" y="2949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94080" y="2949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05360" y="2935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86160" y="2935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62400" y="1420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86320" y="2627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72360" y="264312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82360" y="2868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0960" y="2863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80200" y="2849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2560" y="28400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86320" y="21798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51480" y="2195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83800" y="241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98000" y="24163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80200" y="240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2560" y="24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649840" y="1407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86240" y="323676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56200" y="3189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480" y="1643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9200" y="1658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41960" y="1879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27080" y="1879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38360" y="1865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11240" y="1865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14480" y="140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22280" y="24138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31496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320" y="9507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50524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6800" y="2703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79880" y="2719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3920" y="2940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9040" y="2940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0320" y="292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3200" y="292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22720" y="30999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65680" y="287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99200" y="3838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4720" y="3854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97400" y="4075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8180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9000" y="4060800"/>
            <a:ext cx="6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7388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43920" y="45277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2560" y="3240000"/>
            <a:ext cx="108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61120" y="3468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44280" y="3484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58240" y="37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96200" y="37051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54640" y="3691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7520" y="369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67400" y="497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1600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6344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0232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61280" y="519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67400" y="4527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3256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496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440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61280" y="4749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5180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4676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2948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0568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040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0388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8828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4368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7244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22480" y="309024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84840" y="3835080"/>
            <a:ext cx="10364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6312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1364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5320" y="5937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2392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9044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1024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69200" y="6159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5320" y="5489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4048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280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2480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69200" y="5711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3092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5468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3740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89920" y="1620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51920" y="1636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98560" y="1601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466120" y="14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3640" y="2797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890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8720" y="3839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737400" y="421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62720" y="3838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8840" y="38545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60200" y="407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4532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56240" y="406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740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62720" y="3400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6320" y="3416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60200" y="3637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99600" y="3637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56240" y="362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37400" y="362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18320" y="3244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50520" y="3890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51800" y="4400640"/>
            <a:ext cx="170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10040" y="139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9760" y="1851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5640" y="1866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7240" y="2087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208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2073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2444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59200" y="227304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82000" y="4624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44000" y="464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90640" y="460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458200" y="440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19760" y="478296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01600" y="260280"/>
            <a:ext cx="8712360" cy="633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4080" y="4046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9280" y="13190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9280" y="2427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9280" y="3570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9280" y="4713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9000" y="83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7800" y="10666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9800" y="10825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440" y="1047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2240" y="839880"/>
            <a:ext cx="749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41720" y="4096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5280" y="3624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0800" y="3639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3480" y="3860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4520" y="3860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9160" y="3846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48280" y="384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79960" y="3627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45840" y="36432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77440" y="386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8000" y="38638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73480" y="38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54640" y="38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97040" y="157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5200" y="17971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7200" y="18129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3840" y="17780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000" y="1571760"/>
            <a:ext cx="755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34400" y="10652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67600" y="10810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43040" y="10461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10600" y="844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89080" y="2967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66120" y="2982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86560" y="320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68440" y="32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82600" y="318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63760" y="318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89080" y="251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82680" y="2535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86560" y="275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82400" y="27417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82600" y="274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63760" y="27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25240" y="1628640"/>
            <a:ext cx="29833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원금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수장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71000" y="3855240"/>
            <a:ext cx="115812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3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이상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86280" y="40122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59080" y="339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6208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908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55680" y="3635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86560" y="38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7168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8260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6376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440" y="3635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57960" y="3651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89560" y="3871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35440" y="38718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85960" y="3857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66760" y="385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9200" y="268848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3560" y="3804840"/>
            <a:ext cx="1158120" cy="25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 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환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440" y="368676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02160" y="4064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79920" y="40798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99640" y="4300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84760" y="4300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6040" y="4286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76840" y="4286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02160" y="3616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95760" y="3632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00360" y="3852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92240" y="38527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96040" y="3838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7684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96160" y="5164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72840" y="5180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93280" y="5400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78400" y="540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89680" y="538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70480" y="53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08640" y="4726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02240" y="4741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06120" y="4962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48760" y="4962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02160" y="494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83320" y="49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78640" y="450072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6892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4800" y="5175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66400" y="539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152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6280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4360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2296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88840" y="5175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21160" y="5396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0556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1684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9764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54480" y="42206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88680" y="4557600"/>
            <a:ext cx="4280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17920" y="455616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21680" y="5559120"/>
            <a:ext cx="671400" cy="10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상세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49400" y="575316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7760" y="3632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3280" y="3648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5240" y="3868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46960" y="38685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3854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62440" y="3854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2896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56080" y="347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43600" y="3475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5956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5284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828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48360" y="3654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8104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6544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763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5752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77520" y="387900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5908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894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55320" y="36543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8728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168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829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6376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59640" y="4040640"/>
            <a:ext cx="42804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81480" y="2516040"/>
            <a:ext cx="3063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704320" y="2052720"/>
            <a:ext cx="347400" cy="323280"/>
            <a:chOff x="2704320" y="2052720"/>
            <a:chExt cx="347400" cy="323280"/>
          </a:xfrm>
        </p:grpSpPr>
        <p:sp>
          <p:nvSpPr>
            <p:cNvPr id="332" name=""/>
            <p:cNvSpPr/>
            <p:nvPr/>
          </p:nvSpPr>
          <p:spPr>
            <a:xfrm>
              <a:off x="2704320" y="2058840"/>
              <a:ext cx="2138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08720" y="2052720"/>
              <a:ext cx="24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2765160" y="2170080"/>
            <a:ext cx="150480" cy="205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65160" y="2170080"/>
                      <a:ext cx="150480" cy="20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6" name=""/>
            <p:cNvGraphicFramePr/>
            <p:nvPr/>
          </p:nvGraphicFramePr>
          <p:xfrm>
            <a:off x="2884320" y="2170080"/>
            <a:ext cx="150120" cy="2059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3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84320" y="2170080"/>
                      <a:ext cx="150120" cy="20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38" name=""/>
          <p:cNvGraphicFramePr/>
          <p:nvPr/>
        </p:nvGraphicFramePr>
        <p:xfrm>
          <a:off x="6516720" y="623088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62308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8405640" y="63594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8204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747920" y="517860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7916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6464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7556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5672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94720" y="5648040"/>
            <a:ext cx="3063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4000" y="516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9880" y="5183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41480" y="540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526600" y="540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237520" y="5389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18680" y="53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25920" y="2679480"/>
            <a:ext cx="54972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인정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0540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71280" y="517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0288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8800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9892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8008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04360" y="500328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65200" y="3473280"/>
            <a:ext cx="420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59600" y="179712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093160" y="18129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968240" y="17780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35800" y="1576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476360" y="1581120"/>
            <a:ext cx="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0080" y="538812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8305920" y="6362640"/>
          <a:ext cx="150840" cy="20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05920" y="636264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6891480" y="6164280"/>
          <a:ext cx="150840" cy="2062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91480" y="61642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2180160" y="4330800"/>
            <a:ext cx="367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D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643200" y="1844640"/>
            <a:ext cx="31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9684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5876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198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42080" y="2730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19120" y="2746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39560" y="2967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24680" y="2967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35600" y="295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016760" y="295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4208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97520" y="229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40280" y="251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940440" y="25192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560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1676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15320" y="31687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029360" y="460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2300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25192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51560" y="39794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53360" y="243648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1000" y="52221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69280" y="5054040"/>
            <a:ext cx="3063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030160" y="5253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34160" y="481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98600" y="4832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31640" y="505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16760" y="505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27680" y="503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00920" y="50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62720" y="4822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36520" y="4838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53720" y="5059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45320" y="505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56600" y="504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3000" y="504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972560" y="4826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060400" y="4842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70400" y="5062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255160" y="5062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966080" y="504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38960" y="504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43880" y="395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21280" y="39751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41000" y="419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26120" y="4195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37400" y="4181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18200" y="418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43880" y="351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99320" y="35272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4100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941520" y="37479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37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0182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12080" y="4387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62400" y="2305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228280" y="2320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74280" y="254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45000" y="254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56280" y="2527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2304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97400" y="247320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771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996320" y="16635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58240" y="16794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1936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36760" y="23162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701352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11840" y="2303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77720" y="2319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09320" y="2540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440" y="2540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05360" y="2525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86520" y="2525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24520" y="245412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951680" y="22845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085240" y="230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60320" y="226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240760" y="206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008160" y="20556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05040" y="2736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82080" y="2752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02520" y="297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87640" y="2973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98920" y="295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7972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05040" y="2289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98640" y="2305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02520" y="2525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97324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98920" y="2511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7972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09720" y="3448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6320" y="3463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07200" y="3684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92320" y="3684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03600" y="3670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84400" y="367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70120" y="329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90760" y="3448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6640" y="3463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02640" y="3684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26200" y="3684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84640" y="3670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51400" y="367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67120" y="3443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33000" y="34592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64600" y="3679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49720" y="3679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60640" y="3665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41800" y="366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2740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92320" y="3292560"/>
            <a:ext cx="11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00800" y="3618720"/>
            <a:ext cx="4280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7920" y="26179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75040" y="316080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20920" y="3728160"/>
            <a:ext cx="127980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원금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69080" y="216252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소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6216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90720" y="23097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52640" y="23256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13400" y="229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58920" y="2060640"/>
            <a:ext cx="699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16560" y="229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79560" y="2308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13680" y="2529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95920" y="252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1008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88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78296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10160" y="26697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429160" y="206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08184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68600" y="2295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31240" y="2311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65720" y="253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47960" y="253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62120" y="2517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4004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93500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62200" y="26730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43720" y="630864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8134200" y="575784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34200" y="575784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8244000" y="631836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44000" y="631836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95280" y="1447920"/>
            <a:ext cx="515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65632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7696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5400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7444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65956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37048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5164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696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3240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37480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6424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7048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65164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78400" y="3044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7056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7660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6100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72280" y="3267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4516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484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5156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19128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25716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8876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7388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18480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6596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97852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3876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57848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4436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7560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6108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5316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8792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998800" y="3405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64680" y="34210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10320" y="36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81400" y="36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92320" y="36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59080" y="36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86080" y="327816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73440" y="3422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38960" y="3438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670920" y="3659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56040" y="365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66960" y="36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948120" y="364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33720" y="3270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09440" y="3755520"/>
            <a:ext cx="549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찰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료차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찰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978280" y="3790080"/>
            <a:ext cx="6714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05280" y="2736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82680" y="27525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02400" y="297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84640" y="2984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98800" y="295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7960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05280" y="2289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98880" y="23050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03120" y="252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8284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998800" y="2511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7960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30516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906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00080" y="22734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62000" y="22892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23120" y="2254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32600" y="215460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차등수가관련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93840" y="2060640"/>
            <a:ext cx="20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78128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847160" y="22986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78760" y="251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63880" y="251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77480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05596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205416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08360" y="27172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cp:keywords/>
  <dc:language>en-US</dc:language>
  <cp:lastModifiedBy>김진성</cp:lastModifiedBy>
  <cp:lastPrinted>2001-07-05T00:19:08Z</cp:lastPrinted>
  <dcterms:modified xsi:type="dcterms:W3CDTF">2008-06-27T05:18:48Z</dcterms:modified>
  <cp:revision>250</cp:revision>
  <dc:subject/>
  <dc:title>슬라이드 제목 없음</dc:title>
</cp:coreProperties>
</file>