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D10-2B40-4F28-A3A4-40A610BF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C2F-7D9F-43C3-A094-5C84A997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28C-1924-4CD8-A938-F251346F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767-2E83-428B-9A91-73AA3F39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929-10DE-43A0-8354-DB5D5F07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54C-0296-44D1-8338-8AE4530D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DE6-7224-4A40-ACC1-93793B3E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A2D-036F-44AF-958B-417A16D6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883-4AAE-4432-8EAF-60CDF7FF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4AC-6386-4728-9519-91F378AF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335-115D-41B3-989B-D91692D4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C47-D133-4A56-B1C3-C37717B8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8AA68A-5A96-414C-AC07-57A0D05ADE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208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095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76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08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892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892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9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7560" y="1447920"/>
            <a:ext cx="733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27400" y="2671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10920" y="2687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24880" y="2908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0000" y="2908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20920" y="2894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94160" y="2894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3840" y="1609560"/>
            <a:ext cx="30636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급여비용 원외처방 약제비심사결과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추가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724760"/>
            <a:ext cx="30636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7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665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20160" y="2681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24760" y="2901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09880" y="290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20800" y="2887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4040" y="288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87880" y="320184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61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084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36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28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00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128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239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38640" y="3114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78080" y="145692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08080" y="266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2684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05560" y="290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068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01960" y="289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74840" y="289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3960" y="3079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24120" y="2948760"/>
            <a:ext cx="30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급여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28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9548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0352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5040" y="2662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41280" y="2678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73240" y="289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7640" y="289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68560" y="288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49720" y="288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25960" y="1449360"/>
            <a:ext cx="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19400" y="31384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10480" y="494352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8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33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9400" y="267336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7904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2764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768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2924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33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81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048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9504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768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292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68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43640" y="2890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97680" y="387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63200" y="3886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95880" y="4106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80280" y="410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00760" y="4102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409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42040" y="4346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27800" y="328464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64280" y="350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47440" y="352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1400" y="3745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9080" y="3745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373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30680" y="373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18800" y="3874680"/>
            <a:ext cx="11581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5032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11960" y="16956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5896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26520" y="144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8044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67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0684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4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89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13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1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1664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3040" y="497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7164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872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796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16560" y="5197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3040" y="4527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8784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060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004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16560" y="47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0708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0240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8512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6132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604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5916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4392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9932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2772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1876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928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30960" y="59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956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4572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615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30960" y="548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9612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844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00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571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8656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1032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9304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593040" y="425304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360" y="387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14480" y="38941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15840" y="411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00960" y="41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11880" y="41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93040" y="41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836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1196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15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524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1188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9304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6424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27840" y="3930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97720" y="4437000"/>
            <a:ext cx="18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62920" y="4657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24920" y="46735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1560" y="4638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39120" y="44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7540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7360" y="539640"/>
            <a:ext cx="8445600" cy="597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87360" y="1447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87360" y="2133720"/>
            <a:ext cx="700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37000" y="290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83080" y="2921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53560" y="3141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58400" y="3141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30880" y="312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11680" y="312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25880" y="2775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08440" y="37825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26040" y="3641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8080" y="36576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23520" y="3878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387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920" y="3863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38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26040" y="3200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9640" y="3216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43320" y="3436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24040" y="3436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3416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05400" y="341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13480" y="364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326280" y="4082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3760" y="3968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09000" y="3984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1240" y="420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420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419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844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03760" y="38577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67800" y="43732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560" y="396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68160" y="3983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90040" y="420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80200" y="419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6440" y="418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2280" y="418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24400" y="428904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37000" y="334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13320" y="33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34480" y="35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359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30880" y="357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11680" y="35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3280" y="2793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20320" y="2809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40400" y="3030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22640" y="30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36800" y="3016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301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3280" y="234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36520" y="2371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40400" y="259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25779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6800" y="257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7600" y="257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11480" y="320508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43040" y="369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0892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405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56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6920" y="3919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177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76560" y="2492640"/>
            <a:ext cx="6714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216160" y="2131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9120" y="369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94640" y="3711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6240" y="393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83280" y="3932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2640" y="39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03440" y="39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5000" y="3567240"/>
            <a:ext cx="22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95520" y="35798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16280" y="3699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1800" y="3714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4480" y="3935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98880" y="393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392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90960" y="39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3040" y="35672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28960" y="410184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65800" y="386064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6920" y="4714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23600" y="4730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44040" y="495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0320" y="494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0440" y="493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45360" y="49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46920" y="4276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24320" y="4292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63120" y="4513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40440" y="4492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6280" y="44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04320" y="4505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5640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2000" y="5398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388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668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4992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5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60720" y="401796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27160" y="513936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04080" y="5383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79320" y="5398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02280" y="5619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668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97960" y="5605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8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4080" y="5268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276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8000" y="5398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024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1536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628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0744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02400" y="5270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58680" y="56890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상세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94520" y="5802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351480" y="51800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45360" y="5265720"/>
            <a:ext cx="171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0680" y="538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45560" y="5402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68160" y="562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30960" y="563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64200" y="560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50040" y="560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52000" y="43095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9280" y="52657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2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31240" y="16732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93160" y="16891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542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9944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18640" y="23572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80200" y="2373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41320" y="2338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51200" y="369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1780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483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334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44720" y="391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255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8280" y="4087440"/>
            <a:ext cx="54972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65240" y="1964160"/>
            <a:ext cx="9147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4480" y="357192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58000" y="4003200"/>
            <a:ext cx="79308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87360" y="1447920"/>
            <a:ext cx="517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87360" y="2133720"/>
            <a:ext cx="18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0248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22760" y="2371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9980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2024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0536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16640" y="2593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9744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22760" y="1933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7856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2096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1040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16640" y="2155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744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2456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1672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2240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0716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1808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132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659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0568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7156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028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8828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9920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800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924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4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384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69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01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86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9736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78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1328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8112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52880" y="212040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4940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27160" y="27446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4688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3200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4328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4940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30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468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1796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4328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5444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2104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5192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3704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4796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912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1484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354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0100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470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705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957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1148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7772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0896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9408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0536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8616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7212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17960" y="328464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14120" y="3827880"/>
            <a:ext cx="54972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04320" y="3503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19400" y="31622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2400" y="3805920"/>
            <a:ext cx="793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16680" y="2327400"/>
            <a:ext cx="428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73240" y="2131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12960" y="258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18440" y="26049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10440" y="282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5560" y="282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06480" y="281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87640" y="281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28880" y="2998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5T00:19:08Z</cp:lastPrinted>
  <dcterms:modified xsi:type="dcterms:W3CDTF">2008-06-27T05:20:49Z</dcterms:modified>
  <cp:revision>232</cp:revision>
  <dc:subject/>
  <dc:title>슬라이드 제목 없음</dc:title>
</cp:coreProperties>
</file>