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E21-D3DD-4854-94F9-E016FDCA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F90-8976-475D-9D65-3C7930BC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AF7-D471-4585-A959-BFC8D3CE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6FC-38AA-42A4-A857-ECD77F4C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0DD-696F-4F09-B9CB-E8983033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A26-19E6-483C-92FA-34679A37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DFA-3F85-4AF9-BE97-197B0C53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A4D-A0BA-4929-BBCA-E0D5A70C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30A-96A9-49DE-86B9-0AAF4B3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042-F257-401A-A0F2-0FDD1D1F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1BC-B23F-4327-BDD1-597B6885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E67-9494-4E83-A8C7-66141EF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FF8545-8633-4F86-9B42-5C5930BCE7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426960"/>
            <a:ext cx="8445600" cy="61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1920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56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65160" y="15858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74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26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2589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179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181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477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6208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133524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0480" y="2558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000" y="2575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960" y="279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3080" y="27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94000" y="27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7240" y="27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36920" y="1798560"/>
            <a:ext cx="30636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원외처방 약제비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179460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6064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55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240" y="25686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97840" y="278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82960" y="278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3880" y="277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67120" y="277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8080" y="2544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4120" y="256068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3760" y="278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2360" y="27813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11600" y="276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3960" y="276696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18080" y="2106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2880" y="212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560" y="234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29760" y="234324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2328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63960" y="2328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81600" y="1335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60600" y="30891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19200" y="156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3560" y="158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66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18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720" y="179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8596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8920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97000" y="234072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1720" y="3002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8780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51160" y="13442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81160" y="2556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54240" y="2571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78640" y="2792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279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5040" y="277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47920" y="277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6680" y="3003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8360" y="277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8040" y="3397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53560" y="3413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5880" y="3633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70640" y="363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1560" y="3619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61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387360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46680" y="317196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99000" y="339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2160" y="3411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6480" y="363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1600" y="363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2520" y="3618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5760" y="3618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97200" y="2835720"/>
            <a:ext cx="306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6880" y="376200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69320" y="1566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1320" y="1582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77960" y="1547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45520" y="1336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72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1592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3960" y="3870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6856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7660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00800" y="4510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67400" y="4525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2680" y="4746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83400" y="4746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4680" y="473220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61440" y="473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2800" y="4664880"/>
            <a:ext cx="6714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80160" y="428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7280" y="384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4320" y="3860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04760" y="408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86640" y="40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0800" y="4067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81960" y="406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7280" y="33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00880" y="34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4760" y="36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7040" y="3635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0800" y="3621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361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07160" y="316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338364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34020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27880" y="3417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74880" y="3382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4244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89320" y="1339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9040" y="179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4920" y="181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6520" y="203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203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201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3720" y="201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2219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93280" y="36068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9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5480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64120" y="381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720" y="383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0160" y="406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99040" y="405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0" y="404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4120" y="338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9280" y="339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71680" y="361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1120" y="361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8000" y="360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360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348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262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1480" y="451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76200" y="4533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9680" y="47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4080" y="47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15000" y="47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8240" y="47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60560" y="358200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2080" y="493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23412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6200" y="42609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1080" y="4535640"/>
            <a:ext cx="533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73480" y="4756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7880" y="475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69160" y="4741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2040" y="47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5680" y="4511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1200" y="4527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17560" y="4748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88280" y="4748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9560" y="473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5960" y="473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96840" y="4850640"/>
            <a:ext cx="428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404640"/>
            <a:ext cx="844560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31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547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563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528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312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59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741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199872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00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2417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2575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222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8776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3840" y="278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43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9160" y="3006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62440" y="299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77000" y="2640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59200" y="364824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08640" y="3719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30680" y="373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6120" y="39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2400" y="394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2520" y="394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7080" y="39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8640" y="3278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240" y="3294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5200" y="3514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06640" y="35146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02520" y="34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34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96080" y="3730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608880" y="41796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4520" y="3833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60120" y="38498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82000" y="4070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67120" y="4070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78400" y="4056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59200" y="405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64240" y="3722760"/>
            <a:ext cx="176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1560" y="4238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43680" y="383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18920" y="3848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40800" y="406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30960" y="406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37200" y="405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3040" y="404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6280" y="41796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7760" y="3213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64080" y="322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85240" y="3449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67120" y="346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3435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62440" y="343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1760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23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45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443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443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44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6160" y="3336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2040" y="3352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43640" y="357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28760" y="357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0040" y="355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20840" y="355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62920" y="3642840"/>
            <a:ext cx="79308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98240" y="2517120"/>
            <a:ext cx="549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16160" y="1996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06800" y="333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72320" y="3351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4280" y="357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89400" y="357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00320" y="3557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81480" y="3557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5560" y="3565800"/>
            <a:ext cx="549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12920" y="3214800"/>
            <a:ext cx="22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73560" y="32194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93960" y="333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59840" y="335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92160" y="357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48480" y="35751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7840" y="356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8640" y="356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0720" y="322272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2200" y="374148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6560" y="372600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9520" y="4811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6200" y="4827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640" y="504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2920" y="504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3040" y="503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7960" y="503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9520" y="4373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6920" y="4389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45720" y="461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3040" y="458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08880" y="45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86560" y="460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3420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9440" y="54957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3168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944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772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356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63600" y="527220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76320" y="51991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53240" y="5479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28480" y="5495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5072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3584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47120" y="570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792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23240" y="53658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4376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9000" y="5495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4124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2636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3728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844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3760" y="53672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96680" y="44650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29280" y="47325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6160" y="52671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34080" y="53625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635960" y="1312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56600" y="2246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33640" y="22622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53720" y="24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39200" y="248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50120" y="24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31280" y="24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5660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12040" y="181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5444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4388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5012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128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67760" y="290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59920" y="2925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65600" y="314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50000" y="314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61280" y="313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34160" y="313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9480" y="267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07360" y="1312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47080" y="1770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12960" y="1785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44560" y="2006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29680" y="2006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40600" y="1992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21760" y="199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93080" y="2349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97600" y="131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37320" y="177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3200" y="1790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4800" y="201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2011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30840" y="199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12000" y="199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46760" y="2196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33680" y="3328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00280" y="3344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31160" y="3565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6280" y="3565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27200" y="355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8360" y="355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00440" y="3213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31240" y="37306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08-06-27T05:21:07Z</dcterms:modified>
  <cp:revision>213</cp:revision>
  <dc:subject/>
  <dc:title>슬라이드 제목 없음</dc:title>
</cp:coreProperties>
</file>