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0DE-0291-4D10-9CF6-8338C8FA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11A-E907-4B78-8C9B-6A61820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9B3-2527-44DA-AC84-EF6E91BE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97E-7597-4E2F-B5E4-F2B077C8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A82-FEC5-4741-AB4C-E933CE8D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1ED-130F-40B0-A92C-600B120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343-DE80-452E-9F22-1C9FB94D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67F-8CF0-4F13-9B01-1144E6D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E7B-F59A-4FF9-89EE-FF577C4D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606-5092-4D13-8EA0-A97E41A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538-6BC9-47C5-A749-DEA03E2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5E1-396B-4649-B26C-E74686F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B554CD-8B32-4A47-BCB1-158593088E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5680" y="3521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67680" y="35370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4320" y="35020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3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2120" y="3960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90720" y="3976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160" y="420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77040" y="419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18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2120" y="3522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3538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9680" y="3759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9120" y="375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745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6160" y="374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14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41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99480" y="45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4200" y="45705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97320" y="4791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2080" y="47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93000" y="47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6240" y="47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38560" y="37900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1240" y="4989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12120" y="33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4402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56264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51480" y="47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3588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46800" y="4768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2004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560" y="2347920"/>
            <a:ext cx="773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3598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01560" y="361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2440" y="383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17560" y="383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28840" y="3821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09640" y="38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98960" y="3844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64320" y="3945240"/>
            <a:ext cx="42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" y="4133880"/>
            <a:ext cx="18882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구분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26960" y="2324160"/>
            <a:ext cx="3713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1560" y="3940920"/>
            <a:ext cx="549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79600" y="3176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5272200"/>
            <a:ext cx="19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788000" y="33004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3004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0760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65680" y="3865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73080" y="400680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0000" y="3173400"/>
            <a:ext cx="342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972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5596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72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23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8360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644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64064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203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2612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019840" y="329400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9840" y="329400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148360" y="32940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940120" y="241308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5012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640" y="54100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47960" y="563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272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364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2480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7400" y="45896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197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912080" y="600408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2080" y="6004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8001000" y="59720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5160" y="539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51040" y="54133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2280" y="563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67760" y="563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78680" y="561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59480" y="561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03960" y="5858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13720" y="539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79600" y="5408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11200" y="5629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9632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07240" y="561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988400" y="56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8440" y="282384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53360" y="52610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833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1120" y="5353200"/>
            <a:ext cx="11581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22280" y="53006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607000" y="578628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78628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5122800" y="5794200"/>
          <a:ext cx="15084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2800" y="579420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1628640"/>
            <a:ext cx="702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4864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9560" y="26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3624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704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421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282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3424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9560" y="2162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1500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776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5000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23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42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100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036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2632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956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6940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9748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9748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4848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7812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764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1640" y="4695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1608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4912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3424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45160" y="491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1840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80200" y="470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5364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9676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46280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74080" y="492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4696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9004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7752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8788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228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8356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5644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61000" y="382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3876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5848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4880" y="4051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3568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61000" y="3390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16440" y="340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848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5900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4880" y="3613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3568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3100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0584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132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0296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08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9936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7224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7548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659640" y="1933560"/>
          <a:ext cx="16488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933560"/>
                    <a:ext cx="16488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2536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944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6064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918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770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879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908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86440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1508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088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18640" y="1844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8020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4132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0376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69280" y="2989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564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8636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9728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6404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28242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9760" y="33350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831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05200" y="2295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2240" y="2311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0268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84920" y="254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99080" y="2517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7988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05200" y="1857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98800" y="1873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03400" y="2093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44960" y="209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99080" y="20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79880" y="20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8320" y="198396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0544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80200" y="299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46080" y="3006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77320" y="322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2440" y="322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73720" y="321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54520" y="321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75240" y="3471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12800" y="18986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84560" y="163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230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8120" y="2325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78560" y="2546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63680" y="254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74960" y="2532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55760" y="253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871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74680" y="188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78560" y="210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49640" y="21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74960" y="209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55760" y="209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612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52720" y="304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8324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68360" y="326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60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46520" y="288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6716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32680" y="304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7868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02240" y="3267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6068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27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43160" y="3025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9040" y="3041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40640" y="3262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25760" y="326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37040" y="3247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17840" y="32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03440" y="2873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68360" y="2874960"/>
            <a:ext cx="11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51080" y="2743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76800" y="18936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52960" y="203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18840" y="2054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50080" y="227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35200" y="227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46480" y="226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27280" y="22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7320" y="25146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503520" y="16282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65920" y="24141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40320" y="3233520"/>
            <a:ext cx="42804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61920" y="2855160"/>
            <a:ext cx="54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77720" y="3366360"/>
            <a:ext cx="164484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987640" y="4748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748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7360" y="404640"/>
            <a:ext cx="8445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8736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96840" y="120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58760" y="1544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19880" y="118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990720"/>
            <a:ext cx="62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38320" y="48564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32200" y="469584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32200" y="4970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858000" y="9903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7864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55680" y="1920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7612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6124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7216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332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78640" y="146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1482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76480" y="1703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65920" y="170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72160" y="168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3320" y="168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80080" y="25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72600" y="2593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78280" y="281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62680" y="28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73960" y="280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46840" y="280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0080" y="23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64320" y="990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04040" y="143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9920" y="1454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01520" y="167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86640" y="167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297560" y="166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8720" y="166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180200" y="2017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34040" y="99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73760" y="144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39640" y="1457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71240" y="167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56360" y="167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67280" y="166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8440" y="166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12000" y="20095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87360" y="157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96840" y="17953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58760" y="18111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1988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84120" y="1579680"/>
            <a:ext cx="400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2560" y="33148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29960" y="333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50040" y="3551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32280" y="356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6440" y="353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27240" y="35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2560" y="287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8640" y="28926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69120" y="311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3960" y="3112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46440" y="3098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27240" y="309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27240" y="37530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82920" y="38113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6372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38960" y="3987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61200" y="4208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63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57600" y="419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38400" y="419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3043080" y="4413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92520" y="505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6992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900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71880" y="530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6040" y="528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672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92520" y="461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38600" y="4635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08720" y="48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2240" y="48560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86040" y="484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67200" y="48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5103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205000" y="156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1304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8972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1340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95640" y="27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0656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90600" y="27590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13040" y="2098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68480" y="2114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14120" y="2335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35160" y="2335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6560" y="23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90600" y="23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54200" y="23508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81240" y="332100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76560" y="178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42080" y="180180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074040" y="202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9160" y="202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70080" y="200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1240" y="200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4980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79800" y="2914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45680" y="2930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1680" y="315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62400" y="3151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73680" y="3137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40080" y="31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78748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54440" y="2932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0320" y="2948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52640" y="316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37040" y="316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48320" y="3154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29120" y="315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15080" y="277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67080" y="26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86280" y="2236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63680" y="2252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83760" y="2473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5640" y="248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79800" y="2459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960" y="245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8628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79880" y="1814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8412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2604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7980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096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8616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4840" y="1753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54400" y="3212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010120" y="180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75640" y="1817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08320" y="2038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2720" y="203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03640" y="202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84800" y="20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54480" y="22780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26040" y="22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276880" y="156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32200" y="483084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3220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77080" y="5729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960720" y="546732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695760" y="5667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71000" y="5683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93240" y="590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78360" y="590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89280" y="588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70440" y="5889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54600" y="5553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606920" y="555300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44840" y="5667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20080" y="5683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43040" y="5904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627440" y="590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38720" y="588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19520" y="58896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89280" y="5062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66320" y="5078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86760" y="5299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8640" y="531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83160" y="528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3960" y="528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89280" y="4624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735360" y="4640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05840" y="486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59280" y="48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83160" y="4846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3960" y="484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29280" y="49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50655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21:04Z</cp:lastPrinted>
  <dcterms:modified xsi:type="dcterms:W3CDTF">2008-06-27T05:16:49Z</dcterms:modified>
  <cp:revision>171</cp:revision>
  <dc:subject/>
  <dc:title>슬라이드 제목 없음</dc:title>
</cp:coreProperties>
</file>