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17.wmf" ContentType="image/x-wmf"/>
  <Override PartName="/ppt/media/image9.png" ContentType="image/png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8AE-E658-48CA-AF7B-AD3DAF5E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222-E5D1-4655-9738-A86D653B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2EA-ED58-4763-A0F9-0D4DE714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FDB-B5E8-4A64-9C80-A107F5AB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47A-E099-46C0-B32A-F18B5A87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852C-EA71-48DD-8EE2-2A2CFB6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3AFA-0595-42E6-B200-9E41872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9DC4-B170-4AA4-9942-5AF11C8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6C5-B74A-4FC7-9280-C69E1FD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A96-6043-4858-B048-5770133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D61-CF45-4E1C-A891-F27BFC0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D29-344F-40E1-B623-047CB544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1815-1088-4C7B-814F-5EC8A9B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3431-4E41-4AE7-B577-52C2C18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D58-25A2-49AE-93AF-EDFCE18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379-7C14-4015-933A-8487C4B2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6A2F-DC69-48A4-9A71-5033E501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F0F-816D-4D1B-A760-AD8E055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A11-F94D-4666-BE30-F095A36F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862-AF39-4B7C-94F3-BA3C288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610-7258-486C-B4B1-A72288C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4D0-8017-445C-A90B-54A5E5D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FBF-85E7-4583-A77A-F377209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552-FC0D-4469-874D-97AFE0D7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6D57-980F-4E31-9144-64C32B16170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06B-C697-41D1-A20C-D6455709F6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4.wmf"/><Relationship Id="rId23" Type="http://schemas.openxmlformats.org/officeDocument/2006/relationships/image" Target="../media/image25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4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24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24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24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24.wmf"/><Relationship Id="rId36" Type="http://schemas.openxmlformats.org/officeDocument/2006/relationships/image" Target="../media/image25.png"/><Relationship Id="rId3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Syste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eutical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29000"/>
            <a:ext cx="8610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AN Korea</a:t>
            </a:r>
            <a:br>
              <a:rPr sz="24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omepage : www.eankorea.or.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 International/UC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년 미국 식품 및 잡화업체가 중심이 되어 설립된 비영리 국제코드관리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현재 북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미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캐나다 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코드를 개발 및 보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 국가에 별도의 코드관리기관을 설치하고 있지 않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295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Code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581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N International &amp; Uniform Code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1148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7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 Alliance Program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운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70000"/>
              </a:lnSpc>
              <a:spcBef>
                <a:spcPts val="1125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각국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코드관리기관에서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PC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코드등록 대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7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 Global Trade Item Numb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적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70000"/>
              </a:lnSpc>
              <a:spcBef>
                <a:spcPts val="1250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년부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umberin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 통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70000"/>
              </a:lnSpc>
              <a:spcBef>
                <a:spcPts val="1250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년부터 각종 응용 어플리케이션  통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7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타 다산업용 국제표준의 개발 및 보급에 협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15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조직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1600200"/>
          <a:ext cx="7640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4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구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441936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식별코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dentification Numb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바코드심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arcode Symb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전자문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60600" y="1108080"/>
            <a:ext cx="4626000" cy="2998440"/>
            <a:chOff x="2460600" y="1108080"/>
            <a:chExt cx="4626000" cy="2998440"/>
          </a:xfrm>
        </p:grpSpPr>
        <p:sp>
          <p:nvSpPr>
            <p:cNvPr id="162" name=""/>
            <p:cNvSpPr/>
            <p:nvPr/>
          </p:nvSpPr>
          <p:spPr>
            <a:xfrm rot="18660000">
              <a:off x="2242800" y="2003760"/>
              <a:ext cx="2664000" cy="63756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ritannic Bold"/>
                </a:rPr>
                <a:t>Barcod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895480" y="1451160"/>
              <a:ext cx="4191120" cy="2655360"/>
              <a:chOff x="2895480" y="1451160"/>
              <a:chExt cx="4191120" cy="2655360"/>
            </a:xfrm>
          </p:grpSpPr>
          <p:sp>
            <p:nvSpPr>
              <p:cNvPr id="164" name=""/>
              <p:cNvSpPr/>
              <p:nvPr/>
            </p:nvSpPr>
            <p:spPr>
              <a:xfrm>
                <a:off x="2895480" y="1451160"/>
                <a:ext cx="3699000" cy="2076480"/>
              </a:xfrm>
              <a:prstGeom prst="triangle">
                <a:avLst>
                  <a:gd name="adj" fmla="val 49977"/>
                </a:avLst>
              </a:prstGeom>
              <a:solidFill>
                <a:srgbClr val="00b7a5"/>
              </a:solidFill>
              <a:ln w="7632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3000000">
                <a:off x="5502240" y="2190600"/>
                <a:ext cx="1374840" cy="698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Britannic Bold"/>
                  </a:rPr>
                  <a:t>E D I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Britannic Bold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5760" y="3468960"/>
                <a:ext cx="3660840" cy="637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Britannic Bold"/>
                  </a:rPr>
                  <a:t>ID Number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식별코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4343040"/>
            <a:ext cx="6858000" cy="14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a5dec"/>
                </a:solidFill>
                <a:latin typeface="Times New Roman"/>
              </a:rPr>
              <a:t>컴퓨터에 저장되어 있는  </a:t>
            </a:r>
            <a:r>
              <a:rPr b="1" lang="ko-KR" sz="2800" spc="-1" strike="noStrike">
                <a:solidFill>
                  <a:srgbClr val="2a5dec"/>
                </a:solidFill>
                <a:latin typeface="Times New Roman"/>
              </a:rPr>
              <a:t>DB files</a:t>
            </a:r>
            <a:r>
              <a:rPr b="1" lang="ko-KR" sz="2800" spc="-1" strike="noStrike">
                <a:solidFill>
                  <a:srgbClr val="2a5dec"/>
                </a:solidFill>
                <a:latin typeface="Times New Roman"/>
              </a:rPr>
              <a:t>에 대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a5dec"/>
                </a:solidFill>
                <a:latin typeface="Times New Roman"/>
              </a:rPr>
              <a:t>업체 내외의  접근•연결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352680" y="2209680"/>
          <a:ext cx="2041560" cy="18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09680"/>
                    <a:ext cx="204156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2286000" y="1981080"/>
            <a:ext cx="1752480" cy="852480"/>
            <a:chOff x="2286000" y="1981080"/>
            <a:chExt cx="1752480" cy="852480"/>
          </a:xfrm>
        </p:grpSpPr>
        <p:sp>
          <p:nvSpPr>
            <p:cNvPr id="172" name=""/>
            <p:cNvSpPr/>
            <p:nvPr/>
          </p:nvSpPr>
          <p:spPr>
            <a:xfrm>
              <a:off x="2286000" y="1981080"/>
              <a:ext cx="1752480" cy="852480"/>
            </a:xfrm>
            <a:custGeom>
              <a:avLst/>
              <a:gdLst/>
              <a:ahLst/>
              <a:rect l="l" t="t" r="r" b="b"/>
              <a:pathLst>
                <a:path w="1104" h="537">
                  <a:moveTo>
                    <a:pt x="483" y="185"/>
                  </a:moveTo>
                  <a:lnTo>
                    <a:pt x="1002" y="185"/>
                  </a:lnTo>
                  <a:lnTo>
                    <a:pt x="1103" y="273"/>
                  </a:lnTo>
                  <a:lnTo>
                    <a:pt x="1002" y="361"/>
                  </a:lnTo>
                  <a:lnTo>
                    <a:pt x="960" y="361"/>
                  </a:lnTo>
                  <a:lnTo>
                    <a:pt x="893" y="302"/>
                  </a:lnTo>
                  <a:lnTo>
                    <a:pt x="826" y="361"/>
                  </a:lnTo>
                  <a:lnTo>
                    <a:pt x="718" y="361"/>
                  </a:lnTo>
                  <a:lnTo>
                    <a:pt x="650" y="302"/>
                  </a:lnTo>
                  <a:lnTo>
                    <a:pt x="582" y="361"/>
                  </a:lnTo>
                  <a:lnTo>
                    <a:pt x="483" y="361"/>
                  </a:lnTo>
                  <a:lnTo>
                    <a:pt x="465" y="361"/>
                  </a:lnTo>
                  <a:lnTo>
                    <a:pt x="458" y="366"/>
                  </a:lnTo>
                  <a:lnTo>
                    <a:pt x="446" y="396"/>
                  </a:lnTo>
                  <a:lnTo>
                    <a:pt x="431" y="423"/>
                  </a:lnTo>
                  <a:lnTo>
                    <a:pt x="412" y="449"/>
                  </a:lnTo>
                  <a:lnTo>
                    <a:pt x="391" y="471"/>
                  </a:lnTo>
                  <a:lnTo>
                    <a:pt x="367" y="493"/>
                  </a:lnTo>
                  <a:lnTo>
                    <a:pt x="341" y="509"/>
                  </a:lnTo>
                  <a:lnTo>
                    <a:pt x="315" y="521"/>
                  </a:lnTo>
                  <a:lnTo>
                    <a:pt x="287" y="530"/>
                  </a:lnTo>
                  <a:lnTo>
                    <a:pt x="259" y="535"/>
                  </a:lnTo>
                  <a:lnTo>
                    <a:pt x="228" y="536"/>
                  </a:lnTo>
                  <a:lnTo>
                    <a:pt x="198" y="532"/>
                  </a:lnTo>
                  <a:lnTo>
                    <a:pt x="170" y="526"/>
                  </a:lnTo>
                  <a:lnTo>
                    <a:pt x="143" y="516"/>
                  </a:lnTo>
                  <a:lnTo>
                    <a:pt x="115" y="499"/>
                  </a:lnTo>
                  <a:lnTo>
                    <a:pt x="92" y="481"/>
                  </a:lnTo>
                  <a:lnTo>
                    <a:pt x="70" y="457"/>
                  </a:lnTo>
                  <a:lnTo>
                    <a:pt x="50" y="433"/>
                  </a:lnTo>
                  <a:lnTo>
                    <a:pt x="34" y="407"/>
                  </a:lnTo>
                  <a:lnTo>
                    <a:pt x="20" y="377"/>
                  </a:lnTo>
                  <a:lnTo>
                    <a:pt x="10" y="347"/>
                  </a:lnTo>
                  <a:lnTo>
                    <a:pt x="3" y="314"/>
                  </a:lnTo>
                  <a:lnTo>
                    <a:pt x="0" y="281"/>
                  </a:lnTo>
                  <a:lnTo>
                    <a:pt x="0" y="248"/>
                  </a:lnTo>
                  <a:lnTo>
                    <a:pt x="4" y="215"/>
                  </a:lnTo>
                  <a:lnTo>
                    <a:pt x="13" y="183"/>
                  </a:lnTo>
                  <a:lnTo>
                    <a:pt x="23" y="153"/>
                  </a:lnTo>
                  <a:lnTo>
                    <a:pt x="37" y="124"/>
                  </a:lnTo>
                  <a:lnTo>
                    <a:pt x="54" y="97"/>
                  </a:lnTo>
                  <a:lnTo>
                    <a:pt x="74" y="74"/>
                  </a:lnTo>
                  <a:lnTo>
                    <a:pt x="96" y="53"/>
                  </a:lnTo>
                  <a:lnTo>
                    <a:pt x="122" y="34"/>
                  </a:lnTo>
                  <a:lnTo>
                    <a:pt x="149" y="22"/>
                  </a:lnTo>
                  <a:lnTo>
                    <a:pt x="178" y="11"/>
                  </a:lnTo>
                  <a:lnTo>
                    <a:pt x="205" y="4"/>
                  </a:lnTo>
                  <a:lnTo>
                    <a:pt x="234" y="0"/>
                  </a:lnTo>
                  <a:lnTo>
                    <a:pt x="264" y="2"/>
                  </a:lnTo>
                  <a:lnTo>
                    <a:pt x="292" y="9"/>
                  </a:lnTo>
                  <a:lnTo>
                    <a:pt x="321" y="18"/>
                  </a:lnTo>
                  <a:lnTo>
                    <a:pt x="347" y="32"/>
                  </a:lnTo>
                  <a:lnTo>
                    <a:pt x="372" y="48"/>
                  </a:lnTo>
                  <a:lnTo>
                    <a:pt x="396" y="69"/>
                  </a:lnTo>
                  <a:lnTo>
                    <a:pt x="416" y="93"/>
                  </a:lnTo>
                  <a:lnTo>
                    <a:pt x="434" y="121"/>
                  </a:lnTo>
                  <a:lnTo>
                    <a:pt x="449" y="148"/>
                  </a:lnTo>
                  <a:lnTo>
                    <a:pt x="460" y="179"/>
                  </a:lnTo>
                  <a:lnTo>
                    <a:pt x="465" y="185"/>
                  </a:lnTo>
                  <a:lnTo>
                    <a:pt x="483" y="185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fde3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2800" y="2344680"/>
              <a:ext cx="981000" cy="65160"/>
            </a:xfrm>
            <a:custGeom>
              <a:avLst/>
              <a:gdLst/>
              <a:ahLst/>
              <a:rect l="l" t="t" r="r" b="b"/>
              <a:pathLst>
                <a:path w="618" h="41">
                  <a:moveTo>
                    <a:pt x="566" y="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617" y="40"/>
                  </a:lnTo>
                  <a:lnTo>
                    <a:pt x="566" y="0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76360" y="2325600"/>
              <a:ext cx="12888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40" y="92"/>
                  </a:moveTo>
                  <a:lnTo>
                    <a:pt x="28" y="90"/>
                  </a:lnTo>
                  <a:lnTo>
                    <a:pt x="17" y="83"/>
                  </a:lnTo>
                  <a:lnTo>
                    <a:pt x="8" y="74"/>
                  </a:lnTo>
                  <a:lnTo>
                    <a:pt x="4" y="63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5" y="24"/>
                  </a:lnTo>
                  <a:lnTo>
                    <a:pt x="12" y="13"/>
                  </a:lnTo>
                  <a:lnTo>
                    <a:pt x="22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5" y="4"/>
                  </a:lnTo>
                  <a:lnTo>
                    <a:pt x="65" y="11"/>
                  </a:lnTo>
                  <a:lnTo>
                    <a:pt x="73" y="21"/>
                  </a:lnTo>
                  <a:lnTo>
                    <a:pt x="79" y="33"/>
                  </a:lnTo>
                  <a:lnTo>
                    <a:pt x="80" y="46"/>
                  </a:lnTo>
                  <a:lnTo>
                    <a:pt x="79" y="59"/>
                  </a:lnTo>
                  <a:lnTo>
                    <a:pt x="73" y="71"/>
                  </a:lnTo>
                  <a:lnTo>
                    <a:pt x="65" y="81"/>
                  </a:lnTo>
                  <a:lnTo>
                    <a:pt x="55" y="89"/>
                  </a:lnTo>
                  <a:lnTo>
                    <a:pt x="44" y="92"/>
                  </a:lnTo>
                  <a:lnTo>
                    <a:pt x="4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식별코드의 특징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유일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각의 품목에 서로 다른 유일한 코드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비유의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각의 품목을 식별하지만 코드는 아무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정보를 담고 있지 않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국제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N/UC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식별코드는 전세계 모든 산업분야에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적용 가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안정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고정자리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코드이며 검증번호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해 안전성이 보장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30040" y="1371600"/>
            <a:ext cx="1752840" cy="852480"/>
            <a:chOff x="230040" y="1371600"/>
            <a:chExt cx="1752840" cy="852480"/>
          </a:xfrm>
        </p:grpSpPr>
        <p:sp>
          <p:nvSpPr>
            <p:cNvPr id="178" name=""/>
            <p:cNvSpPr/>
            <p:nvPr/>
          </p:nvSpPr>
          <p:spPr>
            <a:xfrm>
              <a:off x="230040" y="1371600"/>
              <a:ext cx="1752840" cy="852480"/>
            </a:xfrm>
            <a:custGeom>
              <a:avLst/>
              <a:gdLst/>
              <a:ahLst/>
              <a:rect l="l" t="t" r="r" b="b"/>
              <a:pathLst>
                <a:path w="1104" h="537">
                  <a:moveTo>
                    <a:pt x="483" y="185"/>
                  </a:moveTo>
                  <a:lnTo>
                    <a:pt x="1002" y="185"/>
                  </a:lnTo>
                  <a:lnTo>
                    <a:pt x="1103" y="273"/>
                  </a:lnTo>
                  <a:lnTo>
                    <a:pt x="1002" y="361"/>
                  </a:lnTo>
                  <a:lnTo>
                    <a:pt x="960" y="361"/>
                  </a:lnTo>
                  <a:lnTo>
                    <a:pt x="893" y="302"/>
                  </a:lnTo>
                  <a:lnTo>
                    <a:pt x="826" y="361"/>
                  </a:lnTo>
                  <a:lnTo>
                    <a:pt x="718" y="361"/>
                  </a:lnTo>
                  <a:lnTo>
                    <a:pt x="650" y="302"/>
                  </a:lnTo>
                  <a:lnTo>
                    <a:pt x="582" y="361"/>
                  </a:lnTo>
                  <a:lnTo>
                    <a:pt x="483" y="361"/>
                  </a:lnTo>
                  <a:lnTo>
                    <a:pt x="465" y="361"/>
                  </a:lnTo>
                  <a:lnTo>
                    <a:pt x="458" y="366"/>
                  </a:lnTo>
                  <a:lnTo>
                    <a:pt x="446" y="396"/>
                  </a:lnTo>
                  <a:lnTo>
                    <a:pt x="431" y="423"/>
                  </a:lnTo>
                  <a:lnTo>
                    <a:pt x="412" y="449"/>
                  </a:lnTo>
                  <a:lnTo>
                    <a:pt x="391" y="471"/>
                  </a:lnTo>
                  <a:lnTo>
                    <a:pt x="367" y="493"/>
                  </a:lnTo>
                  <a:lnTo>
                    <a:pt x="341" y="509"/>
                  </a:lnTo>
                  <a:lnTo>
                    <a:pt x="315" y="521"/>
                  </a:lnTo>
                  <a:lnTo>
                    <a:pt x="287" y="530"/>
                  </a:lnTo>
                  <a:lnTo>
                    <a:pt x="259" y="535"/>
                  </a:lnTo>
                  <a:lnTo>
                    <a:pt x="228" y="536"/>
                  </a:lnTo>
                  <a:lnTo>
                    <a:pt x="198" y="532"/>
                  </a:lnTo>
                  <a:lnTo>
                    <a:pt x="170" y="526"/>
                  </a:lnTo>
                  <a:lnTo>
                    <a:pt x="143" y="516"/>
                  </a:lnTo>
                  <a:lnTo>
                    <a:pt x="115" y="499"/>
                  </a:lnTo>
                  <a:lnTo>
                    <a:pt x="92" y="481"/>
                  </a:lnTo>
                  <a:lnTo>
                    <a:pt x="70" y="457"/>
                  </a:lnTo>
                  <a:lnTo>
                    <a:pt x="50" y="433"/>
                  </a:lnTo>
                  <a:lnTo>
                    <a:pt x="34" y="407"/>
                  </a:lnTo>
                  <a:lnTo>
                    <a:pt x="20" y="377"/>
                  </a:lnTo>
                  <a:lnTo>
                    <a:pt x="10" y="347"/>
                  </a:lnTo>
                  <a:lnTo>
                    <a:pt x="3" y="314"/>
                  </a:lnTo>
                  <a:lnTo>
                    <a:pt x="0" y="281"/>
                  </a:lnTo>
                  <a:lnTo>
                    <a:pt x="0" y="248"/>
                  </a:lnTo>
                  <a:lnTo>
                    <a:pt x="4" y="215"/>
                  </a:lnTo>
                  <a:lnTo>
                    <a:pt x="13" y="183"/>
                  </a:lnTo>
                  <a:lnTo>
                    <a:pt x="23" y="153"/>
                  </a:lnTo>
                  <a:lnTo>
                    <a:pt x="37" y="124"/>
                  </a:lnTo>
                  <a:lnTo>
                    <a:pt x="54" y="97"/>
                  </a:lnTo>
                  <a:lnTo>
                    <a:pt x="74" y="74"/>
                  </a:lnTo>
                  <a:lnTo>
                    <a:pt x="96" y="53"/>
                  </a:lnTo>
                  <a:lnTo>
                    <a:pt x="122" y="34"/>
                  </a:lnTo>
                  <a:lnTo>
                    <a:pt x="149" y="22"/>
                  </a:lnTo>
                  <a:lnTo>
                    <a:pt x="178" y="11"/>
                  </a:lnTo>
                  <a:lnTo>
                    <a:pt x="205" y="4"/>
                  </a:lnTo>
                  <a:lnTo>
                    <a:pt x="234" y="0"/>
                  </a:lnTo>
                  <a:lnTo>
                    <a:pt x="264" y="2"/>
                  </a:lnTo>
                  <a:lnTo>
                    <a:pt x="292" y="9"/>
                  </a:lnTo>
                  <a:lnTo>
                    <a:pt x="321" y="18"/>
                  </a:lnTo>
                  <a:lnTo>
                    <a:pt x="347" y="32"/>
                  </a:lnTo>
                  <a:lnTo>
                    <a:pt x="372" y="48"/>
                  </a:lnTo>
                  <a:lnTo>
                    <a:pt x="396" y="69"/>
                  </a:lnTo>
                  <a:lnTo>
                    <a:pt x="416" y="93"/>
                  </a:lnTo>
                  <a:lnTo>
                    <a:pt x="434" y="121"/>
                  </a:lnTo>
                  <a:lnTo>
                    <a:pt x="449" y="148"/>
                  </a:lnTo>
                  <a:lnTo>
                    <a:pt x="460" y="179"/>
                  </a:lnTo>
                  <a:lnTo>
                    <a:pt x="465" y="185"/>
                  </a:lnTo>
                  <a:lnTo>
                    <a:pt x="483" y="185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fde3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6840" y="1735200"/>
              <a:ext cx="981360" cy="65160"/>
            </a:xfrm>
            <a:custGeom>
              <a:avLst/>
              <a:gdLst/>
              <a:ahLst/>
              <a:rect l="l" t="t" r="r" b="b"/>
              <a:pathLst>
                <a:path w="618" h="41">
                  <a:moveTo>
                    <a:pt x="566" y="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617" y="40"/>
                  </a:lnTo>
                  <a:lnTo>
                    <a:pt x="566" y="0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760" y="171612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40" y="92"/>
                  </a:moveTo>
                  <a:lnTo>
                    <a:pt x="28" y="90"/>
                  </a:lnTo>
                  <a:lnTo>
                    <a:pt x="17" y="83"/>
                  </a:lnTo>
                  <a:lnTo>
                    <a:pt x="8" y="74"/>
                  </a:lnTo>
                  <a:lnTo>
                    <a:pt x="4" y="63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5" y="24"/>
                  </a:lnTo>
                  <a:lnTo>
                    <a:pt x="12" y="13"/>
                  </a:lnTo>
                  <a:lnTo>
                    <a:pt x="22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5" y="4"/>
                  </a:lnTo>
                  <a:lnTo>
                    <a:pt x="65" y="11"/>
                  </a:lnTo>
                  <a:lnTo>
                    <a:pt x="73" y="21"/>
                  </a:lnTo>
                  <a:lnTo>
                    <a:pt x="79" y="33"/>
                  </a:lnTo>
                  <a:lnTo>
                    <a:pt x="80" y="46"/>
                  </a:lnTo>
                  <a:lnTo>
                    <a:pt x="79" y="59"/>
                  </a:lnTo>
                  <a:lnTo>
                    <a:pt x="73" y="71"/>
                  </a:lnTo>
                  <a:lnTo>
                    <a:pt x="65" y="81"/>
                  </a:lnTo>
                  <a:lnTo>
                    <a:pt x="55" y="89"/>
                  </a:lnTo>
                  <a:lnTo>
                    <a:pt x="44" y="92"/>
                  </a:lnTo>
                  <a:lnTo>
                    <a:pt x="4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343400" y="2743200"/>
            <a:ext cx="999720" cy="1763280"/>
            <a:chOff x="4343400" y="2743200"/>
            <a:chExt cx="999720" cy="1763280"/>
          </a:xfrm>
        </p:grpSpPr>
        <p:grpSp>
          <p:nvGrpSpPr>
            <p:cNvPr id="182" name=""/>
            <p:cNvGrpSpPr/>
            <p:nvPr/>
          </p:nvGrpSpPr>
          <p:grpSpPr>
            <a:xfrm>
              <a:off x="4343400" y="2743200"/>
              <a:ext cx="999720" cy="1763280"/>
              <a:chOff x="4343400" y="2743200"/>
              <a:chExt cx="999720" cy="1763280"/>
            </a:xfrm>
          </p:grpSpPr>
          <p:sp>
            <p:nvSpPr>
              <p:cNvPr id="183" name=""/>
              <p:cNvSpPr/>
              <p:nvPr/>
            </p:nvSpPr>
            <p:spPr>
              <a:xfrm>
                <a:off x="4343400" y="3624120"/>
                <a:ext cx="608760" cy="7668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43400" y="3613680"/>
                <a:ext cx="6087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350240" y="2792520"/>
                <a:ext cx="587160" cy="872640"/>
                <a:chOff x="4350240" y="2792520"/>
                <a:chExt cx="587160" cy="872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350240" y="2792520"/>
                  <a:ext cx="587160" cy="83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50000">
                      <a:srgbClr val="fb3352"/>
                    </a:gs>
                    <a:gs pos="100000">
                      <a:srgbClr val="fc0128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65000" y="3592440"/>
                  <a:ext cx="572400" cy="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50000">
                      <a:srgbClr val="fb3352"/>
                    </a:gs>
                    <a:gs pos="100000">
                      <a:srgbClr val="fc0128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343400" y="2757600"/>
                <a:ext cx="608760" cy="7272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43400" y="2743200"/>
                <a:ext cx="60876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60840" y="2836440"/>
                <a:ext cx="782280" cy="167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3"/>
                    </a:moveTo>
                    <a:arcTo wR="10800" hR="10800" stAng="-10791443" swAng="5370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3"/>
                    </a:moveTo>
                    <a:arcTo wR="10800" hR="10800" stAng="-10791443" swAng="537018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18160" y="2990520"/>
                <a:ext cx="457560" cy="136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38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49600" y="2788920"/>
                <a:ext cx="130320" cy="612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374360" y="3322440"/>
              <a:ext cx="464400" cy="26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295280" y="2133720"/>
            <a:ext cx="7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140200">
            <a:off x="3658320" y="3581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8012345678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3400" y="45720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abc-265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식별코드의 필요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343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특정의약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5dec"/>
                </a:solidFill>
                <a:latin typeface="Times New Roman"/>
              </a:rPr>
              <a:t>거래상대자간 공통의  커뮤니케이션 수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590920" y="4267080"/>
            <a:ext cx="1218960" cy="4572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514240" y="2720520"/>
            <a:ext cx="1219320" cy="32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38680" y="2762280"/>
            <a:ext cx="1067040" cy="285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4191120"/>
            <a:ext cx="1067040" cy="6159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0" y="2895480"/>
          <a:ext cx="1457280" cy="130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95480"/>
                    <a:ext cx="145728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66680" y="2971800"/>
          <a:ext cx="1457280" cy="13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971800"/>
                    <a:ext cx="1457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781680" y="2133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3456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4648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1" lang="ko-KR" sz="1600" spc="-1" strike="noStrike">
                <a:solidFill>
                  <a:srgbClr val="010000"/>
                </a:solidFill>
                <a:latin typeface="Times New Roman"/>
              </a:rPr>
              <a:t>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10000"/>
                </a:solidFill>
                <a:latin typeface="Times New Roman"/>
              </a:rPr>
              <a:t>123-xy-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식별코드의 대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거래단위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Trade Units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통공급망상에서 식별이 요구되는 각종 포장형태를 포함한 모든 개별품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류단위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Logistics Units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통공급망상에서 수배송    또는 보관을 위한 물리적 단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로케이션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Locations)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창고 등 물리적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능적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법적 실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산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Assets)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배송 용품을 포함한 회수 또는 고정자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680" y="6324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식별코드의 종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3200400"/>
            <a:ext cx="8300520" cy="3192480"/>
            <a:chOff x="457200" y="3200400"/>
            <a:chExt cx="8300520" cy="3192480"/>
          </a:xfrm>
        </p:grpSpPr>
        <p:grpSp>
          <p:nvGrpSpPr>
            <p:cNvPr id="215" name=""/>
            <p:cNvGrpSpPr/>
            <p:nvPr/>
          </p:nvGrpSpPr>
          <p:grpSpPr>
            <a:xfrm>
              <a:off x="462240" y="3205080"/>
              <a:ext cx="8292960" cy="3187800"/>
              <a:chOff x="462240" y="3205080"/>
              <a:chExt cx="8292960" cy="3187800"/>
            </a:xfrm>
          </p:grpSpPr>
          <p:sp>
            <p:nvSpPr>
              <p:cNvPr id="216" name=""/>
              <p:cNvSpPr/>
              <p:nvPr/>
            </p:nvSpPr>
            <p:spPr>
              <a:xfrm>
                <a:off x="1757520" y="3738600"/>
                <a:ext cx="6997680" cy="5205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2240" y="3205080"/>
                <a:ext cx="8292960" cy="5205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2240" y="3738600"/>
                <a:ext cx="128268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2240" y="4271760"/>
                <a:ext cx="829296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2240" y="4805280"/>
                <a:ext cx="82929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2240" y="5338800"/>
                <a:ext cx="82929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2240" y="5871960"/>
                <a:ext cx="829296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51040" y="3220920"/>
                <a:ext cx="0" cy="31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2268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3712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5156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8008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9452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0896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3748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5192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6636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2356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6548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6564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23040" y="3754440"/>
                <a:ext cx="0" cy="26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57200" y="441936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N/UCC-1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495288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N/UCC-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" y="548640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CC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" y="601956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N/UCC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7000" y="3886200"/>
              <a:ext cx="376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6980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3276360"/>
              <a:ext cx="6855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obal Trade Item Number (GT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" y="3200400"/>
              <a:ext cx="1292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종   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0332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74920" y="3886200"/>
              <a:ext cx="376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9368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2720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6072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92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1080" y="3886200"/>
              <a:ext cx="405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7240" y="3884400"/>
              <a:ext cx="463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0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88240" y="3886200"/>
              <a:ext cx="465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1040" y="3886200"/>
              <a:ext cx="49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2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7440" y="3886200"/>
              <a:ext cx="515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4640" y="3886200"/>
              <a:ext cx="515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95320" y="4419360"/>
              <a:ext cx="444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324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0044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5764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9080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432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784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9100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8200" y="44193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1840" y="4419360"/>
              <a:ext cx="475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85360" y="4419360"/>
              <a:ext cx="475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2560" y="4419360"/>
              <a:ext cx="475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99760" y="4419360"/>
              <a:ext cx="475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31760" y="441936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6320" y="49528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6320" y="54864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76320" y="6019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07960" y="5486400"/>
              <a:ext cx="334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7960" y="6019560"/>
              <a:ext cx="334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66680" y="6019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98680" y="6019560"/>
              <a:ext cx="334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57400" y="6019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90920" y="6019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4440" y="4952880"/>
              <a:ext cx="473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6040" y="4952880"/>
              <a:ext cx="444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3360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9080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2432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784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9100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820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1720" y="495288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3840" y="495288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360" y="495288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4560" y="495288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31760" y="495288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47600" y="5486400"/>
              <a:ext cx="473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19200" y="5486400"/>
              <a:ext cx="444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65600" y="5486400"/>
              <a:ext cx="466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2432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784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9100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4820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8172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5240" y="548640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7360" y="548640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49720" y="5486400"/>
              <a:ext cx="5760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31760" y="5486400"/>
              <a:ext cx="525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05000" y="6019560"/>
              <a:ext cx="473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6600" y="6019560"/>
              <a:ext cx="444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23000" y="6019560"/>
              <a:ext cx="466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81720" y="60195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15240" y="60195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72440" y="60195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05600" y="6019560"/>
              <a:ext cx="416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61640" y="6019560"/>
              <a:ext cx="466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ko-KR" sz="1600" spc="-1" strike="noStrike" baseline="-25000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295280" y="1600200"/>
            <a:ext cx="73152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G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200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 부터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C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의 통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1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 고정자리로 데이터베이스 필드 통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거래단위 및 물류단위에 적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62120" y="3733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식별코드를 스캐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광학적 판독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가        읽을 수 있는 형태로 표현한 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스캐너가 판독한 데이터는 컴퓨터에 전송되어 처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219320" y="2209680"/>
          <a:ext cx="1331640" cy="10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13316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705720" y="2209680"/>
          <a:ext cx="11300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209680"/>
                    <a:ext cx="1130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876560" y="2133720"/>
            <a:ext cx="166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123456789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2590920"/>
            <a:ext cx="749160" cy="291960"/>
          </a:xfrm>
          <a:prstGeom prst="rightArrow">
            <a:avLst>
              <a:gd name="adj1" fmla="val 50000"/>
              <a:gd name="adj2" fmla="val 12831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2590920"/>
            <a:ext cx="1282680" cy="291960"/>
          </a:xfrm>
          <a:prstGeom prst="rightArrow">
            <a:avLst>
              <a:gd name="adj1" fmla="val 50000"/>
              <a:gd name="adj2" fmla="val 219687"/>
            </a:avLst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151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바코드 심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733920" y="2209680"/>
          <a:ext cx="1295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20968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매단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Consumer Unit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부착되는 식별코드로서        주로 약국 및 의료기관에서 의약품이 판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투여되는       시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Point of Sale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판독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 숫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Numeric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구성된 코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품의 판매 및 재고현황 파악의 자동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kan13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133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목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바코드 개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경 및 필요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. EAN/UC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 개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 Internationa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구성 및 종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3. EAN/UC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 활용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조업자 등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품목코드 설정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4. EAN/UC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 표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크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쇄위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색상 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5. EAN/UC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 활용방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국내외 활용현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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향후 활용 분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EH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1676520"/>
            <a:ext cx="4496040" cy="1220760"/>
            <a:chOff x="1066680" y="1676520"/>
            <a:chExt cx="4496040" cy="1220760"/>
          </a:xfrm>
        </p:grpSpPr>
        <p:sp>
          <p:nvSpPr>
            <p:cNvPr id="330" name=""/>
            <p:cNvSpPr/>
            <p:nvPr/>
          </p:nvSpPr>
          <p:spPr>
            <a:xfrm>
              <a:off x="1066680" y="1676520"/>
              <a:ext cx="4496040" cy="12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8640" y="173916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31640" y="17391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PP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8920" y="1739160"/>
              <a:ext cx="11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 I I I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4520" y="1739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/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71600" y="2190240"/>
              <a:ext cx="762120" cy="0"/>
            </a:xfrm>
            <a:prstGeom prst="line">
              <a:avLst/>
            </a:prstGeom>
            <a:ln w="12600">
              <a:solidFill>
                <a:srgbClr val="99ff33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0" y="2190240"/>
              <a:ext cx="914400" cy="0"/>
            </a:xfrm>
            <a:prstGeom prst="line">
              <a:avLst/>
            </a:prstGeom>
            <a:ln w="12600">
              <a:solidFill>
                <a:srgbClr val="66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2190240"/>
              <a:ext cx="1067040" cy="0"/>
            </a:xfrm>
            <a:prstGeom prst="line">
              <a:avLst/>
            </a:prstGeom>
            <a:ln w="12600">
              <a:solidFill>
                <a:srgbClr val="ff66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2000" y="2190240"/>
              <a:ext cx="76212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2557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국 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식별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73840" y="22557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제조업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코 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16840" y="22557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의약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품목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56680" y="2255760"/>
              <a:ext cx="42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검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번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57200" y="28195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143000" y="3276720"/>
            <a:ext cx="4495680" cy="1447560"/>
            <a:chOff x="1143000" y="3276720"/>
            <a:chExt cx="4495680" cy="1447560"/>
          </a:xfrm>
        </p:grpSpPr>
        <p:sp>
          <p:nvSpPr>
            <p:cNvPr id="345" name=""/>
            <p:cNvSpPr/>
            <p:nvPr/>
          </p:nvSpPr>
          <p:spPr>
            <a:xfrm>
              <a:off x="1143000" y="3276720"/>
              <a:ext cx="4495680" cy="1447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24600" y="335268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70880" y="3352680"/>
              <a:ext cx="14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PPPP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48320" y="34034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I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50480" y="33526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/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7560" y="3886200"/>
              <a:ext cx="762120" cy="0"/>
            </a:xfrm>
            <a:prstGeom prst="line">
              <a:avLst/>
            </a:prstGeom>
            <a:ln w="12600">
              <a:solidFill>
                <a:srgbClr val="99ff33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1960" y="3886200"/>
              <a:ext cx="1219320" cy="0"/>
            </a:xfrm>
            <a:prstGeom prst="line">
              <a:avLst/>
            </a:prstGeom>
            <a:ln w="12600">
              <a:solidFill>
                <a:srgbClr val="66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3560" y="3886200"/>
              <a:ext cx="762120" cy="0"/>
            </a:xfrm>
            <a:prstGeom prst="line">
              <a:avLst/>
            </a:prstGeom>
            <a:ln w="12600">
              <a:solidFill>
                <a:srgbClr val="ff66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7960" y="3886200"/>
              <a:ext cx="76212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59440" y="39621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국 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식별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02440" y="39621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제조업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코 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45440" y="39621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의약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품목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17520" y="3962160"/>
              <a:ext cx="455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검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번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33520" y="4648320"/>
            <a:ext cx="121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체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219320" y="4952880"/>
            <a:ext cx="4495680" cy="1220760"/>
            <a:chOff x="1219320" y="4952880"/>
            <a:chExt cx="4495680" cy="1220760"/>
          </a:xfrm>
        </p:grpSpPr>
        <p:sp>
          <p:nvSpPr>
            <p:cNvPr id="361" name=""/>
            <p:cNvSpPr/>
            <p:nvPr/>
          </p:nvSpPr>
          <p:spPr>
            <a:xfrm>
              <a:off x="1219320" y="4952880"/>
              <a:ext cx="4495680" cy="12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920" y="501552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76280" y="5015520"/>
              <a:ext cx="12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PPP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3800" y="5015520"/>
              <a:ext cx="9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 I I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26440" y="5015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/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3880" y="5466600"/>
              <a:ext cx="761760" cy="0"/>
            </a:xfrm>
            <a:prstGeom prst="line">
              <a:avLst/>
            </a:prstGeom>
            <a:ln w="12600">
              <a:solidFill>
                <a:srgbClr val="99ff33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38280" y="5466600"/>
              <a:ext cx="914040" cy="0"/>
            </a:xfrm>
            <a:prstGeom prst="line">
              <a:avLst/>
            </a:prstGeom>
            <a:ln w="12600">
              <a:solidFill>
                <a:srgbClr val="66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04960" y="5466600"/>
              <a:ext cx="1066680" cy="0"/>
            </a:xfrm>
            <a:prstGeom prst="line">
              <a:avLst/>
            </a:prstGeom>
            <a:ln w="12600">
              <a:solidFill>
                <a:srgbClr val="ff66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24280" y="5466600"/>
              <a:ext cx="76176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35400" y="553212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국 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식별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26120" y="553212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제조업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코 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9120" y="553212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의약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품목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93480" y="5532120"/>
              <a:ext cx="455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검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번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715000" y="1905120"/>
            <a:ext cx="31240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일 까지 운용체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3352680"/>
            <a:ext cx="312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월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 부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 까지 운용체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5105520"/>
            <a:ext cx="31240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약품바코드 표시 및 관리요령에 제시된 운용체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457200" y="2209680"/>
            <a:ext cx="1066680" cy="609480"/>
            <a:chOff x="457200" y="2209680"/>
            <a:chExt cx="1066680" cy="609480"/>
          </a:xfrm>
        </p:grpSpPr>
        <p:sp>
          <p:nvSpPr>
            <p:cNvPr id="378" name=""/>
            <p:cNvSpPr/>
            <p:nvPr/>
          </p:nvSpPr>
          <p:spPr>
            <a:xfrm>
              <a:off x="457200" y="2209680"/>
              <a:ext cx="1066680" cy="60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" y="2284560"/>
              <a:ext cx="64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8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447920" y="3200400"/>
            <a:ext cx="1752120" cy="609480"/>
            <a:chOff x="1447920" y="3200400"/>
            <a:chExt cx="1752120" cy="609480"/>
          </a:xfrm>
        </p:grpSpPr>
        <p:sp>
          <p:nvSpPr>
            <p:cNvPr id="381" name=""/>
            <p:cNvSpPr/>
            <p:nvPr/>
          </p:nvSpPr>
          <p:spPr>
            <a:xfrm>
              <a:off x="1756800" y="3274920"/>
              <a:ext cx="11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6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7920" y="3200400"/>
              <a:ext cx="1752120" cy="60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48120" y="4267080"/>
            <a:ext cx="1218960" cy="609480"/>
            <a:chOff x="3048120" y="4267080"/>
            <a:chExt cx="1218960" cy="609480"/>
          </a:xfrm>
        </p:grpSpPr>
        <p:sp>
          <p:nvSpPr>
            <p:cNvPr id="384" name=""/>
            <p:cNvSpPr/>
            <p:nvPr/>
          </p:nvSpPr>
          <p:spPr>
            <a:xfrm>
              <a:off x="3240360" y="4341960"/>
              <a:ext cx="8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56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4267080"/>
              <a:ext cx="1218960" cy="60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495680" y="5334120"/>
            <a:ext cx="762120" cy="609480"/>
            <a:chOff x="4495680" y="5334120"/>
            <a:chExt cx="762120" cy="609480"/>
          </a:xfrm>
        </p:grpSpPr>
        <p:sp>
          <p:nvSpPr>
            <p:cNvPr id="387" name=""/>
            <p:cNvSpPr/>
            <p:nvPr/>
          </p:nvSpPr>
          <p:spPr>
            <a:xfrm>
              <a:off x="4648320" y="540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5680" y="5334120"/>
              <a:ext cx="762120" cy="60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10920" y="327564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80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0920" y="43423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80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0920" y="540900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80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92080" y="434232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1234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3920" y="54090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1234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01840" y="54090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678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5638680"/>
            <a:ext cx="609840" cy="0"/>
          </a:xfrm>
          <a:prstGeom prst="line">
            <a:avLst/>
          </a:prstGeom>
          <a:ln w="1260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572000"/>
            <a:ext cx="1447920" cy="0"/>
          </a:xfrm>
          <a:prstGeom prst="line">
            <a:avLst/>
          </a:prstGeom>
          <a:ln w="1260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3505320"/>
            <a:ext cx="2971800" cy="0"/>
          </a:xfrm>
          <a:prstGeom prst="line">
            <a:avLst/>
          </a:prstGeom>
          <a:ln w="1260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1260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9280" y="2133720"/>
            <a:ext cx="26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국가식별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EA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서 부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30120" y="3124080"/>
            <a:ext cx="1744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제조업자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한국유통정보센터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제조업자에 부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440" y="4191120"/>
            <a:ext cx="132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60606"/>
                </a:solidFill>
                <a:uFillTx/>
                <a:latin typeface="굴림체"/>
                <a:ea typeface="굴림체"/>
              </a:rPr>
              <a:t>의약품품목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60606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제조업자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단품에 부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39040" y="5181480"/>
            <a:ext cx="162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60606"/>
                </a:solidFill>
                <a:uFillTx/>
                <a:latin typeface="굴림체"/>
                <a:ea typeface="굴림체"/>
              </a:rPr>
              <a:t>검증번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굴림체"/>
                <a:ea typeface="굴림체"/>
              </a:rPr>
              <a:t>   </a:t>
            </a:r>
            <a:r>
              <a:rPr b="0" lang="zh-CN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컴퓨터에서 자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   </a:t>
            </a:r>
            <a:r>
              <a:rPr b="0" lang="zh-CN" sz="1600" spc="-1" strike="noStrike">
                <a:solidFill>
                  <a:srgbClr val="060606"/>
                </a:solidFill>
                <a:latin typeface="굴림체"/>
                <a:ea typeface="굴림체"/>
              </a:rPr>
              <a:t>으로 계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EAN/UCC-13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설정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Logistics Unit) 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로 골판지박스에 사용되는   식별코드로서 유통센터 및 물류센터에서 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출하 시점에 판독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 숫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Numeric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구성된 코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바코드심벌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TF-1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 중심의 검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재고관리의 자동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 물류식별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+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구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식별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0  :  GTI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따른 식별코드를 구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-8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내 단품의 입수량차이를 구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9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가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dd-On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량형코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4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체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Itf14" descr=""/>
          <p:cNvPicPr/>
          <p:nvPr/>
        </p:nvPicPr>
        <p:blipFill>
          <a:blip r:embed="rId1"/>
          <a:stretch/>
        </p:blipFill>
        <p:spPr>
          <a:xfrm>
            <a:off x="2133720" y="4648320"/>
            <a:ext cx="54100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1371600" y="3352680"/>
            <a:ext cx="6705720" cy="1447560"/>
            <a:chOff x="1371600" y="3352680"/>
            <a:chExt cx="6705720" cy="1447560"/>
          </a:xfrm>
        </p:grpSpPr>
        <p:sp>
          <p:nvSpPr>
            <p:cNvPr id="410" name=""/>
            <p:cNvSpPr/>
            <p:nvPr/>
          </p:nvSpPr>
          <p:spPr>
            <a:xfrm>
              <a:off x="1371600" y="3352680"/>
              <a:ext cx="67057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3320" y="342864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74e"/>
                  </a:solidFill>
                  <a:latin typeface="Times New Roman"/>
                </a:rPr>
                <a:t>8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19360" y="342864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74e"/>
                  </a:solidFill>
                  <a:latin typeface="Times New Roman"/>
                </a:rPr>
                <a:t>12345678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85800" y="34286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74e"/>
                  </a:solidFill>
                  <a:latin typeface="Times New Roman"/>
                </a:rPr>
                <a:t>C/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84520" y="3962160"/>
              <a:ext cx="993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6840" y="3962160"/>
              <a:ext cx="275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61240" y="3962160"/>
              <a:ext cx="993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01160" y="4038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국 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식별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20520" y="4038480"/>
              <a:ext cx="146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제조업자  </a:t>
              </a:r>
              <a:r>
                <a:rPr b="0" lang="en-US" sz="1600" spc="-1" strike="noStrike">
                  <a:solidFill>
                    <a:srgbClr val="5e574e"/>
                  </a:solidFill>
                  <a:latin typeface="Times New Roman"/>
                </a:rPr>
                <a:t>+  </a:t>
              </a: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품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코 드              코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45920" y="4038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검증번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55800" y="34286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74e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3962160"/>
              <a:ext cx="838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9240" y="403848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물 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e574e"/>
                  </a:solidFill>
                  <a:latin typeface="Times New Roman"/>
                </a:rPr>
                <a:t>식별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335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물류식별자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리가 추가됨에 따라 기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검증번호는 변동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로 물류단위에 사용되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용식별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pplication Identifier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함께 사용하여 다양한 부가정보를 표현할 수 있는 식별코드 및 바코드 심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체계를 지정하는 문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숫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lphaNumeric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겸용코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바코드 심벌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CC/EAN-128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중심의  검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재고관리의 자동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통단계별 물류단위 흐름파악 및 추적이 가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 &amp; UCC/EAN-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78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I)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정 데이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 고객주문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치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최대유통일자 등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 개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활용되고 있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 &amp; UCC/EAN-128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체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00200" y="2743200"/>
          <a:ext cx="54482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4482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1066680" y="4343400"/>
            <a:ext cx="7315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I(01)     : 1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 숫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 EAN/UCC-14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I(3101) :   6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 숫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소수점이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로 구성된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K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I(10)     :   6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 문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숫자겸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트번호 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판독내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트번호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BC123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량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5.5K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물류박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체"/>
                <a:ea typeface="굴림체"/>
              </a:rPr>
              <a:t>유통공급망에서 </a:t>
            </a:r>
            <a:r>
              <a:rPr b="0" lang="ko-KR" sz="3600" spc="-1" strike="noStrike">
                <a:solidFill>
                  <a:srgbClr val="000000"/>
                </a:solidFill>
                <a:latin typeface="굴림체"/>
                <a:ea typeface="굴림체"/>
              </a:rPr>
              <a:t>EAN/UCC</a:t>
            </a:r>
            <a:r>
              <a:rPr b="0" lang="ko-KR" sz="36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활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1905120"/>
            <a:ext cx="9144000" cy="3445200"/>
            <a:chOff x="0" y="1905120"/>
            <a:chExt cx="9144000" cy="3445200"/>
          </a:xfrm>
        </p:grpSpPr>
        <p:sp>
          <p:nvSpPr>
            <p:cNvPr id="433" name=""/>
            <p:cNvSpPr/>
            <p:nvPr/>
          </p:nvSpPr>
          <p:spPr>
            <a:xfrm>
              <a:off x="0" y="3581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제약업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90720" y="358128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단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57400" y="358128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박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1800" y="3581280"/>
              <a:ext cx="99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팔렛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9200" y="3581280"/>
              <a:ext cx="99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팔렛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62520" y="3581280"/>
              <a:ext cx="99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트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358128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박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6600" y="358128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단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3240" y="350532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최종 소비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441972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AN/UCC-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9000" y="4572000"/>
              <a:ext cx="243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AN/UCC-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4" name=""/>
            <p:cNvGraphicFramePr/>
            <p:nvPr/>
          </p:nvGraphicFramePr>
          <p:xfrm>
            <a:off x="304920" y="2362320"/>
            <a:ext cx="546120" cy="984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362320"/>
                      <a:ext cx="54612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"/>
            <p:cNvGraphicFramePr/>
            <p:nvPr/>
          </p:nvGraphicFramePr>
          <p:xfrm>
            <a:off x="4238640" y="2475000"/>
            <a:ext cx="506520" cy="78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38640" y="2475000"/>
                      <a:ext cx="506520" cy="7840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5e574e"/>
                      </a:outerShdw>
                    </a:effectLst>
                  </p:spPr>
                </p:pic>
              </p:oleObj>
            </a:graphicData>
          </a:graphic>
        </p:graphicFrame>
        <p:grpSp>
          <p:nvGrpSpPr>
            <p:cNvPr id="448" name=""/>
            <p:cNvGrpSpPr/>
            <p:nvPr/>
          </p:nvGrpSpPr>
          <p:grpSpPr>
            <a:xfrm>
              <a:off x="8166240" y="2475000"/>
              <a:ext cx="532800" cy="923400"/>
              <a:chOff x="8166240" y="2475000"/>
              <a:chExt cx="532800" cy="923400"/>
            </a:xfrm>
          </p:grpSpPr>
          <p:graphicFrame>
            <p:nvGraphicFramePr>
              <p:cNvPr id="449" name=""/>
              <p:cNvGraphicFramePr/>
              <p:nvPr/>
            </p:nvGraphicFramePr>
            <p:xfrm>
              <a:off x="8166240" y="2475000"/>
              <a:ext cx="266400" cy="923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166240" y="2475000"/>
                        <a:ext cx="266400" cy="92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1" name=""/>
              <p:cNvGraphicFramePr/>
              <p:nvPr/>
            </p:nvGraphicFramePr>
            <p:xfrm>
              <a:off x="8275680" y="2877840"/>
              <a:ext cx="423360" cy="520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5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75680" y="2877840"/>
                        <a:ext cx="423360" cy="52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53" name=""/>
            <p:cNvSpPr/>
            <p:nvPr/>
          </p:nvSpPr>
          <p:spPr>
            <a:xfrm>
              <a:off x="93348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4788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1456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528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7196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6268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2936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67800" y="2830680"/>
              <a:ext cx="139680" cy="333360"/>
            </a:xfrm>
            <a:prstGeom prst="rightArrow">
              <a:avLst>
                <a:gd name="adj1" fmla="val 75009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7327800" y="2666880"/>
              <a:ext cx="656640" cy="1343880"/>
              <a:chOff x="7327800" y="2666880"/>
              <a:chExt cx="656640" cy="13438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7327800" y="2666880"/>
                <a:ext cx="656640" cy="1343880"/>
                <a:chOff x="7327800" y="2666880"/>
                <a:chExt cx="656640" cy="13438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327800" y="3338280"/>
                  <a:ext cx="399960" cy="5868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327800" y="3330360"/>
                  <a:ext cx="399960" cy="54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7332480" y="2704680"/>
                  <a:ext cx="385920" cy="665280"/>
                  <a:chOff x="7332480" y="2704680"/>
                  <a:chExt cx="385920" cy="6652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7332480" y="2704680"/>
                    <a:ext cx="385920" cy="633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342200" y="3314520"/>
                    <a:ext cx="376200" cy="55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7327800" y="2678040"/>
                  <a:ext cx="399960" cy="5544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27800" y="2666880"/>
                  <a:ext cx="39996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470720" y="2738160"/>
                  <a:ext cx="513720" cy="127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3"/>
                      </a:moveTo>
                      <a:arcTo wR="10800" hR="10800" stAng="-10791443" swAng="53701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3"/>
                      </a:moveTo>
                      <a:arcTo wR="10800" hR="10800" stAng="-10791443" swAng="537018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574040" y="2855520"/>
                  <a:ext cx="300600" cy="104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38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381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397640" y="2701800"/>
                  <a:ext cx="85680" cy="468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7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348320" y="3108240"/>
                <a:ext cx="304920" cy="20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4" name=""/>
            <p:cNvGrpSpPr/>
            <p:nvPr/>
          </p:nvGrpSpPr>
          <p:grpSpPr>
            <a:xfrm>
              <a:off x="1219320" y="2743200"/>
              <a:ext cx="624600" cy="1203840"/>
              <a:chOff x="1219320" y="2743200"/>
              <a:chExt cx="624600" cy="12038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1219320" y="2743200"/>
                <a:ext cx="624600" cy="1203840"/>
                <a:chOff x="1219320" y="2743200"/>
                <a:chExt cx="624600" cy="12038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219320" y="3344760"/>
                  <a:ext cx="380880" cy="5256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219320" y="3337560"/>
                  <a:ext cx="380880" cy="48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223640" y="2777040"/>
                  <a:ext cx="367200" cy="595440"/>
                  <a:chOff x="1223640" y="2777040"/>
                  <a:chExt cx="367200" cy="5954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1223640" y="2777040"/>
                    <a:ext cx="367200" cy="567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232640" y="3323160"/>
                    <a:ext cx="357840" cy="4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1219320" y="2752920"/>
                  <a:ext cx="380880" cy="4932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19320" y="2743200"/>
                  <a:ext cx="380880" cy="50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355400" y="2806920"/>
                  <a:ext cx="488520" cy="114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3"/>
                      </a:moveTo>
                      <a:arcTo wR="10800" hR="10800" stAng="-10791443" swAng="53701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3"/>
                      </a:moveTo>
                      <a:arcTo wR="10800" hR="10800" stAng="-10791443" swAng="537018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453680" y="2912040"/>
                  <a:ext cx="286200" cy="93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38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381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285560" y="2774160"/>
                  <a:ext cx="81360" cy="396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38760" y="3138480"/>
                <a:ext cx="290160" cy="18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7" name=""/>
            <p:cNvSpPr/>
            <p:nvPr/>
          </p:nvSpPr>
          <p:spPr>
            <a:xfrm>
              <a:off x="3666960" y="1905120"/>
              <a:ext cx="18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물류 센터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/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배송센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99600" y="190512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의료기관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/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약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0640" y="1920960"/>
              <a:ext cx="15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제약업체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굴림체"/>
                </a:rPr>
                <a:t>도매업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2133720" y="2590920"/>
              <a:ext cx="685800" cy="763560"/>
              <a:chOff x="2133720" y="2590920"/>
              <a:chExt cx="685800" cy="76356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133720" y="2590920"/>
                <a:ext cx="685800" cy="763560"/>
                <a:chOff x="2133720" y="2590920"/>
                <a:chExt cx="685800" cy="763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133720" y="2676960"/>
                  <a:ext cx="524520" cy="669240"/>
                </a:xfrm>
                <a:prstGeom prst="rect">
                  <a:avLst/>
                </a:prstGeom>
                <a:solidFill>
                  <a:srgbClr val="ff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64720" y="2590920"/>
                  <a:ext cx="152280" cy="763560"/>
                </a:xfrm>
                <a:custGeom>
                  <a:avLst/>
                  <a:gdLst/>
                  <a:ahLst/>
                  <a:rect l="l" t="t" r="r" b="b"/>
                  <a:pathLst>
                    <a:path w="138" h="577">
                      <a:moveTo>
                        <a:pt x="0" y="65"/>
                      </a:moveTo>
                      <a:lnTo>
                        <a:pt x="0" y="576"/>
                      </a:lnTo>
                      <a:lnTo>
                        <a:pt x="137" y="490"/>
                      </a:lnTo>
                      <a:lnTo>
                        <a:pt x="137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33720" y="2590920"/>
                  <a:ext cx="685800" cy="87120"/>
                </a:xfrm>
                <a:custGeom>
                  <a:avLst/>
                  <a:gdLst/>
                  <a:ahLst/>
                  <a:rect l="l" t="t" r="r" b="b"/>
                  <a:pathLst>
                    <a:path w="621" h="66">
                      <a:moveTo>
                        <a:pt x="0" y="65"/>
                      </a:moveTo>
                      <a:lnTo>
                        <a:pt x="482" y="65"/>
                      </a:lnTo>
                      <a:lnTo>
                        <a:pt x="620" y="0"/>
                      </a:lnTo>
                      <a:lnTo>
                        <a:pt x="156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ffa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207520" y="2742840"/>
                <a:ext cx="407520" cy="419040"/>
                <a:chOff x="2207520" y="2742840"/>
                <a:chExt cx="407520" cy="419040"/>
              </a:xfrm>
            </p:grpSpPr>
            <p:graphicFrame>
              <p:nvGraphicFramePr>
                <p:cNvPr id="496" name=""/>
                <p:cNvGraphicFramePr/>
                <p:nvPr/>
              </p:nvGraphicFramePr>
              <p:xfrm>
                <a:off x="2264760" y="2742840"/>
                <a:ext cx="120240" cy="3546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97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264760" y="274284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98" name=""/>
                <p:cNvGraphicFramePr/>
                <p:nvPr/>
              </p:nvGraphicFramePr>
              <p:xfrm>
                <a:off x="2207520" y="2807640"/>
                <a:ext cx="120240" cy="3542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499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207520" y="280764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0" name=""/>
                <p:cNvGraphicFramePr/>
                <p:nvPr/>
              </p:nvGraphicFramePr>
              <p:xfrm>
                <a:off x="2379600" y="2742840"/>
                <a:ext cx="120240" cy="3546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501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379600" y="274284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2" name=""/>
                <p:cNvGraphicFramePr/>
                <p:nvPr/>
              </p:nvGraphicFramePr>
              <p:xfrm>
                <a:off x="2322360" y="2807640"/>
                <a:ext cx="120240" cy="35424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503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2322360" y="280764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4" name=""/>
                <p:cNvGraphicFramePr/>
                <p:nvPr/>
              </p:nvGraphicFramePr>
              <p:xfrm>
                <a:off x="2494800" y="2742840"/>
                <a:ext cx="120240" cy="35460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505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494800" y="274284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6" name=""/>
                <p:cNvGraphicFramePr/>
                <p:nvPr/>
              </p:nvGraphicFramePr>
              <p:xfrm>
                <a:off x="2437200" y="2807640"/>
                <a:ext cx="120240" cy="35424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507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437200" y="280764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50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352240" y="3157200"/>
                <a:ext cx="294840" cy="16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9" name=""/>
            <p:cNvGrpSpPr/>
            <p:nvPr/>
          </p:nvGrpSpPr>
          <p:grpSpPr>
            <a:xfrm>
              <a:off x="6248520" y="2666880"/>
              <a:ext cx="685800" cy="763560"/>
              <a:chOff x="6248520" y="2666880"/>
              <a:chExt cx="685800" cy="76356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6248520" y="2666880"/>
                <a:ext cx="685800" cy="763560"/>
                <a:chOff x="6248520" y="2666880"/>
                <a:chExt cx="685800" cy="7635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248520" y="2752920"/>
                  <a:ext cx="524520" cy="669240"/>
                </a:xfrm>
                <a:prstGeom prst="rect">
                  <a:avLst/>
                </a:prstGeom>
                <a:solidFill>
                  <a:srgbClr val="ff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779520" y="2666880"/>
                  <a:ext cx="152280" cy="763560"/>
                </a:xfrm>
                <a:custGeom>
                  <a:avLst/>
                  <a:gdLst/>
                  <a:ahLst/>
                  <a:rect l="l" t="t" r="r" b="b"/>
                  <a:pathLst>
                    <a:path w="138" h="577">
                      <a:moveTo>
                        <a:pt x="0" y="65"/>
                      </a:moveTo>
                      <a:lnTo>
                        <a:pt x="0" y="576"/>
                      </a:lnTo>
                      <a:lnTo>
                        <a:pt x="137" y="490"/>
                      </a:lnTo>
                      <a:lnTo>
                        <a:pt x="137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48520" y="2666880"/>
                  <a:ext cx="685800" cy="87120"/>
                </a:xfrm>
                <a:custGeom>
                  <a:avLst/>
                  <a:gdLst/>
                  <a:ahLst/>
                  <a:rect l="l" t="t" r="r" b="b"/>
                  <a:pathLst>
                    <a:path w="621" h="66">
                      <a:moveTo>
                        <a:pt x="0" y="65"/>
                      </a:moveTo>
                      <a:lnTo>
                        <a:pt x="482" y="65"/>
                      </a:lnTo>
                      <a:lnTo>
                        <a:pt x="620" y="0"/>
                      </a:lnTo>
                      <a:lnTo>
                        <a:pt x="156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ffa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22320" y="2818800"/>
                <a:ext cx="407520" cy="419040"/>
                <a:chOff x="6322320" y="2818800"/>
                <a:chExt cx="407520" cy="419040"/>
              </a:xfrm>
            </p:grpSpPr>
            <p:graphicFrame>
              <p:nvGraphicFramePr>
                <p:cNvPr id="515" name=""/>
                <p:cNvGraphicFramePr/>
                <p:nvPr/>
              </p:nvGraphicFramePr>
              <p:xfrm>
                <a:off x="6379560" y="2818800"/>
                <a:ext cx="120240" cy="354600"/>
              </p:xfrm>
              <a:graphic>
                <a:graphicData uri="http://schemas.openxmlformats.org/presentationml/2006/ole">
                  <p:oleObj r:id="rId24" spid="">
                    <p:embed/>
                    <p:pic>
                      <p:nvPicPr>
                        <p:cNvPr id="516" name="" descr="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6379560" y="281880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7" name=""/>
                <p:cNvGraphicFramePr/>
                <p:nvPr/>
              </p:nvGraphicFramePr>
              <p:xfrm>
                <a:off x="6322320" y="2883600"/>
                <a:ext cx="120240" cy="354240"/>
              </p:xfrm>
              <a:graphic>
                <a:graphicData uri="http://schemas.openxmlformats.org/presentationml/2006/ole">
                  <p:oleObj r:id="rId26" spid="">
                    <p:embed/>
                    <p:pic>
                      <p:nvPicPr>
                        <p:cNvPr id="518" name="" descr="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6322320" y="288360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9" name=""/>
                <p:cNvGraphicFramePr/>
                <p:nvPr/>
              </p:nvGraphicFramePr>
              <p:xfrm>
                <a:off x="6494400" y="2818800"/>
                <a:ext cx="120240" cy="35460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520" name="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6494400" y="281880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1" name=""/>
                <p:cNvGraphicFramePr/>
                <p:nvPr/>
              </p:nvGraphicFramePr>
              <p:xfrm>
                <a:off x="6437160" y="2883600"/>
                <a:ext cx="120240" cy="354240"/>
              </p:xfrm>
              <a:graphic>
                <a:graphicData uri="http://schemas.openxmlformats.org/presentationml/2006/ole">
                  <p:oleObj r:id="rId30" spid="">
                    <p:embed/>
                    <p:pic>
                      <p:nvPicPr>
                        <p:cNvPr id="522" name="" descr="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6437160" y="288360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3" name=""/>
                <p:cNvGraphicFramePr/>
                <p:nvPr/>
              </p:nvGraphicFramePr>
              <p:xfrm>
                <a:off x="6609600" y="2818800"/>
                <a:ext cx="120240" cy="354600"/>
              </p:xfrm>
              <a:graphic>
                <a:graphicData uri="http://schemas.openxmlformats.org/presentationml/2006/ole">
                  <p:oleObj r:id="rId32" spid="">
                    <p:embed/>
                    <p:pic>
                      <p:nvPicPr>
                        <p:cNvPr id="524" name="" descr="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6609600" y="2818800"/>
                          <a:ext cx="120240" cy="35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5" name=""/>
                <p:cNvGraphicFramePr/>
                <p:nvPr/>
              </p:nvGraphicFramePr>
              <p:xfrm>
                <a:off x="6552000" y="2883600"/>
                <a:ext cx="120240" cy="354240"/>
              </p:xfrm>
              <a:graphic>
                <a:graphicData uri="http://schemas.openxmlformats.org/presentationml/2006/ole">
                  <p:oleObj r:id="rId34" spid="">
                    <p:embed/>
                    <p:pic>
                      <p:nvPicPr>
                        <p:cNvPr id="526" name="" descr=""/>
                        <p:cNvPicPr/>
                        <p:nvPr/>
                      </p:nvPicPr>
                      <p:blipFill>
                        <a:blip r:embed="rId35"/>
                        <a:stretch/>
                      </p:blipFill>
                      <p:spPr>
                        <a:xfrm>
                          <a:off x="6552000" y="2883600"/>
                          <a:ext cx="120240" cy="35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527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467040" y="3233160"/>
                <a:ext cx="294840" cy="16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8" name=""/>
            <p:cNvGrpSpPr/>
            <p:nvPr/>
          </p:nvGrpSpPr>
          <p:grpSpPr>
            <a:xfrm>
              <a:off x="3200400" y="2590560"/>
              <a:ext cx="608760" cy="761760"/>
              <a:chOff x="3200400" y="2590560"/>
              <a:chExt cx="608760" cy="761760"/>
            </a:xfrm>
          </p:grpSpPr>
          <p:sp>
            <p:nvSpPr>
              <p:cNvPr id="529" name=""/>
              <p:cNvSpPr/>
              <p:nvPr/>
            </p:nvSpPr>
            <p:spPr>
              <a:xfrm>
                <a:off x="3201840" y="3317040"/>
                <a:ext cx="27720" cy="352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38520" y="3310560"/>
                <a:ext cx="31320" cy="316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74240" y="3153960"/>
                <a:ext cx="29880" cy="352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3200400" y="2590560"/>
                <a:ext cx="608760" cy="737280"/>
                <a:chOff x="3200400" y="2590560"/>
                <a:chExt cx="608760" cy="7372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200400" y="2606400"/>
                  <a:ext cx="608760" cy="7077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3493440" y="3104280"/>
                  <a:ext cx="127800" cy="130320"/>
                  <a:chOff x="3493440" y="3104280"/>
                  <a:chExt cx="127800" cy="13032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3493440" y="3104280"/>
                    <a:ext cx="12780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497040" y="3181320"/>
                    <a:ext cx="119520" cy="36720"/>
                    <a:chOff x="3497040" y="3181320"/>
                    <a:chExt cx="119520" cy="3672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3497040" y="3181320"/>
                      <a:ext cx="27000" cy="36720"/>
                      <a:chOff x="3497040" y="3181320"/>
                      <a:chExt cx="27000" cy="3672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35060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34970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35132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35240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530520" y="3181320"/>
                      <a:ext cx="24840" cy="36720"/>
                      <a:chOff x="3530520" y="3181320"/>
                      <a:chExt cx="24840" cy="3672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353952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353052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35463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5553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3556080" y="3181320"/>
                      <a:ext cx="27000" cy="36720"/>
                      <a:chOff x="3556080" y="3181320"/>
                      <a:chExt cx="27000" cy="36720"/>
                    </a:xfrm>
                  </p:grpSpPr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35650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35560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35722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35830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3589560" y="3181320"/>
                      <a:ext cx="27000" cy="36720"/>
                      <a:chOff x="3589560" y="3181320"/>
                      <a:chExt cx="27000" cy="3672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35985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35895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360540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36165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7" name=""/>
                  <p:cNvSpPr/>
                  <p:nvPr/>
                </p:nvSpPr>
                <p:spPr>
                  <a:xfrm>
                    <a:off x="3504600" y="3110040"/>
                    <a:ext cx="73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504600" y="3145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504600" y="31179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504600" y="3159360"/>
                    <a:ext cx="20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504600" y="3133800"/>
                    <a:ext cx="3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>
                  <a:off x="3205800" y="3050640"/>
                  <a:ext cx="46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3434040" y="2772720"/>
                  <a:ext cx="0" cy="55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3681360" y="2865960"/>
                  <a:ext cx="122400" cy="19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V="1">
                  <a:off x="3742200" y="2683800"/>
                  <a:ext cx="0" cy="55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78160" y="2687760"/>
                  <a:ext cx="45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3443400" y="2590560"/>
                  <a:ext cx="124560" cy="19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3238920" y="3322800"/>
                <a:ext cx="384480" cy="9720"/>
              </a:xfrm>
              <a:prstGeom prst="rect">
                <a:avLst/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257800" y="2590560"/>
              <a:ext cx="608760" cy="761760"/>
              <a:chOff x="5257800" y="2590560"/>
              <a:chExt cx="608760" cy="76176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3317040"/>
                <a:ext cx="27720" cy="352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95920" y="3310560"/>
                <a:ext cx="31320" cy="316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31640" y="3153960"/>
                <a:ext cx="29880" cy="35280"/>
              </a:xfrm>
              <a:prstGeom prst="cube">
                <a:avLst>
                  <a:gd name="adj" fmla="val 24995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257800" y="2590560"/>
                <a:ext cx="608760" cy="737280"/>
                <a:chOff x="5257800" y="2590560"/>
                <a:chExt cx="608760" cy="7372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257800" y="2606400"/>
                  <a:ext cx="608760" cy="7077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5550840" y="3104280"/>
                  <a:ext cx="127800" cy="130320"/>
                  <a:chOff x="5550840" y="3104280"/>
                  <a:chExt cx="127800" cy="1303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5550840" y="3104280"/>
                    <a:ext cx="127800" cy="13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554440" y="3181320"/>
                    <a:ext cx="119520" cy="36720"/>
                    <a:chOff x="5554440" y="3181320"/>
                    <a:chExt cx="119520" cy="36720"/>
                  </a:xfrm>
                </p:grpSpPr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5554440" y="3181320"/>
                      <a:ext cx="27000" cy="36720"/>
                      <a:chOff x="5554440" y="3181320"/>
                      <a:chExt cx="27000" cy="36720"/>
                    </a:xfrm>
                  </p:grpSpPr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55634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55544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55706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558144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5587920" y="3181320"/>
                      <a:ext cx="24840" cy="36720"/>
                      <a:chOff x="5587920" y="3181320"/>
                      <a:chExt cx="24840" cy="36720"/>
                    </a:xfrm>
                  </p:grpSpPr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559692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558792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56037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6127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5613480" y="3181320"/>
                      <a:ext cx="27000" cy="36720"/>
                      <a:chOff x="5613480" y="3181320"/>
                      <a:chExt cx="27000" cy="3672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56224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56134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56296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564048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5646960" y="3181320"/>
                      <a:ext cx="27000" cy="36720"/>
                      <a:chOff x="5646960" y="3181320"/>
                      <a:chExt cx="27000" cy="36720"/>
                    </a:xfrm>
                  </p:grpSpPr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56559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6469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566280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5673960" y="3181320"/>
                        <a:ext cx="0" cy="36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98" name=""/>
                  <p:cNvSpPr/>
                  <p:nvPr/>
                </p:nvSpPr>
                <p:spPr>
                  <a:xfrm>
                    <a:off x="5562000" y="3110040"/>
                    <a:ext cx="73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562000" y="3145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562000" y="31179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562000" y="3159360"/>
                    <a:ext cx="20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562000" y="3133800"/>
                    <a:ext cx="3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5263200" y="3050640"/>
                  <a:ext cx="46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5491440" y="2772720"/>
                  <a:ext cx="0" cy="55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5738760" y="2865960"/>
                  <a:ext cx="122400" cy="19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5799600" y="2683800"/>
                  <a:ext cx="0" cy="55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335560" y="2687760"/>
                  <a:ext cx="45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500800" y="2590560"/>
                  <a:ext cx="124560" cy="19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5296320" y="3322800"/>
                <a:ext cx="384480" cy="9720"/>
              </a:xfrm>
              <a:prstGeom prst="rect">
                <a:avLst/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228600" y="4191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2320" y="4191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43800" y="4191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86600" y="44956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AN/UCC-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4952880"/>
              <a:ext cx="2971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*  AI &amp; UCC/EAN-1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EAN/UC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 활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N/UCC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제조업자 등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N/UCC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품목코드 설정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검증번호 계산 등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제조업자 등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록대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약품 제조업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소분업자 포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수입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예외업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기 등록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94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개 제약업체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(2000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월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26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일 현재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기 등록 식품업체 및 상사 등의  의약사업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AN/UCC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시스템이 표기된 의약품을 취급하는 수입업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조와 판매가 분리 되어 있을 경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4114800"/>
            <a:ext cx="1524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제약업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4114800"/>
            <a:ext cx="1523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판매업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4114800"/>
            <a:ext cx="1523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등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80520" y="4648320"/>
            <a:ext cx="8077680" cy="1297800"/>
            <a:chOff x="380520" y="4648320"/>
            <a:chExt cx="8077680" cy="1297800"/>
          </a:xfrm>
        </p:grpSpPr>
        <p:sp>
          <p:nvSpPr>
            <p:cNvPr id="626" name=""/>
            <p:cNvSpPr/>
            <p:nvPr/>
          </p:nvSpPr>
          <p:spPr>
            <a:xfrm>
              <a:off x="609480" y="4648320"/>
              <a:ext cx="152424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제약업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5486400"/>
              <a:ext cx="152424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제약업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62320" y="487656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71800" y="5486400"/>
              <a:ext cx="152388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판매업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6000" y="5715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83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판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4120" y="5486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판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0520" y="487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8052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880" y="487656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5029200"/>
              <a:ext cx="152388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등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04920" y="6095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수입의약품의 경우도 동일하게 적용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구비서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제조업자 등의 식별코드 신청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별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업자등록증 사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최근 결산 손익계산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법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부가가치세 과세표준증명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사업자등록증 종목에 의약품이 표시되지 않은 업체는 식약청에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발급한  업허가증  또는  품목허가증  사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부를 첨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회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회비기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별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무통장 온라인입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217-05-002270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신한은행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*200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월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일부터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월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일까지 등록업체는 한시적으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년간 연회비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면제하고 입회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만원만 납부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년후 갱신시에는 현행 회비체계에 준용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교육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매주 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금  오후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필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제조업자 등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2880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구비서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회        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43400" y="5410080"/>
            <a:ext cx="1828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5410080"/>
            <a:ext cx="1523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제조업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1520" y="5410080"/>
            <a:ext cx="1523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제조업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56386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24480" y="5486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588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코드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바코드의 개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바코드의 배경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바코드의 개념 및 종류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바코드의 필요성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품목코드 설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4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적용기준 수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EAN/UCC-13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매단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EAN/UCC-14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업간 거래단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사 생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판매되는 품목을 취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판매품목 최소단위까지 세분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용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장단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장형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련번호순으로 품목코드 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대 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분류하여 코드부여는 금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4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식별자 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기준으로 한 물류박스 종류파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박스 종류 수 만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까지 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품목코드 설정방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형 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YOMYCIN Generic XYZ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38080" y="2362320"/>
            <a:ext cx="7848720" cy="4114800"/>
            <a:chOff x="838080" y="2362320"/>
            <a:chExt cx="7848720" cy="4114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838080" y="3886200"/>
              <a:ext cx="11336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3"/>
            <a:stretch/>
          </p:blipFill>
          <p:spPr>
            <a:xfrm>
              <a:off x="838080" y="5410080"/>
              <a:ext cx="1143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2209680" y="23623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100 Capsule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단품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Plastic Bott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6000" y="38098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100 Capsule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단품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Carton Forma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0" y="5334120"/>
              <a:ext cx="64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100 Capsule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단품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Plastic Bottle</a:t>
              </a:r>
              <a:r>
                <a:rPr b="0" lang="ko-KR" sz="2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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개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Inner Bo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00600" y="2819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880  61000   </a:t>
              </a:r>
              <a:r>
                <a:rPr b="1" lang="ko-K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001</a:t>
              </a:r>
              <a:r>
                <a:rPr b="1" lang="ko-K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76920" y="4495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80  61000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00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52880" y="594360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80  61000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00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1108440" y="1523880"/>
            <a:ext cx="7184520" cy="4503960"/>
            <a:chOff x="1108440" y="1523880"/>
            <a:chExt cx="7184520" cy="4503960"/>
          </a:xfrm>
        </p:grpSpPr>
        <p:sp>
          <p:nvSpPr>
            <p:cNvPr id="664" name=""/>
            <p:cNvSpPr/>
            <p:nvPr/>
          </p:nvSpPr>
          <p:spPr>
            <a:xfrm>
              <a:off x="1117440" y="1647720"/>
              <a:ext cx="790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최소단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08440" y="3197160"/>
              <a:ext cx="177840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박스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단품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개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64240" y="4838760"/>
              <a:ext cx="19306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팔렛트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박스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개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97560" y="1523880"/>
              <a:ext cx="2795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  61234  567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N/UCC-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99800" y="3073320"/>
              <a:ext cx="25862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8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61234 567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N/UCC-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34280" y="4714920"/>
              <a:ext cx="27284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880 61234 56789  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N/UCC-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1"/>
            <a:stretch/>
          </p:blipFill>
          <p:spPr>
            <a:xfrm>
              <a:off x="3678120" y="1536840"/>
              <a:ext cx="9273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2"/>
            <a:stretch/>
          </p:blipFill>
          <p:spPr>
            <a:xfrm>
              <a:off x="3381480" y="3127320"/>
              <a:ext cx="152064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3"/>
            <a:stretch/>
          </p:blipFill>
          <p:spPr>
            <a:xfrm>
              <a:off x="3336840" y="4494240"/>
              <a:ext cx="1609920" cy="15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92400" y="380880"/>
            <a:ext cx="4937040" cy="625680"/>
          </a:xfrm>
          <a:prstGeom prst="rect">
            <a:avLst/>
          </a:prstGeom>
          <a:noFill/>
          <a:ln w="0">
            <a:noFill/>
          </a:ln>
        </p:spPr>
        <p:txBody>
          <a:bodyPr lIns="190440" rIns="190440" tIns="7920" bIns="7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EAN/UCC-14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설정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60958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물류식별자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리가 추가됨에 따라 기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검증번호는 변동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검증번호 계산 방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2438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13   N12   N11   N10   N9   N8   N7   N6   N5   N4   N3   N2  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85800" y="3276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43000" y="3505320"/>
            <a:ext cx="74674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짝수번째 숫자를 전부 더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위의 결과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곱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홀수번째 숫자를 전부 더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위의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결과와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결과를 더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배수의 숫자에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결과를 뺀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90720" y="41148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N/UCC-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도 동일한 방법을 사용한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 표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필름마스터 제작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인쇄크기 선정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인쇄색상 선정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인쇄위치 선정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필름마스터 제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필름마스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Film Master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란 인쇄과정의 하나인 동판제작에 앞서  인쇄번짐 정도를 미리 감안하여 바코드를 필름원판으로 제작한 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장에 바코드를 인쇄하는 경우만 이용되며  스티커나 라벨을 이용할 때는 제작할 필요가 없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품종 대량생산의 경우는 인쇄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품종 소량일 경우는 스티커 또는 라벨을 이용하는 것이 합리적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필름마스터 제작업체 선정시 고려사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바코드 오류를 검증하는 기기 보유여부 확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인쇄크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기본크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.73cm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3cm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좌우측 약간의 여백포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확  대  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7.46cm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6cm(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0cm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10cm(0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세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까지 축소 가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기본크기 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kan13" descr=""/>
          <p:cNvPicPr/>
          <p:nvPr/>
        </p:nvPicPr>
        <p:blipFill>
          <a:blip r:embed="rId1"/>
          <a:stretch/>
        </p:blipFill>
        <p:spPr>
          <a:xfrm>
            <a:off x="3276720" y="4800600"/>
            <a:ext cx="2133360" cy="15922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335268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86400" y="4800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73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386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3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본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159.8mm </a:t>
            </a:r>
            <a:r>
              <a:rPr b="0" lang="ko-K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1.4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확  대  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0.625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두리바 두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4.8mm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확대율에 영향을 받지 않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05120" y="3581280"/>
            <a:ext cx="6965280" cy="2583000"/>
            <a:chOff x="1905120" y="3581280"/>
            <a:chExt cx="6965280" cy="2583000"/>
          </a:xfrm>
        </p:grpSpPr>
        <p:sp>
          <p:nvSpPr>
            <p:cNvPr id="695" name=""/>
            <p:cNvSpPr/>
            <p:nvPr/>
          </p:nvSpPr>
          <p:spPr>
            <a:xfrm>
              <a:off x="8193600" y="4495680"/>
              <a:ext cx="676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1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98800" y="3994200"/>
              <a:ext cx="4732200" cy="1440"/>
            </a:xfrm>
            <a:custGeom>
              <a:avLst/>
              <a:gdLst/>
              <a:ahLst/>
              <a:rect l="l" t="t" r="r" b="b"/>
              <a:pathLst>
                <a:path w="2981" h="1">
                  <a:moveTo>
                    <a:pt x="0" y="0"/>
                  </a:moveTo>
                  <a:lnTo>
                    <a:pt x="2980" y="0"/>
                  </a:lnTo>
                </a:path>
              </a:pathLst>
            </a:custGeom>
            <a:noFill/>
            <a:ln cap="rnd" w="12600">
              <a:solidFill>
                <a:srgbClr val="ff66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22840" y="3581280"/>
              <a:ext cx="133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9.8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4448160"/>
              <a:ext cx="1440" cy="1160280"/>
            </a:xfrm>
            <a:custGeom>
              <a:avLst/>
              <a:gdLst/>
              <a:ahLst/>
              <a:rect l="l" t="t" r="r" b="b"/>
              <a:pathLst>
                <a:path w="1" h="731">
                  <a:moveTo>
                    <a:pt x="0" y="0"/>
                  </a:moveTo>
                  <a:lnTo>
                    <a:pt x="0" y="730"/>
                  </a:lnTo>
                </a:path>
              </a:pathLst>
            </a:custGeom>
            <a:noFill/>
            <a:ln cap="rnd" w="12600">
              <a:solidFill>
                <a:srgbClr val="ff66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77320" y="4321080"/>
              <a:ext cx="1440" cy="1398600"/>
            </a:xfrm>
            <a:custGeom>
              <a:avLst/>
              <a:gdLst/>
              <a:ahLst/>
              <a:rect l="l" t="t" r="r" b="b"/>
              <a:pathLst>
                <a:path w="1" h="881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cap="rnd" w="12600">
              <a:solidFill>
                <a:srgbClr val="ff66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03240" y="4495680"/>
              <a:ext cx="676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1905120" y="4174920"/>
            <a:ext cx="5168880" cy="198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4174920"/>
                      <a:ext cx="5168880" cy="19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4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인쇄크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-14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확대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133720"/>
            <a:ext cx="7543800" cy="3508200"/>
            <a:chOff x="914400" y="2133720"/>
            <a:chExt cx="7543800" cy="3508200"/>
          </a:xfrm>
        </p:grpSpPr>
        <p:sp>
          <p:nvSpPr>
            <p:cNvPr id="706" name=""/>
            <p:cNvSpPr/>
            <p:nvPr/>
          </p:nvSpPr>
          <p:spPr>
            <a:xfrm>
              <a:off x="1235160" y="242568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배 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96720" y="30830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94360" y="2133720"/>
              <a:ext cx="729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바코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심벌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최소높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4120" y="2133720"/>
              <a:ext cx="92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cc00"/>
                  </a:solidFill>
                  <a:latin typeface="Times New Roman"/>
                </a:rPr>
                <a:t>테두리바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cc00"/>
                  </a:solidFill>
                  <a:latin typeface="Times New Roman"/>
                </a:rPr>
                <a:t>제외한 치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96720" y="34480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96720" y="3813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96720" y="4178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96720" y="45432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96720" y="49086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82920" y="30830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8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82920" y="3448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82920" y="38131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1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82920" y="41781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8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62520" y="2718000"/>
              <a:ext cx="4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19920" y="27180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높  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82400" y="2133720"/>
              <a:ext cx="92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cc00"/>
                  </a:solidFill>
                  <a:latin typeface="Times New Roman"/>
                </a:rPr>
                <a:t>테두리바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cc00"/>
                  </a:solidFill>
                  <a:latin typeface="Times New Roman"/>
                </a:rPr>
                <a:t>포함한 치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82920" y="4543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5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16040" y="30830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8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6040" y="3448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16040" y="38131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1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6040" y="41781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8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16040" y="4543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5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16040" y="4908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2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35000" y="308304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79.1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35000" y="344808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64.6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35000" y="381312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50.2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5000" y="417816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35.7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35000" y="454320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21.3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35000" y="490860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05.9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73640" y="344808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74.2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73640" y="308304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88.7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73640" y="381312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59.8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73640" y="417816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45.3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454320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30.9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21560" y="30830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47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21560" y="3448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44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21560" y="38131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41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21560" y="41781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8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21560" y="4543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44440" y="527364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0.6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00800" y="2718000"/>
              <a:ext cx="4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58560" y="27180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Times New Roman"/>
                </a:rPr>
                <a:t>높  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914400" y="2133720"/>
              <a:ext cx="7543800" cy="3504960"/>
              <a:chOff x="914400" y="2133720"/>
              <a:chExt cx="7543800" cy="3504960"/>
            </a:xfrm>
          </p:grpSpPr>
          <p:sp>
            <p:nvSpPr>
              <p:cNvPr id="749" name=""/>
              <p:cNvSpPr/>
              <p:nvPr/>
            </p:nvSpPr>
            <p:spPr>
              <a:xfrm>
                <a:off x="914400" y="213372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14400" y="563868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14400" y="308304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14400" y="344808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057400" y="2133720"/>
                <a:ext cx="0" cy="3504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14400" y="381312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14400" y="417816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14400" y="454320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14400" y="490860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14400" y="5273640"/>
                <a:ext cx="7543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81640" y="2133720"/>
                <a:ext cx="0" cy="3504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19920" y="2133720"/>
                <a:ext cx="0" cy="3504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581640" y="2718000"/>
                <a:ext cx="4876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800600" y="2718000"/>
                <a:ext cx="0" cy="2920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9240" y="2718000"/>
                <a:ext cx="0" cy="2920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2516040" y="52736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9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1320" y="527364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95.3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82920" y="4908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2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82920" y="52736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9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73640" y="490860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15.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73640" y="527364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104.9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560" y="4908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31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621560" y="52736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29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 인쇄색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흑바와 백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바탕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명암 대조율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흑바와 백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바탕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만을 권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금속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타 색등은 사용금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바코드의 배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년대 전세계적으로 대형 유통업체의 진출확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기존 작업형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판매 및 재고관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점원의 가격암기 또는 장부에 기재된 가격을 보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금전등록기에 상품명을 입력하여 계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일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주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월별 수작업으로 재고파악 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많은 오류발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처리시간 및 고객대기 시간의 장기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인건비 등의 관리비의 과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신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정확한 판매 및 재고관리의 필요성 대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년대 초 미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유럽 등 유통업체에서 사용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현재 전세계 다 산업에서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상한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3mm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곡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장지 기획 및 도안할 때 충분히 검토해야 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람이 쉽게 찾을 수 있는 위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판독이 용이한 평면 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장형태별 사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접지면이 있는 경우  피해서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원통형인 경우 세로로 세워서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층이나 굴곡이 있는 경우 피해서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닐 또는 필름일 경우 별도의 바탕을 제작하여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세부단품의 인쇄위치 크기가 작을 경우  상위규격포장에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함께 인쇄하거나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별도의 스티커를 제작하여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-1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인쇄위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AN/UCC-1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는 달리 인쇄위치가 고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센터내 컨베이어벨트 옆에 고정된 고속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캐너가 판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적재된 물류단위 전체표면이 보이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입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검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재고조사등 다양한 물류활동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행할 때 인쇄위치를 통일시킴으로써 바코드판독의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신속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확화 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쇄위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류단위의 수직한 측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면 모두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최소한 인접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 측면에 인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-14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인쇄위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210200" y="4805280"/>
            <a:ext cx="3028680" cy="1366920"/>
            <a:chOff x="4210200" y="4805280"/>
            <a:chExt cx="3028680" cy="1366920"/>
          </a:xfrm>
        </p:grpSpPr>
        <p:grpSp>
          <p:nvGrpSpPr>
            <p:cNvPr id="779" name=""/>
            <p:cNvGrpSpPr/>
            <p:nvPr/>
          </p:nvGrpSpPr>
          <p:grpSpPr>
            <a:xfrm>
              <a:off x="4210200" y="4805280"/>
              <a:ext cx="3028680" cy="1366920"/>
              <a:chOff x="4210200" y="4805280"/>
              <a:chExt cx="3028680" cy="1366920"/>
            </a:xfrm>
          </p:grpSpPr>
          <p:sp>
            <p:nvSpPr>
              <p:cNvPr id="780" name=""/>
              <p:cNvSpPr/>
              <p:nvPr/>
            </p:nvSpPr>
            <p:spPr>
              <a:xfrm>
                <a:off x="6363720" y="4805280"/>
                <a:ext cx="874800" cy="1366920"/>
              </a:xfrm>
              <a:custGeom>
                <a:avLst/>
                <a:gdLst/>
                <a:ahLst/>
                <a:rect l="l" t="t" r="r" b="b"/>
                <a:pathLst>
                  <a:path w="1171" h="4762">
                    <a:moveTo>
                      <a:pt x="0" y="4762"/>
                    </a:moveTo>
                    <a:lnTo>
                      <a:pt x="0" y="1166"/>
                    </a:lnTo>
                    <a:lnTo>
                      <a:pt x="1171" y="0"/>
                    </a:lnTo>
                    <a:lnTo>
                      <a:pt x="1171" y="3597"/>
                    </a:lnTo>
                    <a:lnTo>
                      <a:pt x="0" y="4762"/>
                    </a:lnTo>
                    <a:close/>
                  </a:path>
                </a:pathLst>
              </a:custGeom>
              <a:solidFill>
                <a:srgbClr val="dba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210200" y="4805280"/>
                <a:ext cx="3028680" cy="334440"/>
              </a:xfrm>
              <a:custGeom>
                <a:avLst/>
                <a:gdLst/>
                <a:ahLst/>
                <a:rect l="l" t="t" r="r" b="b"/>
                <a:pathLst>
                  <a:path w="4053" h="1166">
                    <a:moveTo>
                      <a:pt x="2882" y="1166"/>
                    </a:moveTo>
                    <a:lnTo>
                      <a:pt x="0" y="1166"/>
                    </a:lnTo>
                    <a:lnTo>
                      <a:pt x="1170" y="0"/>
                    </a:lnTo>
                    <a:lnTo>
                      <a:pt x="4053" y="0"/>
                    </a:lnTo>
                    <a:lnTo>
                      <a:pt x="2882" y="1166"/>
                    </a:lnTo>
                    <a:close/>
                  </a:path>
                </a:pathLst>
              </a:custGeom>
              <a:solidFill>
                <a:srgbClr val="946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210200" y="5139720"/>
                <a:ext cx="2153520" cy="1032120"/>
              </a:xfrm>
              <a:prstGeom prst="rect">
                <a:avLst/>
              </a:prstGeom>
              <a:solidFill>
                <a:srgbClr val="bf8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5329080" y="5731200"/>
              <a:ext cx="864000" cy="302760"/>
              <a:chOff x="5329080" y="5731200"/>
              <a:chExt cx="864000" cy="302760"/>
            </a:xfrm>
          </p:grpSpPr>
          <p:sp>
            <p:nvSpPr>
              <p:cNvPr id="784" name=""/>
              <p:cNvSpPr/>
              <p:nvPr/>
            </p:nvSpPr>
            <p:spPr>
              <a:xfrm>
                <a:off x="5329080" y="5733000"/>
                <a:ext cx="864000" cy="300960"/>
              </a:xfrm>
              <a:prstGeom prst="rect">
                <a:avLst/>
              </a:prstGeom>
              <a:solidFill>
                <a:srgbClr val="fabc8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22040" y="5731200"/>
                <a:ext cx="46080" cy="201240"/>
              </a:xfrm>
              <a:custGeom>
                <a:avLst/>
                <a:gdLst/>
                <a:ahLst/>
                <a:rect l="l" t="t" r="r" b="b"/>
                <a:pathLst>
                  <a:path w="62" h="290">
                    <a:moveTo>
                      <a:pt x="60" y="0"/>
                    </a:moveTo>
                    <a:lnTo>
                      <a:pt x="0" y="0"/>
                    </a:lnTo>
                    <a:lnTo>
                      <a:pt x="0" y="290"/>
                    </a:lnTo>
                    <a:lnTo>
                      <a:pt x="62" y="29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8240" y="5731200"/>
                <a:ext cx="47160" cy="201240"/>
              </a:xfrm>
              <a:custGeom>
                <a:avLst/>
                <a:gdLst/>
                <a:ahLst/>
                <a:rect l="l" t="t" r="r" b="b"/>
                <a:pathLst>
                  <a:path w="63" h="290">
                    <a:moveTo>
                      <a:pt x="60" y="0"/>
                    </a:moveTo>
                    <a:lnTo>
                      <a:pt x="0" y="0"/>
                    </a:lnTo>
                    <a:lnTo>
                      <a:pt x="3" y="290"/>
                    </a:lnTo>
                    <a:lnTo>
                      <a:pt x="63" y="29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36600" y="5731200"/>
                <a:ext cx="47160" cy="201240"/>
              </a:xfrm>
              <a:custGeom>
                <a:avLst/>
                <a:gdLst/>
                <a:ahLst/>
                <a:rect l="l" t="t" r="r" b="b"/>
                <a:pathLst>
                  <a:path w="63" h="290">
                    <a:moveTo>
                      <a:pt x="60" y="0"/>
                    </a:moveTo>
                    <a:lnTo>
                      <a:pt x="0" y="0"/>
                    </a:lnTo>
                    <a:lnTo>
                      <a:pt x="3" y="290"/>
                    </a:lnTo>
                    <a:lnTo>
                      <a:pt x="63" y="29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43880" y="5731200"/>
                <a:ext cx="46080" cy="201240"/>
              </a:xfrm>
              <a:custGeom>
                <a:avLst/>
                <a:gdLst/>
                <a:ahLst/>
                <a:rect l="l" t="t" r="r" b="b"/>
                <a:pathLst>
                  <a:path w="62" h="290">
                    <a:moveTo>
                      <a:pt x="60" y="0"/>
                    </a:moveTo>
                    <a:lnTo>
                      <a:pt x="0" y="0"/>
                    </a:lnTo>
                    <a:lnTo>
                      <a:pt x="2" y="290"/>
                    </a:lnTo>
                    <a:lnTo>
                      <a:pt x="62" y="29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952240" y="5731200"/>
                <a:ext cx="46440" cy="201240"/>
              </a:xfrm>
              <a:custGeom>
                <a:avLst/>
                <a:gdLst/>
                <a:ahLst/>
                <a:rect l="l" t="t" r="r" b="b"/>
                <a:pathLst>
                  <a:path w="62" h="290">
                    <a:moveTo>
                      <a:pt x="60" y="0"/>
                    </a:moveTo>
                    <a:lnTo>
                      <a:pt x="0" y="0"/>
                    </a:lnTo>
                    <a:lnTo>
                      <a:pt x="2" y="290"/>
                    </a:lnTo>
                    <a:lnTo>
                      <a:pt x="62" y="29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6612480" y="5371200"/>
              <a:ext cx="545040" cy="613080"/>
              <a:chOff x="6612480" y="5371200"/>
              <a:chExt cx="545040" cy="61308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6612480" y="5371200"/>
                <a:ext cx="545040" cy="613080"/>
                <a:chOff x="6612480" y="5371200"/>
                <a:chExt cx="545040" cy="613080"/>
              </a:xfrm>
            </p:grpSpPr>
            <p:sp>
              <p:nvSpPr>
                <p:cNvPr id="792" name=""/>
                <p:cNvSpPr/>
                <p:nvPr/>
              </p:nvSpPr>
              <p:spPr>
                <a:xfrm rot="470400">
                  <a:off x="6627600" y="5684400"/>
                  <a:ext cx="46800" cy="228240"/>
                </a:xfrm>
                <a:custGeom>
                  <a:avLst/>
                  <a:gdLst/>
                  <a:ahLst/>
                  <a:rect l="l" t="t" r="r" b="b"/>
                  <a:pathLst>
                    <a:path w="63" h="432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3" y="432"/>
                      </a:lnTo>
                      <a:lnTo>
                        <a:pt x="63" y="43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470400">
                  <a:off x="6636600" y="5626800"/>
                  <a:ext cx="462240" cy="327240"/>
                </a:xfrm>
                <a:custGeom>
                  <a:avLst/>
                  <a:gdLst/>
                  <a:ahLst/>
                  <a:rect l="l" t="t" r="r" b="b"/>
                  <a:pathLst>
                    <a:path w="620" h="619">
                      <a:moveTo>
                        <a:pt x="0" y="577"/>
                      </a:moveTo>
                      <a:lnTo>
                        <a:pt x="42" y="619"/>
                      </a:lnTo>
                      <a:lnTo>
                        <a:pt x="620" y="43"/>
                      </a:lnTo>
                      <a:lnTo>
                        <a:pt x="577" y="0"/>
                      </a:lnTo>
                      <a:lnTo>
                        <a:pt x="0" y="5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470400">
                  <a:off x="6667560" y="5401080"/>
                  <a:ext cx="462240" cy="327240"/>
                </a:xfrm>
                <a:custGeom>
                  <a:avLst/>
                  <a:gdLst/>
                  <a:ahLst/>
                  <a:rect l="l" t="t" r="r" b="b"/>
                  <a:pathLst>
                    <a:path w="620" h="619">
                      <a:moveTo>
                        <a:pt x="0" y="576"/>
                      </a:moveTo>
                      <a:lnTo>
                        <a:pt x="42" y="619"/>
                      </a:lnTo>
                      <a:lnTo>
                        <a:pt x="620" y="44"/>
                      </a:lnTo>
                      <a:lnTo>
                        <a:pt x="577" y="0"/>
                      </a:lnTo>
                      <a:lnTo>
                        <a:pt x="0" y="5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470400">
                  <a:off x="7095960" y="5442480"/>
                  <a:ext cx="46080" cy="228240"/>
                </a:xfrm>
                <a:custGeom>
                  <a:avLst/>
                  <a:gdLst/>
                  <a:ahLst/>
                  <a:rect l="l" t="t" r="r" b="b"/>
                  <a:pathLst>
                    <a:path w="62" h="432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2" y="432"/>
                      </a:lnTo>
                      <a:lnTo>
                        <a:pt x="62" y="43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 rot="470400">
                <a:off x="6755760" y="5625360"/>
                <a:ext cx="34920" cy="151560"/>
              </a:xfrm>
              <a:custGeom>
                <a:avLst/>
                <a:gdLst/>
                <a:ahLst/>
                <a:rect l="l" t="t" r="r" b="b"/>
                <a:pathLst>
                  <a:path w="47" h="287">
                    <a:moveTo>
                      <a:pt x="45" y="0"/>
                    </a:moveTo>
                    <a:lnTo>
                      <a:pt x="0" y="0"/>
                    </a:lnTo>
                    <a:lnTo>
                      <a:pt x="2" y="287"/>
                    </a:lnTo>
                    <a:lnTo>
                      <a:pt x="47" y="28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470400">
                <a:off x="6871320" y="5563440"/>
                <a:ext cx="35640" cy="151560"/>
              </a:xfrm>
              <a:custGeom>
                <a:avLst/>
                <a:gdLst/>
                <a:ahLst/>
                <a:rect l="l" t="t" r="r" b="b"/>
                <a:pathLst>
                  <a:path w="48" h="287">
                    <a:moveTo>
                      <a:pt x="48" y="0"/>
                    </a:moveTo>
                    <a:lnTo>
                      <a:pt x="0" y="0"/>
                    </a:lnTo>
                    <a:lnTo>
                      <a:pt x="3" y="287"/>
                    </a:lnTo>
                    <a:lnTo>
                      <a:pt x="48" y="28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70400">
                <a:off x="6988320" y="5504040"/>
                <a:ext cx="35640" cy="151560"/>
              </a:xfrm>
              <a:custGeom>
                <a:avLst/>
                <a:gdLst/>
                <a:ahLst/>
                <a:rect l="l" t="t" r="r" b="b"/>
                <a:pathLst>
                  <a:path w="48" h="287">
                    <a:moveTo>
                      <a:pt x="45" y="0"/>
                    </a:moveTo>
                    <a:lnTo>
                      <a:pt x="0" y="0"/>
                    </a:lnTo>
                    <a:lnTo>
                      <a:pt x="3" y="287"/>
                    </a:lnTo>
                    <a:lnTo>
                      <a:pt x="48" y="28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9" name=""/>
          <p:cNvSpPr/>
          <p:nvPr/>
        </p:nvSpPr>
        <p:spPr>
          <a:xfrm>
            <a:off x="5148360" y="5529240"/>
            <a:ext cx="1154160" cy="6429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1752480"/>
            <a:ext cx="3533760" cy="2330640"/>
          </a:xfrm>
          <a:prstGeom prst="rect">
            <a:avLst/>
          </a:prstGeom>
          <a:solidFill>
            <a:srgbClr val="ffcc99"/>
          </a:solidFill>
          <a:ln w="3168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Itf14" descr=""/>
          <p:cNvPicPr/>
          <p:nvPr/>
        </p:nvPicPr>
        <p:blipFill>
          <a:blip r:embed="rId1"/>
          <a:stretch/>
        </p:blipFill>
        <p:spPr>
          <a:xfrm>
            <a:off x="2479680" y="3198960"/>
            <a:ext cx="1225440" cy="4618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067280" y="4083120"/>
            <a:ext cx="0" cy="561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62200" y="3600360"/>
            <a:ext cx="0" cy="1044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74960" y="3600360"/>
            <a:ext cx="504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 rot="1210200">
            <a:off x="3995280" y="4308480"/>
            <a:ext cx="2379600" cy="803160"/>
          </a:xfrm>
          <a:custGeom>
            <a:avLst/>
            <a:gdLst>
              <a:gd name="textAreaLeft" fmla="*/ 0 w 2379600"/>
              <a:gd name="textAreaRight" fmla="*/ 2379600 w 23796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48" stAng="10800000" swAng="5400000"/>
                <a:lnTo>
                  <a:pt x="14958" y="4612"/>
                </a:lnTo>
                <a:lnTo>
                  <a:pt x="14958" y="0"/>
                </a:lnTo>
                <a:lnTo>
                  <a:pt x="21600" y="6079"/>
                </a:lnTo>
                <a:lnTo>
                  <a:pt x="14958" y="12158"/>
                </a:lnTo>
                <a:lnTo>
                  <a:pt x="14958" y="7546"/>
                </a:lnTo>
                <a:lnTo>
                  <a:pt x="12427" y="7546"/>
                </a:lnTo>
                <a:arcTo wR="9493" hR="4614" stAng="16200000" swAng="-5400000"/>
                <a:lnTo>
                  <a:pt x="2934" y="21600"/>
                </a:lnTo>
                <a:close/>
              </a:path>
            </a:pathLst>
          </a:custGeom>
          <a:solidFill>
            <a:srgbClr val="5e574e"/>
          </a:solidFill>
          <a:ln w="648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62200" y="4403880"/>
            <a:ext cx="5050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192400" y="3600000"/>
            <a:ext cx="0" cy="4827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2360" y="2314440"/>
            <a:ext cx="862200" cy="3632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645080"/>
            <a:ext cx="861840" cy="3632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32040" y="4160880"/>
            <a:ext cx="865080" cy="3632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633840" y="2715840"/>
            <a:ext cx="0" cy="48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33840" y="2957400"/>
            <a:ext cx="4334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67080" y="1828800"/>
            <a:ext cx="4496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바코드심벌의 하단과   심벌인쇄면 최하단과의 거리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32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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 3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심벌인쇄면   좌우측 가장자리에서   테두리바까지 거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19mm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이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심벌인쇄면  좌우측  가장자리에서 심벌의 첫번째 또는 마지막 바까지의 거리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34mm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이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/UCC -14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인쇄위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 활용방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국내외 활용현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향후 활용분야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도입현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동아제약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일동제약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종근당 등 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94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전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생산업체 기준 약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18%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제약회사가 도입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활용현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- 1999. 6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본 센터 조사에 의하면 전체 의약품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8.63%,  (1,1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여개 품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),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의약부외품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49.6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23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여개  품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에 표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현재는 일반소매점 납품품목 및 수출품목에 집중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국내 의약품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N/UC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시스템 활용현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국중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45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국이 의약품에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EAN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코드를 채택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685800" y="2590920"/>
          <a:ext cx="8153280" cy="68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8153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"/>
          <p:cNvSpPr/>
          <p:nvPr/>
        </p:nvSpPr>
        <p:spPr>
          <a:xfrm>
            <a:off x="990720" y="35812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현재 기타코드와 병행중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 국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독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벨기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네덜란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뉴질랜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EAN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코드로 전환중에 있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90720" y="47242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타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UN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의 마약관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NATO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의 부상자관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환자관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의료장비추적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샘플추적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병원폐기물 관리 등 의료분야에서 다양하게 활용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외국 의료분야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N/U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시스템 활용현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N/UCC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시스템 향후 활용 방향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Healthcare Consume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627120" y="2063880"/>
          <a:ext cx="807732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2063880"/>
                    <a:ext cx="8077320" cy="391608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기타 문의 사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담당부서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표준보급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        화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 Tel  528-5447/15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4038480" y="3124080"/>
          <a:ext cx="431028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124080"/>
                    <a:ext cx="4310280" cy="28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66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838080" y="4038480"/>
          <a:ext cx="216720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038480"/>
                    <a:ext cx="2167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 flipV="1">
            <a:off x="2971800" y="2819160"/>
            <a:ext cx="5702400" cy="11840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4952880"/>
            <a:ext cx="5788080" cy="16160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바코드의 기본개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쇄된 문자나 숫자 등의 데이터를 컴퓨터에      자동입력 시키기 위한  흑색막대와 백색막대      그리고 굵은 막대와 가는 막대의 조합으로서      정보를 나타내는 수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심벌과 코드시스템으로 구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451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체"/>
                <a:ea typeface="굴림체"/>
              </a:rPr>
              <a:t>바코드의 종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1434960" cy="749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U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276720"/>
            <a:ext cx="143496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Code 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3680" y="4654440"/>
            <a:ext cx="1434960" cy="749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I 2 of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680" y="5950080"/>
            <a:ext cx="143496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Code 3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8240" y="3332160"/>
            <a:ext cx="2425680" cy="78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81480" y="3328920"/>
            <a:ext cx="215280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195640" y="4554360"/>
            <a:ext cx="2385720" cy="93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160960" y="4495680"/>
            <a:ext cx="2459160" cy="919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165400" y="5859360"/>
            <a:ext cx="2940120" cy="84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247840" y="1978200"/>
            <a:ext cx="1790640" cy="82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218120" y="1982880"/>
            <a:ext cx="1077840" cy="68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91080" y="1976400"/>
            <a:ext cx="190044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596360" y="1978200"/>
            <a:ext cx="10904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표준바코드의 필요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5dec"/>
                </a:solidFill>
                <a:latin typeface="Times New Roman"/>
              </a:rPr>
              <a:t>거래상대자간 공통의  커뮤니케이션 수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638680" y="2762280"/>
            <a:ext cx="1067040" cy="285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4191120"/>
            <a:ext cx="1067040" cy="6159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1295280"/>
            <a:ext cx="7543800" cy="4050000"/>
            <a:chOff x="838080" y="1295280"/>
            <a:chExt cx="7543800" cy="4050000"/>
          </a:xfrm>
        </p:grpSpPr>
        <p:grpSp>
          <p:nvGrpSpPr>
            <p:cNvPr id="113" name=""/>
            <p:cNvGrpSpPr/>
            <p:nvPr/>
          </p:nvGrpSpPr>
          <p:grpSpPr>
            <a:xfrm>
              <a:off x="4267080" y="3581280"/>
              <a:ext cx="999720" cy="1764000"/>
              <a:chOff x="4267080" y="3581280"/>
              <a:chExt cx="999720" cy="17640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267080" y="3581280"/>
                <a:ext cx="999720" cy="1764000"/>
                <a:chOff x="4267080" y="3581280"/>
                <a:chExt cx="999720" cy="1764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67080" y="4462560"/>
                  <a:ext cx="609120" cy="7704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67080" y="4452120"/>
                  <a:ext cx="609120" cy="70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273920" y="3630600"/>
                  <a:ext cx="587520" cy="873000"/>
                  <a:chOff x="4273920" y="3630600"/>
                  <a:chExt cx="587520" cy="873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273920" y="3630600"/>
                    <a:ext cx="587520" cy="831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88680" y="4430880"/>
                    <a:ext cx="572760" cy="72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50000">
                        <a:srgbClr val="fb3352"/>
                      </a:gs>
                      <a:gs pos="100000">
                        <a:srgbClr val="fc0128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4267080" y="3595680"/>
                  <a:ext cx="609120" cy="7272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267080" y="3581280"/>
                  <a:ext cx="609120" cy="74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84520" y="3674520"/>
                  <a:ext cx="782280" cy="167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3"/>
                      </a:moveTo>
                      <a:arcTo wR="10800" hR="10800" stAng="-10791443" swAng="53701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3"/>
                      </a:moveTo>
                      <a:arcTo wR="10800" hR="10800" stAng="-10791443" swAng="537018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41840" y="3828600"/>
                  <a:ext cx="457560" cy="136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38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381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73280" y="3627000"/>
                  <a:ext cx="130320" cy="6120"/>
                </a:xfrm>
                <a:prstGeom prst="ellipse">
                  <a:avLst/>
                </a:prstGeom>
                <a:solidFill>
                  <a:srgbClr val="5e574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8040" y="4160880"/>
                <a:ext cx="464760" cy="2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1295280" y="213372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457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40200">
              <a:off x="3658320" y="41911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8012345678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296720" y="457200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imes New Roman"/>
                </a:rPr>
                <a:t>abc-265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46483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상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590920" y="4267080"/>
              <a:ext cx="1218960" cy="45720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514240" y="2720520"/>
              <a:ext cx="1219320" cy="3272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6858000" y="2895480"/>
            <a:ext cx="1457280" cy="1306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0" y="2895480"/>
                      <a:ext cx="1457280" cy="13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1066680" y="2971800"/>
            <a:ext cx="1457280" cy="130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6680" y="2971800"/>
                      <a:ext cx="1457280" cy="13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" name="kan13" descr=""/>
            <p:cNvPicPr/>
            <p:nvPr/>
          </p:nvPicPr>
          <p:blipFill>
            <a:blip r:embed="rId6"/>
            <a:stretch/>
          </p:blipFill>
          <p:spPr>
            <a:xfrm>
              <a:off x="3657600" y="2666880"/>
              <a:ext cx="175248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06668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42670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3of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168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F2of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267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3of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1981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제조업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295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유통업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1295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유통업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34320" y="464832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1" lang="ko-KR" sz="1600" spc="-1" strike="noStrike">
                  <a:solidFill>
                    <a:srgbClr val="010000"/>
                  </a:solidFill>
                  <a:latin typeface="Times New Roman"/>
                </a:rPr>
                <a:t>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10000"/>
                  </a:solidFill>
                  <a:latin typeface="Times New Roman"/>
                </a:rPr>
                <a:t>123-xy-3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1337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23456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EAN/UC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시스템 개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N International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C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N/UC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시스템 구성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N/UC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시스템 종류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N International/UC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1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 유럽국가가 참여하여 설립된 비영리      국제코드관리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 회원국 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 코드관리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에 본 센터 가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1999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에 북한 가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합물류의 효율성 제고에 목적을 두고 재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케이션 식별과 커뮤니케이션을 위한 범 세계적인   다산업용 표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EAN System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개발 및 보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Number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ar Code Symb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ANCOM EDI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N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16:30:24Z</dcterms:created>
  <dc:creator>HB</dc:creator>
  <dc:description/>
  <dc:language>en-US</dc:language>
  <cp:lastModifiedBy>김성철</cp:lastModifiedBy>
  <cp:lastPrinted>2000-01-18T04:06:22Z</cp:lastPrinted>
  <dcterms:modified xsi:type="dcterms:W3CDTF">2000-02-27T05:23:39Z</dcterms:modified>
  <cp:revision>69</cp:revision>
  <dc:subject/>
  <dc:title>Integration of Bar Coding and Article Numbering with EDI</dc:title>
</cp:coreProperties>
</file>