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C04-D2D7-4D1C-96B8-753205F9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3B4-D541-4F8A-8A24-F8E72FF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9E5-264B-4DE9-88B8-3B07434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AE1-4258-4EB3-A6CC-50B68A52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942-1E60-467F-819B-5544805B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2F7-0448-4AB6-9408-FCA2920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FCEF-EFF6-4657-9834-DC6944B6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BB97-4FDE-4776-9D95-4825547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615-AAB0-4D43-81C2-F58A02AF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DE13-CB11-4332-BC4B-C500BD5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56E-96CB-49CE-93FC-61B8B85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AAF-6DBB-49AF-AE4B-8D8CFE6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9D6-0F14-42AB-8161-4E18D33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15CE-CA41-46CA-9043-82243C4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439-27B2-4C9D-98D9-7C33313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52A0-C4F2-4827-95C1-8AD8E896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6375-1B9A-4D00-80CC-A59CB5E7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39-EE03-481B-89AF-909422E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11D-5CCF-493C-93F2-671921DE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16C-8C9A-40BA-9337-96457CF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7DE-810B-4C63-954A-68CBCA87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AEF-89FE-4F42-B30C-6AE9A26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F77-944D-4A6E-8792-A92BDB1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C34-A45F-4294-9164-9CF3567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64A-B79A-41EF-8B76-48EB1247F5BC}" type="slidenum">
              <a:rPr b="0" lang="ko-KR" sz="1400" spc="-1" strike="noStrike">
                <a:solidFill>
                  <a:srgbClr val="ffffc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642-6C57-4A33-AEC6-4D56CF7BD484}" type="slidenum">
              <a:rPr b="0" lang="ko-KR" sz="1400" spc="-1" strike="noStrike">
                <a:solidFill>
                  <a:srgbClr val="ffffc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굴림"/>
              </a:rPr>
              <a:t>PMS(Post Marketing Surveillance)</a:t>
            </a:r>
            <a:r>
              <a:rPr b="1" lang="zh-CN" sz="5000" spc="-1" strike="noStrike">
                <a:solidFill>
                  <a:srgbClr val="ffffff"/>
                </a:solidFill>
                <a:latin typeface="굴림"/>
              </a:rPr>
              <a:t>제도운영방침</a:t>
            </a:r>
            <a:endParaRPr b="0" lang="en-US" sz="5000" spc="-1" strike="noStrike">
              <a:solidFill>
                <a:srgbClr val="ffcc00"/>
              </a:solidFill>
              <a:latin typeface="굴림"/>
            </a:endParaRPr>
          </a:p>
        </p:txBody>
      </p:sp>
      <p:pic>
        <p:nvPicPr>
          <p:cNvPr id="101" name="kfda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7620120" y="228600"/>
            <a:ext cx="1295280" cy="744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362320" y="432756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imes New Roman"/>
              </a:rPr>
              <a:t>식품의 약 품 안 전 청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imes New Roman"/>
              </a:rPr>
              <a:t>의약품관리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imes New Roman"/>
              </a:rPr>
              <a:t>김   관   성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j0079115" descr=""/>
          <p:cNvPicPr/>
          <p:nvPr/>
        </p:nvPicPr>
        <p:blipFill>
          <a:blip r:embed="rId2"/>
          <a:stretch/>
        </p:blipFill>
        <p:spPr>
          <a:xfrm>
            <a:off x="8229600" y="5361120"/>
            <a:ext cx="6858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소비자 홍보 강화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소비자 단체 간행물을 통한 제도 소개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약전문인의 인식제고 방안 강구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연수 교육 및 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약학대학 교과과정에 모니터링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도 소개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병원 표준화 심사 시 평가 항목에 추가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지역 의약사회를 통한 전문인 교육 프로그램 개발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우수 보고자에 대한 표창 등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entive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개발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굴림"/>
              </a:rPr>
              <a:t>이상반응 모니터링 활성화를</a:t>
            </a:r>
            <a:br>
              <a:rPr sz="4200"/>
            </a:br>
            <a:r>
              <a:rPr b="1" lang="zh-CN" sz="4200" spc="-1" strike="noStrike">
                <a:solidFill>
                  <a:srgbClr val="ffffff"/>
                </a:solidFill>
                <a:latin typeface="굴림"/>
              </a:rPr>
              <a:t>위한 정부의 대책</a:t>
            </a:r>
            <a:endParaRPr b="0" lang="en-US" sz="4200" spc="-1" strike="noStrike">
              <a:solidFill>
                <a:srgbClr val="ffcc00"/>
              </a:solidFill>
              <a:latin typeface="굴림"/>
            </a:endParaRPr>
          </a:p>
        </p:txBody>
      </p:sp>
      <p:pic>
        <p:nvPicPr>
          <p:cNvPr id="150" name="BD19723_" descr=""/>
          <p:cNvPicPr/>
          <p:nvPr/>
        </p:nvPicPr>
        <p:blipFill>
          <a:blip r:embed="rId1"/>
          <a:stretch/>
        </p:blipFill>
        <p:spPr>
          <a:xfrm>
            <a:off x="7972560" y="5943600"/>
            <a:ext cx="1019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신약 등의 재심사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사법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26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조의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2)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에 의한 강제적 모니터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대상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전문의약품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신  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기존의 효능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효과와 현저히 다른 효능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효과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추가한 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투여경로를 달리하는 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년 또는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년간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600-3,000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예의 사용성적을 조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의 안전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부작용 발생현황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및 유효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효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및 효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일상적인 진료 조건 하에서 약물 투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BD20128_" descr=""/>
          <p:cNvPicPr/>
          <p:nvPr/>
        </p:nvPicPr>
        <p:blipFill>
          <a:blip r:embed="rId1"/>
          <a:stretch/>
        </p:blipFill>
        <p:spPr>
          <a:xfrm>
            <a:off x="8002440" y="5888160"/>
            <a:ext cx="98928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대상 품목 허가 현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219320"/>
          <a:ext cx="815364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838440"/>
                <a:gridCol w="914400"/>
                <a:gridCol w="914400"/>
                <a:gridCol w="838080"/>
                <a:gridCol w="838080"/>
                <a:gridCol w="811440"/>
                <a:gridCol w="9414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연도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구분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제     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수     입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계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BD07156_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914400" cy="77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038480"/>
            <a:ext cx="830592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완료 현황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65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허가 사항 변경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효능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효과 및 사용상의 주의사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 : 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효능삭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허가취소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완료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8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진행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8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재심사 제도 시행상의 문제점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7524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제도에 대한 업계의 이해부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일부 업계에서는 재심사제도의 중요성 인식 부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제도를 불필요한 규제로 인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시판후 조사에 필요한 조직 및 관리체계구축 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구노력 부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판매량에 비해 조사건수가 부진한 사례 발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HM00270_" descr=""/>
          <p:cNvPicPr/>
          <p:nvPr/>
        </p:nvPicPr>
        <p:blipFill>
          <a:blip r:embed="rId1"/>
          <a:stretch/>
        </p:blipFill>
        <p:spPr>
          <a:xfrm>
            <a:off x="8056440" y="5943600"/>
            <a:ext cx="935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533520"/>
            <a:ext cx="89913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사용성적조사 등 수행방법의 부적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대상 환자의 선택방법 등 주요계획을 임의 변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환자의 누락 또는 동일 약물을 이미 복용중인 환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선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중대한 이상반응 발생시 즉시 보고하고 발현상황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처치 및 인과 관계 확인 등 필요 조치불이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조사 담당의사 등과 제약업체 담당자간의 협의가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부족으로 조사표 작성시 오류 발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동일 의약품의 이상반응 발생상황이 병원별로 현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한 차이가 발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HM00170_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8715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관련 규정의 문제점 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현행 재심사 업무 지침서 내용이 복잡하고 명확지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니하여 업소에서 사용성적조사 계획서 작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결과 정리 및 연차보고서 작성에 어려움이 있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약품의 특성을 고려한 조사대상 환자수 조정 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체 임상시험 결과에 대한 인정기준 미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업소에서 제출한 사용성적조사 계획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연차보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서 등에 대한 신속한 검토가 수행되지 아니하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업소의 조사지연 및 조사방법 등의 오류발생 우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BS00677_" descr=""/>
          <p:cNvPicPr/>
          <p:nvPr/>
        </p:nvPicPr>
        <p:blipFill>
          <a:blip r:embed="rId1"/>
          <a:stretch/>
        </p:blipFill>
        <p:spPr>
          <a:xfrm>
            <a:off x="7848720" y="93600"/>
            <a:ext cx="11300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114300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신약 등의 재심사 제도 개선을 위한 연구사업 실시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재심사 대상품목 검토시 나타난 현실적인 문제점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과 제도운영에 대한 전반적인 재검토를 실시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일본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, EU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의 시판 후 관리제도 참조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법령보완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조사계획서 사전제출 및 연차보고 의무화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시행규칙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재심사 업무 단계별로 세분화된 재심사 업무지침서 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등 규정 제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개정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재심사 업무 담당자에 대한 실무교육 실시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재심사 관련 규정 개정 이후 </a:t>
            </a: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PMS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업무 종사자를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대상으로 사용성적조사 계획서 작성 및 조사방법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700" spc="-1" strike="noStrike">
                <a:solidFill>
                  <a:srgbClr val="ffffff"/>
                </a:solidFill>
                <a:latin typeface="굴림"/>
              </a:rPr>
              <a:t>등에 대한 민원 설명회 등 실무교육 실시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BD06633_" descr=""/>
          <p:cNvPicPr/>
          <p:nvPr/>
        </p:nvPicPr>
        <p:blipFill>
          <a:blip r:embed="rId1"/>
          <a:stretch/>
        </p:blipFill>
        <p:spPr>
          <a:xfrm>
            <a:off x="8116920" y="5961240"/>
            <a:ext cx="874800" cy="74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152280"/>
            <a:ext cx="77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재심사 제도 개선방향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45720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사전관리 강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출된 계획서 및 연차보고서 등에 대한 신속한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검토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향후 조사방향 등에 대한 전문성 있는 자문 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관련 의무이행에 대한 관리 강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관련 규정 미준수 업소에 대한 행정처분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강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사용성적 조사 기관에 대한 실사를 통하여 자료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신뢰성 확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관련 자료검토에 필요한 전문인력 보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신청서류 검토에 필요한 전담 전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인력 확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BD06622_" descr=""/>
          <p:cNvPicPr/>
          <p:nvPr/>
        </p:nvPicPr>
        <p:blipFill>
          <a:blip r:embed="rId1"/>
          <a:stretch/>
        </p:blipFill>
        <p:spPr>
          <a:xfrm>
            <a:off x="8402760" y="6172200"/>
            <a:ext cx="588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Times New Roman"/>
              </a:rPr>
              <a:t>의약품 약효 재평가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제도개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과거에 허가된 의약품의 안전성과 유효성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최신의 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학적 기술 수준에서 재평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약품의  유용성에 관한 사회적 요구를 반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이상반응 모니터링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재심사에서 처리되지 않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약품 정보를 수집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분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정기 재평가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문헌재평가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및 특별재평가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임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재평가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BS01042_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09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신명조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신명조"/>
              </a:rPr>
              <a:t>정기 재평가 실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600" y="5334120"/>
            <a:ext cx="403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신명조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신명조"/>
              </a:rPr>
              <a:t>200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년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개 약효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85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품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년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개 약효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품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143000"/>
          <a:ext cx="8686800" cy="4064040"/>
        </p:xfrm>
        <a:graphic>
          <a:graphicData uri="http://schemas.openxmlformats.org/drawingml/2006/table">
            <a:tbl>
              <a:tblPr/>
              <a:tblGrid>
                <a:gridCol w="533520"/>
                <a:gridCol w="761760"/>
                <a:gridCol w="762120"/>
                <a:gridCol w="762120"/>
                <a:gridCol w="761760"/>
                <a:gridCol w="762120"/>
                <a:gridCol w="685800"/>
                <a:gridCol w="685800"/>
                <a:gridCol w="533520"/>
                <a:gridCol w="533160"/>
                <a:gridCol w="533520"/>
                <a:gridCol w="609480"/>
                <a:gridCol w="76212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구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분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∼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∼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계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약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효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품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목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수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93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51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4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88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8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0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9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BL00684_" descr=""/>
          <p:cNvPicPr/>
          <p:nvPr/>
        </p:nvPicPr>
        <p:blipFill>
          <a:blip r:embed="rId1"/>
          <a:stretch/>
        </p:blipFill>
        <p:spPr>
          <a:xfrm>
            <a:off x="8153280" y="5853240"/>
            <a:ext cx="8683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2600" y="1547640"/>
            <a:ext cx="559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부작용 모니터링 제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신약등 재심사 제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의약품등 재평가 제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현황 및 문제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정부의 대책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7480" y="695160"/>
            <a:ext cx="2747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주  요   내   용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BD05969_" descr=""/>
          <p:cNvPicPr/>
          <p:nvPr/>
        </p:nvPicPr>
        <p:blipFill>
          <a:blip r:embed="rId1"/>
          <a:stretch/>
        </p:blipFill>
        <p:spPr>
          <a:xfrm>
            <a:off x="8169120" y="579132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재평가 제도의 문제점Ⅰ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447920"/>
            <a:ext cx="8763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연차별 재평가의 문제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신명조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신명조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현행의 연차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약효군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재평가 제도에서는 전체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약효군을 평가 하는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년 소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사회적으로 문제가 야기된 품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700" spc="-1" strike="noStrike">
                <a:solidFill>
                  <a:srgbClr val="ffffff"/>
                </a:solidFill>
                <a:latin typeface="Times New Roman"/>
              </a:rPr>
              <a:t>안전성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2700" spc="-1" strike="noStrike">
                <a:solidFill>
                  <a:srgbClr val="ffffff"/>
                </a:solidFill>
                <a:latin typeface="Times New Roman"/>
              </a:rPr>
              <a:t>유효성에 대한 재검토가 시급한 품목에 대한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적절한 대응에 어려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외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PDR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일본 의약품집 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허가 현황 의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최신의 임상연구 자료 등에 대한 조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반영 미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BS01042_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재평가 제도의 문제점Ⅱ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업계의 자료 준비 소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신명조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신명조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업계에서 충분히 자료를 준비할 시간을 주기위해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년전에 대상 품목 예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제약협회의 공동자료 조사에 의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업소의 주요 품목은 대부분 공동조사에서 제외되어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자료 확보 곤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예시 약효군에 해당되는 품목에 대한 최소한의 스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리닝 및 자료 준비 필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S01042_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12952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약효 재평가 제도 개선을 위한 연구사업 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심사 제도개선 연구사업과 연계 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일본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EU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재평가 제도 참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연차별 재평가 축소 → 임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임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평가 확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문제 성분위주로 광범위한 자료 조사 및 평가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평가 자료 미비 품목에 대한 자료 상담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재평가 자료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외국 의약품집 수재현황 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가 미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한 품목에 대한 준비자료 조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업계에서 사전 준비토록 유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BD06633_" descr=""/>
          <p:cNvPicPr/>
          <p:nvPr/>
        </p:nvPicPr>
        <p:blipFill>
          <a:blip r:embed="rId1"/>
          <a:stretch/>
        </p:blipFill>
        <p:spPr>
          <a:xfrm>
            <a:off x="8116920" y="5961240"/>
            <a:ext cx="874800" cy="74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380880"/>
            <a:ext cx="77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재평가 제도 개선방안 Ⅰ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2952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근거 법령의 보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현행 식약청장고시로 정한 “의약품재평가실시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관한규정”중 주요사항을 약사법시행규칙으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향 조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수익자 부담 원칙에 따라 수수료 수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후속조치 이행 의무 부과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명확한 처분 근거 마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BD06633_" descr=""/>
          <p:cNvPicPr/>
          <p:nvPr/>
        </p:nvPicPr>
        <p:blipFill>
          <a:blip r:embed="rId1"/>
          <a:stretch/>
        </p:blipFill>
        <p:spPr>
          <a:xfrm>
            <a:off x="8116920" y="5961240"/>
            <a:ext cx="874800" cy="744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" y="380880"/>
            <a:ext cx="77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재평가 제도 개선방안 Ⅱ</a:t>
            </a:r>
            <a:endParaRPr b="0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762120"/>
            <a:ext cx="7094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굴림"/>
              </a:rPr>
              <a:t>부작용관리의 필요성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828800"/>
            <a:ext cx="87631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시판전 의약품의 평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위험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과 유익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nefit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평가 개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허가전 동물 시험 및 임상시험 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효능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효과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유익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과 부작용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위험성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조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수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허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BD20129_" descr=""/>
          <p:cNvPicPr/>
          <p:nvPr/>
        </p:nvPicPr>
        <p:blipFill>
          <a:blip r:embed="rId1"/>
          <a:stretch/>
        </p:blipFill>
        <p:spPr>
          <a:xfrm>
            <a:off x="7993080" y="5773680"/>
            <a:ext cx="10746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722160"/>
            <a:ext cx="8763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임상시험의 한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50960"/>
          <a:ext cx="8153280" cy="283680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구     분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임  상  시  험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시 판 후 사용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용자수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-5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천명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한없음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용약물수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개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복수의약물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식이조절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통  제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통제안함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환      자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선 택 적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불특정다수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인종적차이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확인불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확인가능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82360" y="4530600"/>
            <a:ext cx="561384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시판전 의약품의 유익성과 위험성 평가의 약점보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시판후 약물부작용을 체계적으로 수집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석 필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유익성과 위험성의 계속적 평가 필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E02673_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돋움"/>
                <a:ea typeface="돋움"/>
              </a:rPr>
              <a:t>부작용 모니터링</a:t>
            </a:r>
            <a:br>
              <a:rPr sz="4500"/>
            </a:br>
            <a:r>
              <a:rPr b="1" lang="zh-CN" sz="4500" spc="-1" strike="noStrike">
                <a:solidFill>
                  <a:srgbClr val="ffffff"/>
                </a:solidFill>
                <a:latin typeface="돋움"/>
                <a:ea typeface="돋움"/>
              </a:rPr>
              <a:t>체  계</a:t>
            </a:r>
            <a:endParaRPr b="0" lang="en-US" sz="45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286000"/>
            <a:ext cx="19814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외국정부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81280"/>
            <a:ext cx="19051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식품의약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안전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5410080"/>
            <a:ext cx="19051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중앙약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심의위원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733920"/>
            <a:ext cx="16002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62320"/>
            <a:ext cx="236232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의약관계전문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및 협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단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86200"/>
            <a:ext cx="22100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제약회사 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협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단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257800"/>
            <a:ext cx="1904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소비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289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2895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2000" y="4419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44704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048120"/>
            <a:ext cx="9144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895480" y="27432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57680" y="405144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19520" y="4177800"/>
            <a:ext cx="9903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42840" y="4343400"/>
            <a:ext cx="10666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49532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715000" y="3962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S01022_" descr=""/>
          <p:cNvPicPr/>
          <p:nvPr/>
        </p:nvPicPr>
        <p:blipFill>
          <a:blip r:embed="rId1"/>
          <a:stretch/>
        </p:blipFill>
        <p:spPr>
          <a:xfrm>
            <a:off x="7931160" y="5697360"/>
            <a:ext cx="10605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굴림"/>
              </a:rPr>
              <a:t>부작용 보고</a:t>
            </a:r>
            <a:r>
              <a:rPr b="1" lang="en-US" sz="4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굴림"/>
              </a:rPr>
              <a:t>수집</a:t>
            </a:r>
            <a:r>
              <a:rPr b="1" lang="en-US" sz="4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4800" spc="-1" strike="noStrike">
                <a:solidFill>
                  <a:srgbClr val="ffffff"/>
                </a:solidFill>
                <a:latin typeface="굴림"/>
              </a:rPr>
              <a:t>실태</a:t>
            </a:r>
            <a:endParaRPr b="0" lang="en-US" sz="48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71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국내보고현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2002. 1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월말 현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819520"/>
          <a:ext cx="8534520" cy="1236600"/>
        </p:xfrm>
        <a:graphic>
          <a:graphicData uri="http://schemas.openxmlformats.org/drawingml/2006/table">
            <a:tbl>
              <a:tblPr/>
              <a:tblGrid>
                <a:gridCol w="990720"/>
                <a:gridCol w="685800"/>
                <a:gridCol w="609480"/>
                <a:gridCol w="609840"/>
                <a:gridCol w="609480"/>
                <a:gridCol w="609480"/>
                <a:gridCol w="609840"/>
                <a:gridCol w="609480"/>
                <a:gridCol w="685800"/>
                <a:gridCol w="838080"/>
                <a:gridCol w="838440"/>
                <a:gridCol w="838080"/>
              </a:tblGrid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년도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2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3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4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5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6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7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8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’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99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01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02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보고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건수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5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9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9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6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3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37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55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1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7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63640" y="4191120"/>
            <a:ext cx="67399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외국 보고현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일 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연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,000∼20,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의원 등 자발보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,000∼5,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미 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연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,000∼250,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    U :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연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,000∼30,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BD20120_" descr=""/>
          <p:cNvPicPr/>
          <p:nvPr/>
        </p:nvPicPr>
        <p:blipFill>
          <a:blip r:embed="rId1"/>
          <a:stretch/>
        </p:blipFill>
        <p:spPr>
          <a:xfrm>
            <a:off x="8077320" y="6149880"/>
            <a:ext cx="9144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굴림"/>
              </a:rPr>
              <a:t>국내 보고실적이 저조한 이유</a:t>
            </a:r>
            <a:endParaRPr b="0" lang="en-US" sz="45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부작용 보고시 인과관계 규명을 위한 행정기관의 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조사를 우려하여 병원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약국 및  제조업소 등에서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보고 기피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약업계 관리자및 실무자의 인식부족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료기관 및 제약회사 내의 전담 인력  및 조직 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29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부재등 업무 체계 미흡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42" name="BD20071_" descr=""/>
          <p:cNvPicPr/>
          <p:nvPr/>
        </p:nvPicPr>
        <p:blipFill>
          <a:blip r:embed="rId1"/>
          <a:stretch/>
        </p:blipFill>
        <p:spPr>
          <a:xfrm>
            <a:off x="7543800" y="5834160"/>
            <a:ext cx="1336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609480"/>
            <a:ext cx="853416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부차원의 지원대책 미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료분쟁조정법의 시행 지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약품 피해구제 제도의 미실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※ </a:t>
            </a:r>
            <a:r>
              <a:rPr b="1" i="1" lang="zh-CN" sz="2800" spc="-1" strike="noStrike">
                <a:solidFill>
                  <a:srgbClr val="ffffff"/>
                </a:solidFill>
                <a:latin typeface="굴림"/>
              </a:rPr>
              <a:t>향후 의료환경의 변화와 부작용에 대한 국민적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굴림"/>
              </a:rPr>
              <a:t>관심이 높아져 의료분쟁 또는 약화사고 분쟁 다발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굴림"/>
              </a:rPr>
              <a:t>가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BD06493_" descr=""/>
          <p:cNvPicPr/>
          <p:nvPr/>
        </p:nvPicPr>
        <p:blipFill>
          <a:blip r:embed="rId1"/>
          <a:stretch/>
        </p:blipFill>
        <p:spPr>
          <a:xfrm>
            <a:off x="7791480" y="5986440"/>
            <a:ext cx="1123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320" y="182844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부작용 정보 전달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환류 체계 마련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병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원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약국 및 제약사와 온라인을 통한 정보교환 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체계 마련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안전성 속보 등을 통한 정보평가 결과 신속 전달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소비자를 위한 안전성 정보 제공 체계 확대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○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약사의 소비자 불만사항 중 부작용 파악 및 활용 </a:t>
            </a:r>
            <a:endParaRPr b="0" lang="en-US" sz="28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굴림"/>
              </a:rPr>
              <a:t>부작용 모니터링 활성화를</a:t>
            </a:r>
            <a:br>
              <a:rPr sz="4200"/>
            </a:br>
            <a:r>
              <a:rPr b="1" lang="zh-CN" sz="4200" spc="-1" strike="noStrike">
                <a:solidFill>
                  <a:srgbClr val="ffffff"/>
                </a:solidFill>
                <a:latin typeface="굴림"/>
              </a:rPr>
              <a:t>위한 정부의 대책</a:t>
            </a:r>
            <a:endParaRPr b="0" lang="en-US" sz="4200" spc="-1" strike="noStrike">
              <a:solidFill>
                <a:srgbClr val="ffcc00"/>
              </a:solidFill>
              <a:latin typeface="굴림"/>
            </a:endParaRPr>
          </a:p>
        </p:txBody>
      </p:sp>
      <p:pic>
        <p:nvPicPr>
          <p:cNvPr id="147" name="PE03505_" descr=""/>
          <p:cNvPicPr/>
          <p:nvPr/>
        </p:nvPicPr>
        <p:blipFill>
          <a:blip r:embed="rId1"/>
          <a:stretch/>
        </p:blipFill>
        <p:spPr>
          <a:xfrm>
            <a:off x="7772400" y="5875200"/>
            <a:ext cx="13716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1:00:26Z</dcterms:created>
  <dc:creator>MSD</dc:creator>
  <dc:description/>
  <dc:language>en-US</dc:language>
  <cp:lastModifiedBy>기선미</cp:lastModifiedBy>
  <dcterms:modified xsi:type="dcterms:W3CDTF">2003-06-09T05:26:41Z</dcterms:modified>
  <cp:revision>297</cp:revision>
  <dc:subject/>
  <dc:title>의약품등의 이상(유해)반응  모니터링 제도</dc:title>
</cp:coreProperties>
</file>