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7D5-D0CA-4A19-BAE2-7D344736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5D6-B300-49B1-9C47-6878322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7C7-8046-4ECB-A94D-6D64A0C0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46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560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70F-AC22-4D1E-A04D-7FBB6684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4DA2-141D-4D52-93DB-2D7B9791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254A-3159-4FB9-99CA-56F2F702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FEA2-FA5C-4BE7-9C0E-9AB7A282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96FE-9D9A-4F5D-A00D-3688769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3683-EDC5-4AD0-8498-A591D7E1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040" y="479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84A-83B0-465F-8EBA-5F66500B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A381-5515-4FAC-897B-56617E6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E28-2660-49D9-A745-D0A0FCF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4F6A-6F6D-4EE5-907D-0AE135D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CCD-113E-4035-B90B-60708F3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55DF-FFA6-47DF-9254-A7B158B4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1B6C-B08A-4A69-A214-D3CE38B4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646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560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544B-B00C-4FB0-B71C-F2240EC0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800-4972-4258-B566-8F04AF36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7DB-0030-4CDE-9377-32EABE45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542-24C9-48F0-AD32-58DBC598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479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65F-25CB-4311-9A43-FE356D5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BBE-9C8D-42B1-BF93-314553B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5FF-3D5E-4320-A797-3CECCE9B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AE1-98DC-4DD2-9045-F64FB94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92B4-6B46-4541-B068-0128DD2D7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1295280"/>
              <a:ext cx="22860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7604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823160" y="228600"/>
            <a:ext cx="106668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8F4-E5FE-43E9-A1BF-5EC03A1D4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295280" y="2209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1371600" y="3048120"/>
              <a:ext cx="22860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276720"/>
              <a:ext cx="914400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3640" y="1752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굴림"/>
              </a:rPr>
              <a:t>KGMP </a:t>
            </a:r>
            <a:r>
              <a:rPr b="0" lang="zh-CN" sz="5400" spc="-1" strike="noStrike">
                <a:solidFill>
                  <a:srgbClr val="00ffcc"/>
                </a:solidFill>
                <a:latin typeface="굴림"/>
              </a:rPr>
              <a:t>현황 및 </a:t>
            </a:r>
            <a:br>
              <a:rPr sz="5400"/>
            </a:br>
            <a:r>
              <a:rPr b="0" lang="zh-CN" sz="5400" spc="-1" strike="noStrike">
                <a:solidFill>
                  <a:srgbClr val="00ffcc"/>
                </a:solidFill>
                <a:latin typeface="굴림"/>
              </a:rPr>
              <a:t>향후의 정책 추진 방향</a:t>
            </a:r>
            <a:endParaRPr b="0" lang="en-US" sz="5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2003. 6. 10.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식품의약품안전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의약품관리과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23160" y="228600"/>
            <a:ext cx="10666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3200"/>
            <a:ext cx="75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KGMP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평가 절차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905120"/>
          <a:ext cx="7543800" cy="3570120"/>
        </p:xfrm>
        <a:graphic>
          <a:graphicData uri="http://schemas.openxmlformats.org/drawingml/2006/table">
            <a:tbl>
              <a:tblPr/>
              <a:tblGrid>
                <a:gridCol w="1848960"/>
                <a:gridCol w="2884320"/>
                <a:gridCol w="281052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완제의약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원료의약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신청조건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굴림"/>
                        </a:rPr>
                        <a:t>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형별로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개 제조단위 이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조방법별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개 제조단위 이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평가신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별지 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6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호 서식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비서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별지 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호 서식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비서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처리기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승인신청 후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8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승인신청 후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굴림"/>
                        </a:rPr>
                        <a:t>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형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표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있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품명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형 및 성상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있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조방법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936800" y="5699160"/>
            <a:ext cx="58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개정전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) : 2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월 이상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제형별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제조방법별로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개 제조단위 이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buClr>
                <a:srgbClr val="ffffff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개정전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) : 180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일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굴림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굴림"/>
              </a:rPr>
              <a:t>KGMP</a:t>
            </a:r>
            <a:r>
              <a:rPr b="0" lang="zh-CN" sz="4000" spc="-1" strike="noStrike">
                <a:solidFill>
                  <a:srgbClr val="00ffcc"/>
                </a:solidFill>
                <a:latin typeface="굴림"/>
              </a:rPr>
              <a:t>운영의 전면 재검토 배경</a:t>
            </a:r>
            <a:endParaRPr b="0" lang="en-US" sz="40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내 제약산업의 국제 경쟁력 확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민의 의약품 품질에 대한 불신감 및 관리 능력강화 요청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거제 백병원 사건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약품 제조업체에 대한 관리 방식 전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격 미달 업체는 과감한 퇴출 유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사감시원의 업무수행 능력 극대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질 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cc"/>
                </a:solidFill>
                <a:latin typeface="굴림"/>
              </a:rPr>
              <a:t>향후의 </a:t>
            </a:r>
            <a:r>
              <a:rPr b="0" lang="en-US" sz="4000" spc="-1" strike="noStrike">
                <a:solidFill>
                  <a:srgbClr val="00ffcc"/>
                </a:solidFill>
                <a:latin typeface="굴림"/>
              </a:rPr>
              <a:t>KGMP</a:t>
            </a:r>
            <a:r>
              <a:rPr b="0" lang="zh-CN" sz="4000" spc="-1" strike="noStrike">
                <a:solidFill>
                  <a:srgbClr val="00ffcc"/>
                </a:solidFill>
                <a:latin typeface="굴림"/>
              </a:rPr>
              <a:t>정책 추진 방향</a:t>
            </a:r>
            <a:endParaRPr b="0" lang="en-US" sz="40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 운영의 내실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준의 선진화 사업 추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설기준령 등 관련 제도의 보완 및 개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GM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조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Investigator)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양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1) GMP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평가 운영의 내실화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pot Check System 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Process(system) Validation Inspection System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YSTEM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평가 모델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단순한 적부 판정이 아닌 질적 수준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업계 등 분야별 전문가를 포함한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Brain pool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ICH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 국제 수준의 눈높이 견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GMP-MRA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2) GMP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기준 선진화 사업 추진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WHO, ICH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FDA, EU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준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비교 분석을 통해 국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MP Up-grad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내 생산 의약품의 제조 품질관리 수준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높이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외적으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MRA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추진 등 신뢰성 확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추진 사업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’0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도 용역사업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2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세기 국제경쟁력 확보를 위한 국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MP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진 모델에 관한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물학적제제 등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평가지침 개발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 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주요 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GMP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기준 개정 요지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조공정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Validation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실시 의무화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Validation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어떤 조작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공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계설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원재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작 또는 시스템이 실제로 기대되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Expected result)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를 얻는다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것을 검증하는 문서화된 행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사제 제조지침 및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Validation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침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안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마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SOP(Change Control, OOS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강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적합 판정 취소 및 재평가 근거 조항 마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민 보건에 심각한 위해를 끼칠 정도의 품질 불량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품을 생산∙판매한 경우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해당 제형 적합 판정 취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식약청장이 필요하다고 인정할 경우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GMP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시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 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계속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생산 종사자에 대한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교육 이수 의무화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윤리의식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소명의식 등 인성 교육 강화 필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최신의 제약 실무 기술 습득 기회 부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실시상황 평가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형별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 Check list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마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신청에 따른 제형별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Check list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를 선진 수준으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강화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단순 적부 판정 지양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운영수준 평가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Process(system) based Inspection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방식으로 전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설기준령 개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안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마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진국 수준을 분석하고 국내 현실에 맞도록 강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 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계속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향후 추진 일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’03.  7 : GMP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개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안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간 보고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’03.  8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민원설명회 개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’03.  11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용역사업 완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’03.  12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최종 사업 결과 보고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’04.   1 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약사법시행규칙 개정 요청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굴림"/>
              </a:rPr>
              <a:t>※ </a:t>
            </a:r>
            <a:r>
              <a:rPr b="0" lang="zh-CN" sz="2400" spc="-1" strike="noStrike">
                <a:solidFill>
                  <a:srgbClr val="ff9966"/>
                </a:solidFill>
                <a:latin typeface="굴림"/>
              </a:rPr>
              <a:t>업계의 현실과 준비기간을 고려하여 시행일 결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3) GMP 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전문 조사관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(Investigator)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양성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업무수행 능력 등의 검증을 통한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격 인증제도 도입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일반 약사감시원과 차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시스템에 맞추어 학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업계 전문가 등 포함 검토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화된 교육기관에 위탁 교육 실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연수 프로그램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제 수준의 전문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Investigator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로 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WHO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FDA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등 단기 연수를 통한 국제 감각 유지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 </a:t>
            </a:r>
            <a:r>
              <a:rPr b="0" lang="en-US" sz="3600" spc="-1" strike="noStrike">
                <a:solidFill>
                  <a:srgbClr val="00ffcc"/>
                </a:solidFill>
                <a:latin typeface="굴림"/>
              </a:rPr>
              <a:t>2004</a:t>
            </a:r>
            <a:r>
              <a:rPr b="0" lang="zh-CN" sz="3600" spc="-1" strike="noStrike">
                <a:solidFill>
                  <a:srgbClr val="00ffcc"/>
                </a:solidFill>
                <a:latin typeface="굴림"/>
              </a:rPr>
              <a:t>년도 추진 과제</a:t>
            </a:r>
            <a:endParaRPr b="0" lang="en-US" sz="36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조사관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Investigator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중 양성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전문화된 교육 기관 활용 검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아웃 소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FDA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또는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WHO GMP Training Center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에 단기 연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조사관 인증을 위한 교육 프로그램 및 평가방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개발 연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해설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개정판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사례집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Q &amp; A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형별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Validation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안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마련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내용고형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45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약품등의 허가 및 안전관리체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의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K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정 및 변경 내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K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세부 내용 및 적용 대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K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운영의 전면 재검토 배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향후의 정책 추진 방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련 법규 및 참고사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FDA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C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리 방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45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□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관련 법규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약사법 제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31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조제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항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의약품등의 생산관리의무 및 보고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약사법 시행규칙제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제조업자의 준수사항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약사법시행규칙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[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별표 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4]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의약품제조 및 품질관리기준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, [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별표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의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4](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생물학적제제등 제조및 품질관리기준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시설기준령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대통령령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시설기준령 시행규칙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굴림"/>
              </a:rPr>
              <a:t>보건복지부령</a:t>
            </a: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45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참고자료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(’03. 5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월말 현재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K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적합 업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224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B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적합 업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94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인삼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적합 업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한국인삼공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CGMP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적합 업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459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미국 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FDA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의 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GMP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관리 방침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세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CGMP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리 방침 수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Product- based Inspection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ystem – based Inspection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으로 전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Q. F. M. P. P. L. System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유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매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주기의 실사 불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Full Inspection 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ystem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Abb. Inspection 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ystem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9966"/>
                </a:solidFill>
                <a:latin typeface="굴림"/>
              </a:rPr>
              <a:t>※</a:t>
            </a:r>
            <a:r>
              <a:rPr b="0" lang="en-US" sz="2800" spc="-1" strike="noStrike">
                <a:solidFill>
                  <a:srgbClr val="ff9966"/>
                </a:solidFill>
                <a:latin typeface="굴림"/>
              </a:rPr>
              <a:t>Out of Control : 1</a:t>
            </a:r>
            <a:r>
              <a:rPr b="0" lang="zh-CN" sz="2800" spc="-1" strike="noStrike">
                <a:solidFill>
                  <a:srgbClr val="ff9966"/>
                </a:solidFill>
                <a:latin typeface="굴림"/>
              </a:rPr>
              <a:t>개의 </a:t>
            </a:r>
            <a:r>
              <a:rPr b="0" lang="en-US" sz="2800" spc="-1" strike="noStrike">
                <a:solidFill>
                  <a:srgbClr val="ff9966"/>
                </a:solidFill>
                <a:latin typeface="굴림"/>
              </a:rPr>
              <a:t>system</a:t>
            </a:r>
            <a:r>
              <a:rPr b="0" lang="zh-CN" sz="2800" spc="-1" strike="noStrike">
                <a:solidFill>
                  <a:srgbClr val="ff9966"/>
                </a:solidFill>
                <a:latin typeface="굴림"/>
              </a:rPr>
              <a:t>이라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굴림"/>
              </a:rPr>
              <a:t>                            </a:t>
            </a:r>
            <a:r>
              <a:rPr b="0" lang="zh-CN" sz="2800" spc="-1" strike="noStrike">
                <a:solidFill>
                  <a:srgbClr val="ff9966"/>
                </a:solidFill>
                <a:latin typeface="굴림"/>
              </a:rPr>
              <a:t>보증이 어려울 경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38560" y="98280"/>
            <a:ext cx="4924080" cy="39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의약품등의 허가 및 안전관리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338120" y="1228680"/>
            <a:ext cx="1328760" cy="20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허가심사제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328920" y="1216080"/>
            <a:ext cx="1328760" cy="20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제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수입관리제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5173560" y="1216080"/>
            <a:ext cx="1328760" cy="20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유통관리제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894360" y="1216080"/>
            <a:ext cx="1328760" cy="20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평가관리제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395360" y="1901880"/>
            <a:ext cx="1328760" cy="23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제조수입허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신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344760" y="1901880"/>
            <a:ext cx="1328760" cy="26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기준및시험방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6926400" y="1854360"/>
            <a:ext cx="1328760" cy="20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신약등재심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926400" y="2155680"/>
            <a:ext cx="1328760" cy="20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의약품재평가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557520" y="2620800"/>
            <a:ext cx="1320840" cy="960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제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수입판매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업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허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GMP, GIP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화장품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MP,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의료용구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MP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5310360" y="2765520"/>
            <a:ext cx="1249200" cy="70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약국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판매업의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허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시설기준령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인적요건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4267080"/>
            <a:ext cx="390600" cy="28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47840" y="5105520"/>
            <a:ext cx="1376280" cy="24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희귀의약품등 지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125800" y="4435560"/>
            <a:ext cx="828360" cy="56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임상시험의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계획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신청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GCP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110040" y="4211640"/>
            <a:ext cx="1719000" cy="1085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원료의약품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DMF, BGMP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제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수입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품질관리규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GMP,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화장품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MP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의료용구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MP 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203720"/>
            <a:ext cx="390240" cy="28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S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5645160" y="4876920"/>
            <a:ext cx="985680" cy="4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취급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광고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관한 규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6985080" y="4218120"/>
            <a:ext cx="1149120" cy="61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부작용의 수집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평가 보고의무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(PMS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5530680"/>
            <a:ext cx="390600" cy="26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검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2563920" y="5985000"/>
            <a:ext cx="1563480" cy="31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현장 검사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수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시험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081320" y="5985000"/>
            <a:ext cx="709920" cy="31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지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4773600" y="5985000"/>
            <a:ext cx="1563840" cy="31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행정처분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명령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786120" y="6346800"/>
            <a:ext cx="1157400" cy="28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약사감시 제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41120" y="1104840"/>
            <a:ext cx="1094040" cy="153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품질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안전성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유효성에 관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규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41120" y="2625840"/>
            <a:ext cx="109404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취급업자의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자격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요건 등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관한규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41120" y="3755880"/>
            <a:ext cx="1094040" cy="140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취급에 관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규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41120" y="5413320"/>
            <a:ext cx="1094040" cy="10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지도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감독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관한 규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236600" y="784080"/>
            <a:ext cx="1800" cy="546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65240" y="2514600"/>
            <a:ext cx="8597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15920" y="3774960"/>
            <a:ext cx="8908920" cy="1800"/>
          </a:xfrm>
          <a:prstGeom prst="line">
            <a:avLst/>
          </a:prstGeom>
          <a:ln w="79200">
            <a:solidFill>
              <a:srgbClr val="66ff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5416560"/>
            <a:ext cx="85201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24360" y="783720"/>
            <a:ext cx="1440" cy="44514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33960" y="793440"/>
            <a:ext cx="0" cy="4624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819840" y="958320"/>
            <a:ext cx="1800" cy="44514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65160" y="3822480"/>
            <a:ext cx="1800" cy="1282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65240" y="3852720"/>
            <a:ext cx="1800" cy="733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523880" y="3852360"/>
            <a:ext cx="1800" cy="39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65240" y="4586400"/>
            <a:ext cx="14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268800" y="1994040"/>
            <a:ext cx="79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76640" y="3801600"/>
            <a:ext cx="0" cy="384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929120" y="3835440"/>
            <a:ext cx="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614840" y="5662440"/>
            <a:ext cx="314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54760" y="380952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310360" y="3809520"/>
            <a:ext cx="1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083200" y="5105520"/>
            <a:ext cx="56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543800" y="3809520"/>
            <a:ext cx="1440" cy="39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188040" y="3809880"/>
            <a:ext cx="1800" cy="40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000160"/>
            <a:ext cx="1440" cy="171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265560" y="2003400"/>
            <a:ext cx="1440" cy="171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2365200"/>
            <a:ext cx="0" cy="1292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211400" y="708120"/>
            <a:ext cx="186048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개발단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3024360" y="708120"/>
            <a:ext cx="210960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제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수입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단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708120"/>
            <a:ext cx="178416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유통단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6831000" y="708120"/>
            <a:ext cx="180180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사용단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57120" y="1104840"/>
            <a:ext cx="8442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347840" y="2216160"/>
            <a:ext cx="1374840" cy="23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임상시험용허가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" y="708120"/>
            <a:ext cx="1094040" cy="39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규제내용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3338640" y="2212920"/>
            <a:ext cx="132876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국가검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268800" y="2336760"/>
            <a:ext cx="79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2719440" y="1987560"/>
            <a:ext cx="79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2703600" y="2355840"/>
            <a:ext cx="79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38960" y="4216320"/>
            <a:ext cx="676440" cy="42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D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GUP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532720" y="3809520"/>
            <a:ext cx="1800" cy="39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967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 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GMP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의 정의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질이 보장된 우수한 의약품을 제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하기 위하여   제조소의 구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·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설비를 비롯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Hard War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약품의 원료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·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재 등의 구입으로부터 제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·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포장등 모든 공정관리와 출하에 이르기까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조 및 품질관리 전반에 걸쳐 지켜야 할 사항을 규정한 기준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Soft War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GMP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의 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3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대지표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인위적인 과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혼동 또는 잘못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최소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약품의 오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생물 오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이물질 오염 또는 교차오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및 품질저하의 방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도의 품질보증체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System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확립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굴림"/>
                <a:ea typeface=""/>
              </a:rPr>
              <a:t>※ </a:t>
            </a:r>
            <a:r>
              <a:rPr b="1" lang="en-US" sz="2800" spc="-1" strike="noStrike">
                <a:solidFill>
                  <a:srgbClr val="ff9966"/>
                </a:solidFill>
                <a:latin typeface="굴림"/>
                <a:ea typeface=""/>
              </a:rPr>
              <a:t>GMP</a:t>
            </a:r>
            <a:r>
              <a:rPr b="1" lang="zh-CN" sz="2800" spc="-1" strike="noStrike">
                <a:solidFill>
                  <a:srgbClr val="ff9966"/>
                </a:solidFill>
                <a:latin typeface="굴림"/>
                <a:ea typeface=""/>
              </a:rPr>
              <a:t>실천은 </a:t>
            </a:r>
            <a:r>
              <a:rPr b="1" lang="en-US" sz="2800" spc="-1" strike="noStrike">
                <a:solidFill>
                  <a:srgbClr val="ff9966"/>
                </a:solidFill>
                <a:latin typeface="굴림"/>
                <a:ea typeface=""/>
              </a:rPr>
              <a:t>Muscle Memory (not Brain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31800"/>
            <a:ext cx="7543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KGMP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제정 및 변경 내역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69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2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총회에서 가맹국의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실시 권유   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74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앙약사심의위원회에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K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연구위원회 설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굴림"/>
              </a:rPr>
              <a:t>1977 : </a:t>
            </a:r>
            <a:r>
              <a:rPr b="0" lang="zh-CN" sz="2400" spc="-1" strike="noStrike">
                <a:solidFill>
                  <a:srgbClr val="ffff99"/>
                </a:solidFill>
                <a:latin typeface="굴림"/>
              </a:rPr>
              <a:t>우수의약품제조및품질관리기준</a:t>
            </a:r>
            <a:r>
              <a:rPr b="0" lang="en-US" sz="2400" spc="-1" strike="noStrike">
                <a:solidFill>
                  <a:srgbClr val="ffff99"/>
                </a:solidFill>
                <a:latin typeface="굴림"/>
              </a:rPr>
              <a:t>(KGMP) </a:t>
            </a:r>
            <a:r>
              <a:rPr b="0" lang="zh-CN" sz="2400" spc="-1" strike="noStrike">
                <a:solidFill>
                  <a:srgbClr val="ffff99"/>
                </a:solidFill>
                <a:latin typeface="굴림"/>
              </a:rPr>
              <a:t>제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굴림"/>
              </a:rPr>
              <a:t>              </a:t>
            </a:r>
            <a:r>
              <a:rPr b="0" lang="en-US" sz="2400" spc="-1" strike="noStrike">
                <a:solidFill>
                  <a:srgbClr val="ffff99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99"/>
                </a:solidFill>
                <a:latin typeface="굴림"/>
              </a:rPr>
              <a:t>보건사회부예규 제</a:t>
            </a:r>
            <a:r>
              <a:rPr b="0" lang="en-US" sz="2400" spc="-1" strike="noStrike">
                <a:solidFill>
                  <a:srgbClr val="ffff99"/>
                </a:solidFill>
                <a:latin typeface="굴림"/>
              </a:rPr>
              <a:t>373</a:t>
            </a:r>
            <a:r>
              <a:rPr b="0" lang="zh-CN" sz="2400" spc="-1" strike="noStrike">
                <a:solidFill>
                  <a:srgbClr val="ffff99"/>
                </a:solidFill>
                <a:latin typeface="굴림"/>
              </a:rPr>
              <a:t>호</a:t>
            </a:r>
            <a:r>
              <a:rPr b="0" lang="en-US" sz="2400" spc="-1" strike="noStrike">
                <a:solidFill>
                  <a:srgbClr val="ffff9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82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『의약품제조업소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K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실시상황평가표』작성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84 : K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적격업소 평가절차 신설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K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위원회 설치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85 : KGMP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적격업소 평가 및 인증 실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92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구조 및 설비부문을 시설기준령으로 이관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개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1994. 7. 18 : 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약사법시행규칙 제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22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조 개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제조업 및 품목의 허가요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- [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별표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4] “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의약품제조 및 품질관리기준”  신설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ffcc"/>
                </a:solidFill>
                <a:latin typeface="굴림"/>
              </a:rPr>
              <a:t>※ </a:t>
            </a:r>
            <a:r>
              <a:rPr b="0" lang="en-US" sz="2000" spc="-1" strike="noStrike">
                <a:solidFill>
                  <a:srgbClr val="00ffcc"/>
                </a:solidFill>
                <a:latin typeface="굴림"/>
              </a:rPr>
              <a:t>KGMP </a:t>
            </a:r>
            <a:r>
              <a:rPr b="0" lang="zh-CN" sz="2000" spc="-1" strike="noStrike">
                <a:solidFill>
                  <a:srgbClr val="00ffcc"/>
                </a:solidFill>
                <a:latin typeface="굴림"/>
              </a:rPr>
              <a:t>적격업소가 아니면 의약품의 제조행위를 금지하는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굴림"/>
              </a:rPr>
              <a:t>          </a:t>
            </a:r>
            <a:r>
              <a:rPr b="0" lang="en-US" sz="2000" spc="-1" strike="noStrike">
                <a:solidFill>
                  <a:srgbClr val="00ffcc"/>
                </a:solidFill>
                <a:latin typeface="굴림"/>
              </a:rPr>
              <a:t>KGMP</a:t>
            </a:r>
            <a:r>
              <a:rPr b="0" lang="zh-CN" sz="2000" spc="-1" strike="noStrike">
                <a:solidFill>
                  <a:srgbClr val="00ffcc"/>
                </a:solidFill>
                <a:latin typeface="굴림"/>
              </a:rPr>
              <a:t>제도 전면 의무화  실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97 : K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형 평가 절차 간소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대단위 제형별 지정 제도 도입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2000. 3.  3 : KGMP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기준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허가조건 → 제조업자 준수사항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원료의약품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기준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식약청고시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) → [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별표</a:t>
            </a:r>
            <a:r>
              <a:rPr b="0" lang="en-US" sz="2400" spc="-1" strike="noStrike">
                <a:solidFill>
                  <a:srgbClr val="00ffcc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ffcc"/>
                </a:solidFill>
                <a:latin typeface="굴림"/>
              </a:rPr>
              <a:t>］통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000. 6. 16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생물학적제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준 신설［별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의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］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002. 1. 12 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목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 방식 도입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생물학적제제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23160" y="228600"/>
            <a:ext cx="10666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품표준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조관리기준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조위생관리기준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질관리기준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설 및 환경관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관관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정관리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질관리책임자 의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불만처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평가및 판정 절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도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조사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14040" y="762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KGMP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의 세부 내용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45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KGMP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의 적용대상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완제의약품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형별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내용고형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사제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·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점안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내용액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용액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연고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타제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경고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흡입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패취제 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특수제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생물학적제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호르몬제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페니실린제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원료의약품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조방법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합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효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추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타방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의약외품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내용고형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내용액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제외대상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의료용고압가스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방사성의약품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원료의약품중 한약재 및 약리활성이 없는 성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부형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첨가제 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그밖에 인체에 직접 적용하지 아니하는 제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4:05:19Z</dcterms:created>
  <dc:creator>a</dc:creator>
  <dc:description/>
  <dc:language>en-US</dc:language>
  <cp:lastModifiedBy>기선미</cp:lastModifiedBy>
  <dcterms:modified xsi:type="dcterms:W3CDTF">2003-06-09T05:23:39Z</dcterms:modified>
  <cp:revision>47</cp:revision>
  <dc:subject/>
  <dc:title>KFDA의 KGMP관리정책</dc:title>
</cp:coreProperties>
</file>