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25D-7BC1-43BA-880E-A9FB9914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263-8696-4160-8983-330DC036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F04-0A38-4515-9815-AF6F17F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1C0-DA7F-4C14-BF04-093814D4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A0C9-0E63-44C8-8A94-FAC0FB5E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25C4-C365-4FE4-8691-E336ADFC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6C33-E939-446E-8740-8CA6B85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B9D6-D523-40A5-968B-5A1F0D1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AB04-3B30-46EF-AAFA-D8C085F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383-4598-4140-9E65-E90E6127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D1E-C1B4-489F-B00D-57E3B237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D40-6870-456D-AAC2-FBC8DCA3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1C55-5A6E-4F9E-A501-62786C2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D9C-8AD4-4E66-A398-22FD29D5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E325-EFC3-4363-BF6D-26CAA426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0E88-BDA6-45EA-A98B-82C82BA7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27A3-FA00-4A49-8394-5CF9EDD4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770-5913-4338-8B89-3485505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478-8C7A-4E64-833B-E09F2DA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711-F65B-4E48-96B2-63C3C7C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BAA-3629-484A-9BD3-D4F75D4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AEE-5FBF-41FD-8FE8-A15FA25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2E1-88EC-425E-8781-7125013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2D2-5F1E-43E8-8C4F-491CC13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38AF-5F54-460C-9007-918926A4F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E38-C88E-4B0C-BDFD-F6513D705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굴림"/>
              </a:rPr>
              <a:t>효율적인 품질 및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굴림"/>
              </a:rPr>
              <a:t>표시광고 관리 방안</a:t>
            </a:r>
            <a:endParaRPr b="0" lang="en-US" sz="5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4419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2003. 6. 10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3" name="청로고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133720" cy="603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09680" y="4944960"/>
            <a:ext cx="4572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의 약 품 안 전 국 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의 약 품 관 리 과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검사결과에 부적합 판정이 수거과정에 잘못이 있었거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검사과정에 오류나 흠이 있는 등 적정을 기하지 못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점이 인정될 경우에는 재검사 조치토록 할 수 있음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허가취소처분에 해당될 경우에는 당해 제조번호 제품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수거폐기하고 기타 제조번호 제품에 대하여는 자진회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후 시도보건환경연구원에 시험검사후 적합품만 유통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토록 검사 명령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52560" y="456120"/>
            <a:ext cx="3648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표시기재 관리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2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굴림"/>
              </a:rPr>
              <a:t>□ </a:t>
            </a:r>
            <a:r>
              <a:rPr b="1" lang="zh-CN" sz="3000" spc="-1" strike="noStrike">
                <a:solidFill>
                  <a:srgbClr val="ffffff"/>
                </a:solidFill>
                <a:latin typeface="굴림"/>
              </a:rPr>
              <a:t>목  적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812880" indent="0">
              <a:lnSpc>
                <a:spcPct val="2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소비자에게 올바른 의약품 등의 사용방법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부작용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812880" indent="0">
              <a:lnSpc>
                <a:spcPct val="2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등의 정보를 전달하여 의약품의 유통질서를 확립하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812880" indent="0">
              <a:lnSpc>
                <a:spcPct val="2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오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남용 방지 및 그 사용에 적정을 기하고자 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2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굴림"/>
              </a:rPr>
              <a:t>□ </a:t>
            </a:r>
            <a:r>
              <a:rPr b="1" lang="zh-CN" sz="3000" spc="-1" strike="noStrike">
                <a:solidFill>
                  <a:srgbClr val="ffffff"/>
                </a:solidFill>
                <a:latin typeface="굴림"/>
              </a:rPr>
              <a:t>법적 근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50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내지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54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 시행규칙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7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내지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74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80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5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이 아닌 것은 그 용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포장 또는 첨부문서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학적 효능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과 등이 있는 것으로 오인될 우려가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있는 표시를 하여서는 아니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표시 관련 최근 추진 사항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낱알모음 하여 한 알씩 사용하도록 포장한 경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’00. 9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최소 단위 포장에 제품명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조회사명 기재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보건복지부장관이 정한 바코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’00. 7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식약청장이 지정 고시하는 의약품은 식약청장이 정하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바에 의하여 그 낱알의 모양 또는 색깔이나 문자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숫자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기호 또는 도안등을 이용하여 다른 의약품과 구별될 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0148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있도록 할 것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’00. 6.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시행일은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년 이내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40280"/>
            <a:ext cx="5715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주요 위반 사항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이 아닌 것을 의학적 효능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과 등의 표시사항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년이하의 징역 또는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천만원이하 벌금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허가받은 사항이외의 허위과대사항을 표시함으로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소비자가 오인 또는 현혹될 우려가 있는 표시사항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당해품목판매업무정지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일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안전성 정보처리 변경지시 미이행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당해품목판매업무정지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인체 면역 기능을 촉진하여 체내면역 저하로 인한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타 미생물의 감염등의 부작용을 예방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치료해 줍니다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첨부문서에 “사용기한 또는 유효기한이 경과되었거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변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변패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오염되었거나 손상된 의약품은 약국 개설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및 의약품판매업자에 한하여 바꾸어 준다는 내용과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교환방법”을 기재하지 아니함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복합제의 경우 성분별 효능이나 효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관련 질병 등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나열하여 기재    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규격품 한약재의 경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‘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규격품’ 표시 및 원산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복지부장관이 정하는 바코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880" y="516600"/>
            <a:ext cx="411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광  고  관  리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굴림"/>
              </a:rPr>
              <a:t>□ </a:t>
            </a:r>
            <a:r>
              <a:rPr b="1" lang="zh-CN" sz="3000" spc="-1" strike="noStrike">
                <a:solidFill>
                  <a:srgbClr val="ffffff"/>
                </a:solidFill>
                <a:latin typeface="굴림"/>
              </a:rPr>
              <a:t>목  적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의 오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남용을 조장하거나 허위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과대광고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인한 소비자 피해 사전 방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굴림"/>
              </a:rPr>
              <a:t>□ </a:t>
            </a:r>
            <a:r>
              <a:rPr b="1" lang="zh-CN" sz="3000" spc="-1" strike="noStrike">
                <a:solidFill>
                  <a:srgbClr val="ffffff"/>
                </a:solidFill>
                <a:latin typeface="굴림"/>
              </a:rPr>
              <a:t>법적근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3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시행규칙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79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시행규칙별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대중광고관리기준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식약청고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440280"/>
            <a:ext cx="5486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주요 위반 사항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사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치과의사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한의사 또는 기타의 자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관련 학회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능이나 성능을 지정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공인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추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지도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사용하고 있다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광고함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판매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또는 광고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전문의약품을 광고매체 또는 수단을 이용한 대중광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판매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간지 등에 기획기사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피임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형태로 작성된 내용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해당 의약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조업체명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능효과 등이 그대로 실려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281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실질적 광고효과 발생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식약청장이 정하는 사전심의를 받지 않을 경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판매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또는 광고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을 현상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사은품등 경품류를 제공하는 광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아동을 대상으로 하는 방송프로그램 또는 잡지등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인쇄물에 의하여 소아용의약품에 대한 광고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능이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성능을 광고 함에 있어 사용전후의 비교로 그 사용결과 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를 표시 또는 암시하는 광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판매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또는 광고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옥외광고를 하는 경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품명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조업소명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능효과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이외의 사항을 광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효능효과를 광고함에 있어 “이를 확실히 보증한다”라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내용 등의 광고 또는 “최고”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“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최강” 등의 절대적 표현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사용한 광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대중광고가 금지된 품목을 특정질병 등으로 나타내어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암시하는 광고 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판매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광고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58440" y="630720"/>
            <a:ext cx="6280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의약품등 사후관리 제도</a:t>
            </a:r>
            <a:endParaRPr b="0" lang="en-US" sz="45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68400" y="2055960"/>
            <a:ext cx="49132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약사감시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품질관리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표시기재 관리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광고 관리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491480"/>
            <a:ext cx="8076960" cy="26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년도 품질 및 표시광고 </a:t>
            </a:r>
            <a:br>
              <a:rPr sz="4500"/>
            </a:b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위반 적발 실적</a:t>
            </a:r>
            <a:endParaRPr b="0" lang="en-US" sz="45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약품등 광고 및 표시기재 관련 행정처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613880" y="3809880"/>
            <a:ext cx="28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약품등 품질 부적합 현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4419720"/>
          <a:ext cx="7010280" cy="1638360"/>
        </p:xfrm>
        <a:graphic>
          <a:graphicData uri="http://schemas.openxmlformats.org/drawingml/2006/table">
            <a:tbl>
              <a:tblPr/>
              <a:tblGrid>
                <a:gridCol w="1065240"/>
                <a:gridCol w="976320"/>
                <a:gridCol w="1697040"/>
                <a:gridCol w="1366560"/>
                <a:gridCol w="1905120"/>
              </a:tblGrid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수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적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,2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,0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함량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용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붕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무균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pH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부적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,3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,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219320" y="1397160"/>
          <a:ext cx="6858000" cy="2041200"/>
        </p:xfrm>
        <a:graphic>
          <a:graphicData uri="http://schemas.openxmlformats.org/drawingml/2006/table">
            <a:tbl>
              <a:tblPr/>
              <a:tblGrid>
                <a:gridCol w="1682640"/>
                <a:gridCol w="1212840"/>
                <a:gridCol w="1447920"/>
                <a:gridCol w="1295280"/>
                <a:gridCol w="1219320"/>
              </a:tblGrid>
              <a:tr h="66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광고위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표시기재 위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점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위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점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위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실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,29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11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품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0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품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당  부  사  항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568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의약품 품질에 대한 국민의 불신감 팽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생동성 입증 품목 등에 대한 용출 패턴 관리 만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국제 경쟁력 확보 시급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저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값싼 원료의약품 사용 금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허가 기준 철저 준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DMF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대상 품목 확대 방침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GMP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평가 방식 전환에 따른 사전 대비 철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OOS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및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Change Control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관리 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90560" y="288000"/>
            <a:ext cx="41907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품  질  관  리</a:t>
            </a:r>
            <a:endParaRPr b="0" lang="en-US" sz="45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굴림"/>
              </a:rPr>
              <a:t>□ </a:t>
            </a:r>
            <a:r>
              <a:rPr b="1" lang="zh-CN" sz="3000" spc="-1" strike="noStrike">
                <a:solidFill>
                  <a:srgbClr val="ffffff"/>
                </a:solidFill>
                <a:latin typeface="굴림"/>
              </a:rPr>
              <a:t>목  적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시중에 유통중인 품질 불량 의약품을 조기에 색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하여 국민보건의 위해 요인 차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법적근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4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4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내지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8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시행규칙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5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법시행규칙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6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내지 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70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조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업종별 품질관리 의무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1676520"/>
          <a:ext cx="7848720" cy="4572000"/>
        </p:xfrm>
        <a:graphic>
          <a:graphicData uri="http://schemas.openxmlformats.org/drawingml/2006/table">
            <a:tbl>
              <a:tblPr/>
              <a:tblGrid>
                <a:gridCol w="1981440"/>
                <a:gridCol w="990360"/>
                <a:gridCol w="1067040"/>
                <a:gridCol w="990360"/>
                <a:gridCol w="1067040"/>
                <a:gridCol w="175248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    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국 내 생 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수   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  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검사기관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 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 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 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 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원료의약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업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한약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식약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지정기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완제의약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보건환경연구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의약외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보건환경연구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화장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업자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수입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의료용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조업자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수입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국가검정의약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식약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사전 품질 관리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국가검정의약품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수입의약품 최초 검정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수입한약재 품질검사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1" lang="zh-CN" sz="3500" spc="-1" strike="noStrike">
                <a:solidFill>
                  <a:srgbClr val="ffffff"/>
                </a:solidFill>
                <a:latin typeface="굴림"/>
              </a:rPr>
              <a:t>사후 품질 관리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시중 유통 의약품 수거검사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88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2003</a:t>
            </a: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년도 품질관리 기본 방침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기획검사 중심의 품질 관리 방식 추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 다빈도 부적합 항목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성분 선정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문제 업소에 대한 집중 모니터링 제도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최근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년간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GMP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위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 부적합 판정 업소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중앙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약사감시단 현장 수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※ </a:t>
            </a:r>
            <a:r>
              <a:rPr b="0" lang="zh-CN" sz="2500" spc="-1" strike="noStrike">
                <a:solidFill>
                  <a:srgbClr val="ffcc00"/>
                </a:solidFill>
                <a:latin typeface="굴림"/>
              </a:rPr>
              <a:t>불량 제품 생산</a:t>
            </a: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cc00"/>
                </a:solidFill>
                <a:latin typeface="굴림"/>
              </a:rPr>
              <a:t>수입</a:t>
            </a: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cc00"/>
                </a:solidFill>
                <a:latin typeface="굴림"/>
              </a:rPr>
              <a:t>업소는 철저한 원인 분석 및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0" lang="zh-CN" sz="2500" spc="-1" strike="noStrike">
                <a:solidFill>
                  <a:srgbClr val="ffcc00"/>
                </a:solidFill>
                <a:latin typeface="굴림"/>
              </a:rPr>
              <a:t>엄중조치</a:t>
            </a: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cc00"/>
                </a:solidFill>
                <a:latin typeface="굴림"/>
              </a:rPr>
              <a:t>특별 관리 업소로 선정</a:t>
            </a:r>
            <a:r>
              <a:rPr b="0" lang="en-US" sz="2500" spc="-1" strike="noStrike">
                <a:solidFill>
                  <a:srgbClr val="ffcc00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O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비교용출시험 시범 검사제 도입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생동성 입증 품목에 대한 약효 동등성 확보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16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기획검사 대상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(1,000</a:t>
            </a: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품목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본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식물성추출물제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부신피질호르몬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기능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회용주사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서울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내용고형제 비교용출시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부산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앰플주사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염모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경인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원료의약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일반화장품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대구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한약재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대전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원료의약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환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광주청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연질캅셀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과립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자율검사 대상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(1,300</a:t>
            </a: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품목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최근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년간 품질 부적합 판정된 업체 생산 제품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각 지방청별 약사감시와 연계 수거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관리 취약업체는 생산한 제품 및 사용 원료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중앙약사감시단의 현장 수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 의심 제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사회적으로 문제 야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언론 보도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경영 불안 요인 등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업소 및 제품류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 집중 모니터링 대상 업소 제품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본청 주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문제 품목과 동일 제형으로서 생산된 전 제품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7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수거검사 및 조치요령</a:t>
            </a:r>
            <a:endParaRPr b="0" lang="en-US" sz="40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시료는 예산의 범위내에서 유상수거 원칙이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필요시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무상 수거도 가능함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검사기준은 당해 제품의 제조년월일 현재 유효한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허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또는 신고된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기준및시험방법에 따라 실시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품질검사 결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제조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월 이상 또는 품목허가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굴림"/>
              </a:rPr>
              <a:t>취소 요건에 해당될 경우는 봉함봉인 조치함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5:37:20Z</dcterms:created>
  <dc:creator>인숙</dc:creator>
  <dc:description/>
  <dc:language>en-US</dc:language>
  <cp:lastModifiedBy>기선미</cp:lastModifiedBy>
  <dcterms:modified xsi:type="dcterms:W3CDTF">2003-06-09T05:24:18Z</dcterms:modified>
  <cp:revision>120</cp:revision>
  <dc:subject/>
  <dc:title>가교시험에 대한  식품의약품안전청의 심사기준</dc:title>
</cp:coreProperties>
</file>