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2C3-51E0-4E5F-88A4-0D0A2950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500-4071-43FC-89AC-4A30B6F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3A1-9F2A-46DF-B3EE-7493DA5A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126-5747-4BE0-BFDE-AFABE1A8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D17-3D2C-4B06-90FC-76E5CCC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A37-8726-46CD-8781-50700E1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EE4-D690-4F0D-BC5E-94C7F4A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843-3755-456B-8E73-1DA046E3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DC8-F68A-490A-9473-4138B06F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F2F-A9B5-4BD1-8E3B-9F7A983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9E1-B693-47C2-A82F-ACB8A70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E3F-599F-4F20-8ABE-C822972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983106-B4B5-46BB-A111-C50CFC96D7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14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4160" y="27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1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038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876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6040" y="1938960"/>
            <a:ext cx="306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 통보확인 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1280" y="31269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7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899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4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9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63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132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73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2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838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638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815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3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4928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1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65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57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3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88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472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7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1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43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1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77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476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5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03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16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2400" y="31813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77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213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5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95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94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30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8000" y="42703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844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13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5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24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916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70720" y="4052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5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9160" y="4695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30960" y="545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96840" y="547380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9160" y="569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560" y="569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568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5640" y="568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9040" y="2963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46440" y="2979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652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1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2525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6264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24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760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74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43580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760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9040" y="420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4920" y="4221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724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164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442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4372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5080" y="31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7760" y="31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560" y="3099960"/>
            <a:ext cx="3063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험자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37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0" y="297504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12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3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572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73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124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57080" y="2757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72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305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0760" y="35560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220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28440" y="4200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59680" y="4421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4480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608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3688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29520" y="45651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38640" y="4184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4520" y="4200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36120" y="4421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2124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32160" y="4406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1332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3400" y="3556080"/>
            <a:ext cx="544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864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7676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43000" y="4200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7496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5936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7064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144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4676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85560" y="1545120"/>
            <a:ext cx="11581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348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09360" y="4200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168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2608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3736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816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348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0840" y="4184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6080" y="4200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904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9280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4360" y="4406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488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020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376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0800" y="4159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61240" y="437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4636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57280" y="436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3844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3705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57360" y="3720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1600" y="394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9880" y="39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7280" y="392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38440" y="39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63760" y="533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40800" y="53467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1240" y="556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46360" y="556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57280" y="555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38440" y="555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63760" y="4892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57360" y="490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61600" y="512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1320" y="512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57280" y="511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38440" y="511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33400" y="340056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9840" y="5334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5720" y="53499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8040" y="557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25680" y="557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1720" y="555624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17760" y="555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33400" y="459108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836440"/>
            <a:ext cx="3063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 분리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1320" y="3853800"/>
            <a:ext cx="42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심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9880" y="54907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6920" y="5751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418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06720" y="41972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9720" y="441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74840" y="4417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86120" y="440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692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560" y="4408560"/>
            <a:ext cx="4280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명세서 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52880" y="355284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35720" y="4516200"/>
            <a:ext cx="67140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 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 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 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76600" y="46119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29440" y="4573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70320" y="355284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02120" y="4181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67640" y="4197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00320" y="4417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4720" y="4417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96000" y="440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768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529520"/>
            <a:ext cx="30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447920"/>
            <a:ext cx="364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4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75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21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7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78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14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4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8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45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6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51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8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62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6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372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3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35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372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86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4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6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512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433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2424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2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1396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87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68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9940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4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89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73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762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86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89440" y="20170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162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080" y="2755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140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88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97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829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057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24200" y="31312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81920" y="3131280"/>
            <a:ext cx="428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확인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31:07Z</cp:lastPrinted>
  <dcterms:modified xsi:type="dcterms:W3CDTF">2002-07-10T09:29:24Z</dcterms:modified>
  <cp:revision>63</cp:revision>
  <dc:subject/>
  <dc:title>슬라이드 제목 없음</dc:title>
</cp:coreProperties>
</file>