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A60-69C4-4BF5-A813-F648F455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0FC-ED72-45A7-A91E-F39791E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D75-DBDC-4108-A3B5-94F35018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FAE-E056-470A-B8EF-DCD62F20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A5A-1486-4CA3-B410-92C1999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9DC-69EC-4C4C-B3C7-E5099533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7E1-2E63-4511-B0E9-2A87CAA9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860-A21F-4D7C-8BFB-F20A234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122-E397-449C-9B1B-4F1FB70B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205-8EE1-46C9-8CA2-0323EF2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2B8-FC71-4565-9429-687AEB5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953-D8A3-4577-BCB9-052AAC30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53C384-A01C-4B90-BE0B-B91FB14740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0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76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8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92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892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9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7560" y="1447920"/>
            <a:ext cx="733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740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092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88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092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416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1609560"/>
            <a:ext cx="3063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심사결과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016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476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988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080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404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8788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3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2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2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23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864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7808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8080" y="266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556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068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289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484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396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28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0352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2662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128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24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64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6856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972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2596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0480" y="494352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8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940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39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308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3641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352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86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3200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9640" y="321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332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4040" y="3436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3416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5400" y="34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3480" y="364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3760" y="38577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67800" y="4373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4400" y="428904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8328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76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9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1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92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50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4520" y="5802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3095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19960" y="4087440"/>
            <a:ext cx="4280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65240" y="1964160"/>
            <a:ext cx="9147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79680" y="4003200"/>
            <a:ext cx="6714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7360" y="1447920"/>
            <a:ext cx="517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7360" y="2133720"/>
            <a:ext cx="18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024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22760" y="2371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98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202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53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16640" y="2593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74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22760" y="193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856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2096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16640" y="215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74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2456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1672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24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716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1808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59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056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715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02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82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992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80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924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4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69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1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6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9736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8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1328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5288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148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7772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089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940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0536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61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7212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7960" y="3284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8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0432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194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2400" y="3805920"/>
            <a:ext cx="7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16680" y="2327400"/>
            <a:ext cx="428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6-05-17T01:19:09Z</dcterms:modified>
  <cp:revision>227</cp:revision>
  <dc:subject/>
  <dc:title>슬라이드 제목 없음</dc:title>
</cp:coreProperties>
</file>