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7360" y="692280"/>
            <a:ext cx="8445600" cy="570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757680" y="803160"/>
            <a:ext cx="19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CH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20880" y="1758960"/>
            <a:ext cx="5205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980640" y="1770120"/>
            <a:ext cx="401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3680" y="19908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98440" y="1990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18080" y="1973160"/>
            <a:ext cx="30276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360" y="135900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2280" y="18921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280" y="29941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0880" y="19810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5560" y="1987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9480" y="1770120"/>
            <a:ext cx="414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160" y="19908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09720" y="1990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31800" y="19810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2280" y="40608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2280" y="52038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5560" y="1530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8560" y="1530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22880" y="1973520"/>
            <a:ext cx="30276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건기관용 요양급여비용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79600" y="153036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93760" y="1523880"/>
            <a:ext cx="53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7120" y="1758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40080" y="3968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12800" y="397980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32880" y="42004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18000" y="4200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40080" y="41911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14760" y="4197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1200" y="3740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57840" y="3068280"/>
            <a:ext cx="302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49800" y="304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93000" y="3057480"/>
            <a:ext cx="375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42600" y="32781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27360" y="3278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49800" y="32688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14760" y="3282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9800" y="2597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38360" y="260820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42600" y="28288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52840" y="2828880"/>
            <a:ext cx="463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49800" y="28195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241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616200" y="151776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9760" y="3959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22120" y="397044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50840" y="419112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9600" y="4191120"/>
            <a:ext cx="29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49760" y="41814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3000" y="4187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0480" y="2340360"/>
            <a:ext cx="1641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구분 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공상 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증번호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328200" y="4250160"/>
            <a:ext cx="5461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사업장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가입자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세대주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89200" y="1987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2040" y="3733920"/>
            <a:ext cx="47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06960" y="4417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79320" y="4429080"/>
            <a:ext cx="35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07680" y="46497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4240" y="4649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06960" y="4640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79840" y="4646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3960" y="4108680"/>
            <a:ext cx="42444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상병분류기호</a:t>
            </a:r>
            <a:r>
              <a:rPr b="1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상병분류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11840" y="39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04000" y="3970440"/>
            <a:ext cx="391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04640" y="419112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90120" y="4191120"/>
            <a:ext cx="29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11840" y="4181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6520" y="4187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4920" y="4207320"/>
            <a:ext cx="115452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물리치료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찰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방문횟수 또는 입원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요양급여일수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약일수포함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467400" y="37274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21600" y="17622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65520" y="173844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75760" y="1533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9560" y="1523880"/>
            <a:ext cx="181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04920" y="3023280"/>
            <a:ext cx="546120" cy="22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기관 기호 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기관 기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97000" y="281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71520" y="283068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88360" y="3051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74920" y="3051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97000" y="304164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70240" y="30481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88080" y="3740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8040" y="25704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10200" y="3973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99120" y="398448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03000" y="42051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50320" y="4205160"/>
            <a:ext cx="29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0200" y="41958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84520" y="4202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79840" y="4862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3720" y="5072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75720" y="5083200"/>
            <a:ext cx="375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05160" y="530388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52840" y="5303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03720" y="5294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76600" y="5300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12240" y="39574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179920" y="393372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28000" y="373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00120" y="5540760"/>
            <a:ext cx="42444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치식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23840" y="176364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7160" y="198432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3720" y="19843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55800" y="197496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22560" y="1523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51120" y="1752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13200" y="1981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5440" y="3968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68320" y="3979800"/>
            <a:ext cx="414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68240" y="42004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53720" y="4200480"/>
            <a:ext cx="29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5440" y="41911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0120" y="4197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66280" y="4328640"/>
            <a:ext cx="10328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재료및약제실구입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 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4760" y="3971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16320" y="3983040"/>
            <a:ext cx="402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420372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32680" y="42037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4760" y="4194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29440" y="42004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57560" y="4486320"/>
            <a:ext cx="7894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재료및약제품목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다태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야간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공휴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76600" y="3743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69280" y="37368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48320" y="216216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7360" y="387360"/>
            <a:ext cx="8445600" cy="593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5120" y="404640"/>
            <a:ext cx="1589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CH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6680" y="73332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8600" y="126684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8600" y="18763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8600" y="262584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8600" y="422604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8520" y="898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20600" y="11271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88280" y="110340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38720" y="1127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11440" y="113832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31880" y="1359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16640" y="1359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38720" y="13492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3400" y="1355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24560" y="9050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0840" y="2468880"/>
            <a:ext cx="3027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09840" y="2762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53400" y="277344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02640" y="299412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87760" y="2994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09840" y="29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74800" y="299556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09840" y="2313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98760" y="232416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03360" y="254484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09840" y="25351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84520" y="2541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676600" y="206172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95440" y="3589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67440" y="3600360"/>
            <a:ext cx="391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96520" y="38210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82720" y="38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95440" y="38116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8680" y="38178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34480" y="2556000"/>
            <a:ext cx="350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50960" y="2322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97400" y="2333520"/>
            <a:ext cx="402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8560" y="25542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3680" y="2554200"/>
            <a:ext cx="29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50960" y="254484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0080" y="25509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65360" y="2836800"/>
            <a:ext cx="5461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최초입원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요양개시일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내원일자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914480" y="2075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8000" y="123012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3584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4720" y="3595680"/>
            <a:ext cx="35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33440" y="381636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816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3807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76440" y="38131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76440" y="33656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84520" y="336060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34240" y="391464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반복조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08400" y="461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00200" y="4621320"/>
            <a:ext cx="339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1200" y="4842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85960" y="4842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08400" y="48322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82720" y="48466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08400" y="416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96960" y="417204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01200" y="439272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08400" y="4383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82720" y="43894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666880" y="390960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94000" y="5513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65640" y="5524560"/>
            <a:ext cx="391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94720" y="57452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81280" y="574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94000" y="57355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5742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01360" y="4403880"/>
            <a:ext cx="40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30560" y="5516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2560" y="5527800"/>
            <a:ext cx="375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31280" y="57484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7840" y="5748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30560" y="57387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75000" y="5745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75000" y="52974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82720" y="5284800"/>
            <a:ext cx="239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19680" y="3591360"/>
            <a:ext cx="30276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처방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19680" y="4630680"/>
            <a:ext cx="302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08280" y="5420160"/>
            <a:ext cx="5461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급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36720" y="5330160"/>
            <a:ext cx="54612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총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일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6320" y="2303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85680" y="2314440"/>
            <a:ext cx="35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8480" y="253512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63880" y="2535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6320" y="25257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60640" y="25322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60640" y="20750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92880" y="266832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379760" y="52722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78520" y="5283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87800" y="5513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81040" y="5524560"/>
            <a:ext cx="352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1320" y="574524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65720" y="574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87800" y="57355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62480" y="5742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15000" y="5497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560" y="5508720"/>
            <a:ext cx="402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17880" y="572940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92560" y="572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15000" y="57196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89680" y="5726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89920" y="895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12000" y="112392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79680" y="110016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89920" y="2060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12000" y="228924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79680" y="226548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7080" y="20764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19160" y="23050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86840" y="228132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93840" y="2071800"/>
            <a:ext cx="680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48040" y="2728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25440" y="273528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45520" y="29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30640" y="29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41920" y="2941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2720" y="2941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48040" y="2281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4164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46240" y="2517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97880" y="25178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41920" y="2503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272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29320" y="3792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6000" y="38084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26440" y="4029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11560" y="4029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722840" y="4014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4014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29320" y="3344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22560" y="3360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6440" y="3581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69080" y="35812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22840" y="356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03640" y="356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6080" y="4506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120" y="452268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3560" y="4743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08680" y="474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19600" y="4729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00760" y="472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27640" y="46684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목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1280" y="3116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2200" y="4237200"/>
            <a:ext cx="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41920" y="4932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44880" y="49482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9400" y="5168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4520" y="5168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35800" y="5154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16600" y="5154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41920" y="4487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35520" y="4503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39400" y="4724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36680" y="472428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35800" y="4710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471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95720" y="4341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04000" y="4344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43720" y="5589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09240" y="5605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40840" y="5826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25960" y="5826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7240" y="5811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18040" y="5811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16600" y="536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98480" y="55292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91360" y="5589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56520" y="5605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89200" y="5826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73960" y="5826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84880" y="5811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66040" y="5811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26400" y="5589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92280" y="56055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23520" y="5826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09000" y="5826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19920" y="5811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01080" y="5811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561440" y="5589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7320" y="560556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58560" y="5826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43680" y="5826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54960" y="5811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35760" y="5811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83520" y="5589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49040" y="5605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81720" y="5826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66120" y="5826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177040" y="5811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458200" y="5811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32440" y="54435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564240" y="543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99280" y="543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08760" y="543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456760" y="543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10360" y="49240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8160" y="4067280"/>
            <a:ext cx="54972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총투여일수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일 투여량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92040" y="5042520"/>
            <a:ext cx="42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013360" y="2070000"/>
            <a:ext cx="0" cy="20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24400" y="28396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37000" y="37843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7080" y="907920"/>
            <a:ext cx="680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15080" y="2300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7080" y="2311560"/>
            <a:ext cx="369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7880" y="25322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93000" y="2532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15080" y="252252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89760" y="252900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00920" y="20779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44000" y="240336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7360" y="260280"/>
            <a:ext cx="8445600" cy="633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5120" y="330120"/>
            <a:ext cx="1589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CH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6680" y="55872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8600" y="13953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8600" y="200484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8600" y="27543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8600" y="43545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06440" y="1027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28880" y="12556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96200" y="123192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01760" y="102708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02440" y="26640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529240" y="1262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22120" y="127800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26720" y="149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811840" y="1498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22760" y="1484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96000" y="148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9240" y="102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94120" y="2538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71160" y="255420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91600" y="2774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76720" y="277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88000" y="2760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068800" y="276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4120" y="2100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88080" y="2116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84400" y="2336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62680" y="2336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88000" y="2322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68800" y="232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016600" y="1029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73480" y="29829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03840" y="3360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69000" y="3376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01680" y="3597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86440" y="359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97360" y="3583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78520" y="3583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347920" y="177336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68560" y="2824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45240" y="2840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66040" y="3060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47920" y="3071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62080" y="304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43240" y="304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68560" y="2386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14280" y="2401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85480" y="2622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316240" y="2622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2080" y="260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43240" y="260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43240" y="32464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55720" y="26348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55720" y="45255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79720" y="3633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54960" y="36496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77560" y="3870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62320" y="3870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73240" y="3855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54400" y="3855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40000" y="345600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40120" y="345600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89200" y="36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64800" y="3662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687400" y="38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971800" y="38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82720" y="38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63880" y="38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351160" y="407484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08160" y="471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85200" y="47354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05640" y="495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387520" y="496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01680" y="4941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74920" y="494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08160" y="4281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54240" y="429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24720" y="4518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97880" y="451800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01680" y="4503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74920" y="450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378160" y="516096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27240" y="5361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02120" y="5376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25440" y="5597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09840" y="559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20760" y="5583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01920" y="558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74880" y="53611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50840" y="53769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73080" y="5597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57480" y="559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68760" y="5583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560" y="558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78160" y="524664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44880" y="52466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63720" y="558324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78400" y="5362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5440" y="53784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75520" y="5599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57760" y="561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71920" y="5584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52720" y="5584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78400" y="4924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24120" y="49402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94600" y="5160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7360" y="516096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71920" y="5146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52720" y="5146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848040" y="58039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97120" y="6004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672360" y="6019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94600" y="6240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79720" y="6240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91000" y="6226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71800" y="622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45120" y="6004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20000" y="6019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42960" y="6240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27720" y="6240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38640" y="622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19440" y="622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48040" y="588960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14760" y="58896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39280" y="501120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27840" y="591840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97080" y="1778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19160" y="20066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86840" y="198288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93840" y="177336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94040" y="58273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8T04:58:22Z</dcterms:created>
  <dc:creator>(주)KT인포텍</dc:creator>
  <dc:description/>
  <dc:language>en-US</dc:language>
  <cp:lastModifiedBy>Phillip</cp:lastModifiedBy>
  <cp:lastPrinted>2001-07-04T11:17:29Z</cp:lastPrinted>
  <dcterms:modified xsi:type="dcterms:W3CDTF">2007-05-30T04:48:43Z</dcterms:modified>
  <cp:revision>133</cp:revision>
  <dc:subject/>
  <dc:title>슬라이드 제목 없음</dc:title>
</cp:coreProperties>
</file>