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84963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066-5041-4A95-B559-5E8D906A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1C0-769C-4244-B306-90737D30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77F-DABB-4685-B7A5-4C21AB00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00C-415A-46F8-8C40-701DFFB5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C01-FBA2-433D-B9E3-28B63B48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D75-FED0-41AF-96B4-E4B14B6B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1AF9-32E2-47BA-BCDF-C4D8763C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3D9-BFEA-405C-B1A0-9DE0D83D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98F-B0FD-40CD-9BCF-A8B7F362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6CF-88C3-4C59-83C0-F6A08351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61E-02F1-4388-B7AA-575699AB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8AA-42DE-418A-889C-7C8C18CB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3260DC-5DB6-4CF9-8EC5-90DAF6CA4E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59920" y="72396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A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1612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8092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32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987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64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778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5760" y="1447920"/>
            <a:ext cx="737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764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9220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4656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896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48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8608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89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622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623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6388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768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6100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64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3028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59600" y="1673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33400" y="168912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57080" y="1909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42200" y="1909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53120" y="1895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26360" y="1895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292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45000" y="2249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21320" y="22654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42480" y="248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27600" y="248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38520" y="247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19680" y="247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45000" y="1811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09800" y="1827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42480" y="2048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13200" y="2048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38520" y="2033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19680" y="2033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938760" y="144288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19680" y="26510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68960" y="5724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34480" y="57405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66080" y="5961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1200" y="5961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62480" y="5946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594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68760" y="3340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45440" y="3355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66240" y="3576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1360" y="3576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62280" y="3562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43440" y="356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68760" y="2901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560" y="2917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75600" y="3138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36960" y="3138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2280" y="3124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43440" y="3124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8120" y="374652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105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0656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80720" y="2759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0404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8916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0044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7332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73440" y="4435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50840" y="44514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70920" y="4672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6040" y="4672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66960" y="4657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48120" y="4657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73440" y="399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8600" y="4013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80280" y="423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13560" y="42339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66960" y="4219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48120" y="421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48120" y="487512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87840" y="5548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74960" y="55641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85320" y="578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70440" y="578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81360" y="5770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5770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87840" y="5110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52640" y="5126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94680" y="5346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90880" y="534672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81360" y="5332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2520" y="5332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00480" y="5553000"/>
            <a:ext cx="23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38600" y="5553000"/>
            <a:ext cx="0" cy="1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87800" y="5724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54040" y="57405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04360" y="5961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70400" y="5961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81680" y="5946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62480" y="594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5553000"/>
            <a:ext cx="0" cy="1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16720" y="5734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82240" y="5749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14560" y="5970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99320" y="5970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10240" y="5956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91040" y="595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86360" y="5562720"/>
            <a:ext cx="0" cy="1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64360" y="5724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9880" y="57405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61840" y="5961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09160" y="59612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7880" y="5946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39040" y="594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34000" y="5553000"/>
            <a:ext cx="0" cy="1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791480" y="145080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120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08240" y="29750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2868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1380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2472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0588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3120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9600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812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9940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2472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058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788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5264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763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614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723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456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488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0675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6908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42520" y="27590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6728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352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6260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3584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31200" y="3616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04280" y="3632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8120" y="3852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13800" y="3852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24720" y="383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9796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00840" y="3400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2960" y="1924920"/>
            <a:ext cx="30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신청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12120" y="315720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97920" y="313848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화상자료총매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 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1960" y="1588680"/>
            <a:ext cx="30636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완자료 요청내역서통보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318384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통보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81400" y="424800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통보서신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00560" y="57351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58240" y="47095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품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통보품목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62680" y="47271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화상자료매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91240" y="47080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완자료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57960" y="46908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완자료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81760" y="32223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20160" y="29941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4320" y="257040"/>
            <a:ext cx="30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92280" y="2025000"/>
            <a:ext cx="306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완자료 제출내역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98200" y="200952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dc:language>en-US</dc:language>
  <cp:lastModifiedBy>Administrator</cp:lastModifiedBy>
  <cp:lastPrinted>2001-07-05T00:01:28Z</cp:lastPrinted>
  <dcterms:modified xsi:type="dcterms:W3CDTF">2002-07-10T09:34:27Z</dcterms:modified>
  <cp:revision>67</cp:revision>
  <dc:subject/>
  <dc:title>슬라이드 제목 없음</dc:title>
</cp:coreProperties>
</file>