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358-A79E-4327-917C-2A625A9F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729-9345-437E-94F0-343CCBE3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2DC-6F01-47D0-A5E1-8B2A40AB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59F-CD9B-49F1-A411-DBD75003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997-7141-448F-9782-2FD19A9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4F7-0C20-40C1-8EE2-7379A94F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34D-4589-4728-8463-D4F1AE4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D8F-B378-467A-8660-CB28E5B1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149-BA9B-4398-B871-C3546B4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380-C6FB-46DA-9C55-3A350C0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973-9CFA-4C4A-B647-22B1B28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C36-3A35-48C9-B067-CE9040B4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1A6E97-7EC5-4E55-8239-BB3D3B2869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D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614240"/>
            <a:ext cx="30636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이의신청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재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정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72320" y="30999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문서완료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80200" y="3311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45720" y="3327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8040" y="3548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6244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76960" y="353376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353052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84880" y="399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8040" y="4013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2360" y="423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9960" y="4233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8400" y="421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21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6720" y="309024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6280" y="436392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안내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문서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385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41920" y="29941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724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6300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720" y="2863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49840" y="2863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112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41920" y="284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7240" y="2181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60840" y="2197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4720" y="2417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80720" y="24130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1120" y="2403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41920" y="24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4920" y="2629080"/>
            <a:ext cx="25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6560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532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120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280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792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9884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000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476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6160" y="2844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8160" y="2860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4800" y="2825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2360" y="262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4480" y="3421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43080" y="34369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0160" y="366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6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6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448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2989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02040" y="3209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148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3195720"/>
            <a:ext cx="14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852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3840" y="366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6560" y="363060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2760" y="43768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87480" y="43927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0600" y="4613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5360" y="461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0760" y="460548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9520" y="45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1880" y="4314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42465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02400" y="438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51000" y="43988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17160" y="4624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7320" y="461952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95920" y="4605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02400" y="3935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67560" y="395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99880" y="417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1520" y="417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95920" y="41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81760" y="4629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64480" y="46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11880" y="3303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1600" y="333360"/>
            <a:ext cx="8712360" cy="626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4080" y="6634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9000" y="13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7800" y="16113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16272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440" y="1592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240" y="1384200"/>
            <a:ext cx="606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41720" y="6681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D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7040" y="256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5200" y="279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7200" y="280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3840" y="277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000" y="256536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38360" y="3960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5400" y="397656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35840" y="4197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177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31880" y="418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3040" y="418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38360" y="3513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1960" y="3529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5840" y="374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2640" y="3743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31880" y="373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3040" y="373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60200" y="3916440"/>
            <a:ext cx="549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합계     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893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16480" y="5067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5840" y="5226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91360" y="5241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3320" y="5462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8440" y="5462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9360" y="5448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0520" y="5448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4640" y="56037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16120" y="4533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93160" y="4549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13600" y="4770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8720" y="47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10000" y="475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0800" y="475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16120" y="40863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09720" y="410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14320" y="432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30320" y="43228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10000" y="430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0800" y="430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6600" y="522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12120" y="5238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44080" y="545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9200" y="545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40120" y="54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1280" y="54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87800" y="5073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73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0" y="52293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05520" y="5245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38200" y="5465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22600" y="5465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33880" y="545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14680" y="545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41880" y="5641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5064120"/>
            <a:ext cx="12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908000" y="257508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76200" y="38592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4394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38360" y="4549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3880" y="4565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6200" y="47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20960" y="47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31880" y="4772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3040" y="477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8200" y="49626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5800" y="395748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30640" y="448848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87960" y="138096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086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85640" y="23209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60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12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024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8328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08600" y="1866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4040" y="1882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06800" y="2103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2103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02480" y="2089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83280" y="208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0400" y="29782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02560" y="2994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08240" y="3214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300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0392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768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800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3560" y="1380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2920" y="1838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89160" y="18543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0400" y="2075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05520" y="20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16800" y="2060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97600" y="20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10520" y="24177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70400" y="13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10120" y="1843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76000" y="18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07600" y="20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92720" y="20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03640" y="20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4800" y="20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9560" y="22651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30T04:46:45Z</dcterms:modified>
  <cp:revision>245</cp:revision>
  <dc:subject/>
  <dc:title>슬라이드 제목 없음</dc:title>
</cp:coreProperties>
</file>