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71B-C691-427F-85DE-7FCFC204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243-D5D9-42D9-99DB-7D2EA0C2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FA0-2291-40F2-86B0-0F724CD8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9B8-65C0-4816-8630-E249DBF5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770-B550-4E51-A572-6F7004A2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358-69E1-42EB-8A91-E6617CFF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8CC-F30C-4F67-A17C-E9C06072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C53-D988-4D61-B949-5A4FE56C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48E-2C19-4514-85DB-692D2A7A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1BB-9703-47A7-8E2E-E1B7299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FD7-5E9B-42D8-BD66-95F1E9C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860-69AB-4C28-913C-24A7289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013CB2-34C1-4471-A247-A4B755CC3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34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8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5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1447920"/>
            <a:ext cx="733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3388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704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3100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740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028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9960" y="1704600"/>
            <a:ext cx="30636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776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93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376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664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24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0052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7876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400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26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069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00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52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61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93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2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3040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476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8456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4560" y="266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764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204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716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289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132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008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3060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18800" y="3874680"/>
            <a:ext cx="11581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0196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1000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15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4740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936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412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50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620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3244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588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06160" y="39308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7540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684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6040" y="3633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48080" y="3649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3520" y="3870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9800" y="3862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855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3855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26040" y="3191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9640" y="3206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43320" y="342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24040" y="3427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3406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5400" y="34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3480" y="36349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3760" y="385776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72840" y="43653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37000" y="43254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38920" y="4003200"/>
            <a:ext cx="79308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76560" y="2492640"/>
            <a:ext cx="671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420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688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8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0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8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497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156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57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81080" y="5322600"/>
            <a:ext cx="5497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2238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76600" y="4093920"/>
            <a:ext cx="67140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06480" y="1914120"/>
            <a:ext cx="164484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87360" y="1447920"/>
            <a:ext cx="547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87360" y="213372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897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104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874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075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30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39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847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04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58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082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76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039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18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40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00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4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53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786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32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532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884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9044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7556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648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6764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88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91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57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88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3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4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5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00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3196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0372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002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7728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9772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8284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412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7492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02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938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9772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688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9412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49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52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02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878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988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9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656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63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18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97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140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798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6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6232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85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5980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4492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5620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3700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226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878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8664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5516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024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77960" y="3787560"/>
            <a:ext cx="91476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6752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25T08:58:52Z</dcterms:modified>
  <cp:revision>237</cp:revision>
  <dc:subject/>
  <dc:title>슬라이드 제목 없음</dc:title>
</cp:coreProperties>
</file>