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85A-A367-4FEF-97DE-D53BA7EA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384-6374-4087-A631-005A095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745-DFD6-4B55-98B4-CEEB12B2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B49-9ED4-40DC-828A-C6A0BA28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215-5240-4E88-BC6C-0EDC8A51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EEB-DAC6-4D62-960E-47DFB826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FDD-CC0A-4960-934C-400935CE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02D-842E-459D-B8D9-0136153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F44-C828-457B-8211-54E7990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8B0-1C3A-453F-9EA2-E5CC758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593-A096-40D6-BC2D-4A0CA34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AFB-AE0A-4D65-96A0-FD868561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864974-A975-4124-A614-2AE8AB7C74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57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5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67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8200" y="2106000"/>
            <a:ext cx="30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5280" y="3213000"/>
            <a:ext cx="428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3174480"/>
            <a:ext cx="428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2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6000" y="214308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352680"/>
            <a:ext cx="671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  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0496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820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02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87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884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71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289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1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71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115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228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95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46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608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8600"/>
            <a:ext cx="485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궁서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68760" y="395460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1040" y="42530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7280" y="398448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56280" y="608652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61280" y="60958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24480" y="2963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1160" y="2979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2196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708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31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916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24480" y="252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1808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2268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9268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8000" y="274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9916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69124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9268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24480" y="420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9640" y="422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2268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442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916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6600" y="2913120"/>
            <a:ext cx="671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2384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8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97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94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871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20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72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8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13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72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7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50800" y="3260880"/>
            <a:ext cx="5497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79680" y="405756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69120" y="42908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0560" y="2991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69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96400" y="1674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8320" y="1690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6960" y="1655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9200" y="2774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80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9592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800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664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3880" y="321264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일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584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8252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29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880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9936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801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0584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90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29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93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9936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801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81960" y="340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3760" y="4164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79640" y="417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1600" y="440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96360" y="440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438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8080" y="438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4560" y="33058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4360" y="45450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질병군세부분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0280" y="320040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608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31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135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986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996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907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1608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35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842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0996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07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3828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3413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1608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812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1428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986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996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907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67600" y="30034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주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925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580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03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5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860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67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86080" y="356400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2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95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540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77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434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4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195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7800" y="4649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65360" y="42703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8508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0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81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62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7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1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8580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8080" y="4052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81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45000" y="35622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03800" y="531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69680" y="5327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1280" y="5548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0" y="554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97320" y="55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8480" y="55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92760" y="500112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타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6740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4444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4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50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6128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42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6740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61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6560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56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128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42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34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43880" y="3405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324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49480" y="42004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8144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6584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5792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83360" y="3222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2000" y="42519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 분리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575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67320" y="46911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36680" y="459432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7360" y="539640"/>
            <a:ext cx="8445600" cy="591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1447920"/>
            <a:ext cx="695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16360" y="3352680"/>
            <a:ext cx="15843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행위별 총진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19560" y="28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12080" y="284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17040" y="307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02520" y="3070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13080" y="305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6320" y="305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9200" y="1447920"/>
            <a:ext cx="0" cy="13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43680" y="618156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61280" y="61912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27952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001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0600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76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940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748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01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8440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83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5000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940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748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376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7280" y="37800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7856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6368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5576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25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532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7856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212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4960" y="354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5576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27016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5420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5252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71720" y="4437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45160" y="4452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69200" y="46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54320" y="46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65240" y="4659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8480" y="465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19280" y="3804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89080" y="4904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6524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5300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7364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5068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7112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5300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716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832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7364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972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9092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3068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6716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4832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6080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6080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848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6040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8300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740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783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594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4508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4520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9428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6988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248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688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8816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6896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55624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1324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028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072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9260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712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8000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1324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59320" y="3971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2980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0332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712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000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583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232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0720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05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1492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2620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07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7996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5628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7816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6256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7384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5464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91160" y="49212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996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0452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8788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260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6008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42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56480" y="525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3728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6260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0868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79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9192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56480" y="48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3728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032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8168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6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79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64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7556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56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04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27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1192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23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0400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32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9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4026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22960" y="236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0000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2044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0556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16840" y="258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9764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2960" y="1924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7876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2116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1060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6840" y="214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764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2476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1692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2260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07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1828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4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24868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8840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5428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8588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7100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8192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308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8672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23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2032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24360" y="339084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12-05T02:19:36Z</cp:lastPrinted>
  <dcterms:modified xsi:type="dcterms:W3CDTF">2005-06-24T04:20:40Z</dcterms:modified>
  <cp:revision>74</cp:revision>
  <dc:subject/>
  <dc:title>슬라이드 제목 없음</dc:title>
</cp:coreProperties>
</file>