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D7C-96BB-4835-A651-E79B605F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21E-14B1-4A33-B069-6BA4D6E0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326-98DB-477F-897B-8468F324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9A4-7507-48CF-96B7-E9FD07F2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9EE-B0D1-4FD1-8871-FC9F1371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168-2397-4359-8FB3-F817293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05E-CBB8-4F4B-8252-16CC1080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F8F-FEEC-4F4E-879B-4BCB3E81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61B-5453-4360-956F-E0FE2766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032-1579-40F8-A964-6DD57B26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826-6E9B-4E87-AAAD-C7D7F73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228-9924-4C9F-9CF6-58FEACA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878EFE-9313-4141-AC76-1A76E838F3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148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4160" y="2762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840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0388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876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6040" y="1994760"/>
            <a:ext cx="306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약품 구입내역 목록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190404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신청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9440" y="3027960"/>
            <a:ext cx="428040" cy="16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확인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기관 기호 및 작성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38640" y="3074400"/>
            <a:ext cx="306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약품 구입내역 총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76520" y="3107520"/>
            <a:ext cx="30636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년월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분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7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899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45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796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63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91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5132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664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417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25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38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638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3815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30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4928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12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656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577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3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88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472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70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14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435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819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77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4760" y="29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52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103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16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2400" y="318132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77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213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59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959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16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024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94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30960" y="42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8000" y="42703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8440" y="44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13560" y="44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4476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5640" y="447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0960" y="3816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24560" y="383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9160" y="405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70720" y="4052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4038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0564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99160" y="46958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30960" y="545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6840" y="547380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9160" y="569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13560" y="569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68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05640" y="568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9040" y="2963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46440" y="2979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6520" y="3200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3200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31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3720" y="3186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9040" y="2525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264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724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3760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74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35800" y="1452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760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9040" y="420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4920" y="4221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724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442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4372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8656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637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1160" y="29750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12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463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572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637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73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124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33400" y="2757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572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84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305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196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6376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9640" y="42163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1240" y="443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4636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5728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84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30222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품목구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69960" y="4529520"/>
            <a:ext cx="30636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제약회사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입업소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984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572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7320" y="443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2244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1452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3400" y="3571920"/>
            <a:ext cx="397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0984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43360" y="46314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가중평균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9720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62720" y="4216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4680" y="443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980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9072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7188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720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26440" y="4552200"/>
            <a:ext cx="7930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단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규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품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품목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25920" y="4218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03320" y="4233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23400" y="445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08520" y="4454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9800" y="4440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00600" y="44402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5920" y="3780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19520" y="3795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23400" y="4016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94840" y="40165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9800" y="4002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00600" y="400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58440" y="3517560"/>
            <a:ext cx="4280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업소 명칭 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업장 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639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3016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2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46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574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8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39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212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864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9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038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59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909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27360" y="46126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최초구입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53520" y="421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8584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7060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152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6268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5764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25920" y="4952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91440" y="4968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3400" y="518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0852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19800" y="5175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60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32480" y="540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0236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68240" y="49687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9840" y="518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8496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7704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9000" y="54025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4064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06160" y="4968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38120" y="518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2324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3416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532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57880" y="54208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8828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53800" y="4968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86120" y="5189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7088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8180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6296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05640" y="4781520"/>
            <a:ext cx="26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62640" y="47815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00920" y="47815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67640" y="477216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02656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92080" y="49687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24400" y="5189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880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2008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088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05920" y="477216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53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51840" y="54118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34440" y="5430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1447920"/>
            <a:ext cx="364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1676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1160" y="16923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32400" y="1913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17880" y="191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189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09960" y="189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68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46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7756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821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782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14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4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86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456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61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512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433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86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622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68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372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433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2354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3720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864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416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684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5124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6252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4332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955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2424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2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13960" y="27558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0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1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87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68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9940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47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89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732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762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486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89440" y="2017080"/>
            <a:ext cx="306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꼬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62720" y="203184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03:42Z</cp:lastPrinted>
  <dcterms:modified xsi:type="dcterms:W3CDTF">2002-07-10T09:33:20Z</dcterms:modified>
  <cp:revision>44</cp:revision>
  <dc:subject/>
  <dc:title>슬라이드 제목 없음</dc:title>
</cp:coreProperties>
</file>