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78B-ECBD-464B-A4CC-0E344593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5FB-D603-4C92-ACB5-B1DB69CC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742-3666-41A8-923B-7EEB2F93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7B6-8CF1-4059-A5B1-F5B6FA0A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834-6A71-4E56-9872-8168A833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EE9-56EC-49A9-842C-6AAD56C7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F9B-2195-454F-90E5-B7C637B4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7E8-9EEC-4751-8916-122B9DA4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0E7-F1C0-4E95-BD29-AA2E58A4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D8F-DD54-4D99-991A-4683A5BB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4EA-A0F2-4F06-9B69-1DD564C8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E13-75ED-4DD8-970C-21F972A1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EE568A-03C1-40B4-8235-4BEE5DE3F5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826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751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80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65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94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2736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7520" y="2752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42840" y="2973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7600" y="2973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38520" y="295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1176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3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0640" y="1957320"/>
            <a:ext cx="30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체검사 공급내역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190404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24080" y="3117240"/>
            <a:ext cx="6714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작성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탁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14720" y="31831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26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70280" y="3075840"/>
            <a:ext cx="306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작성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6760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4428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508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5020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112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760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6120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54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548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1120" y="2733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43436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35800" y="3409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9040" y="41720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5280" y="41878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67240" y="4408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51640" y="440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4394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43720" y="4394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37600" y="2733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376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02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235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2776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12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241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70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82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71160" y="27558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61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0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46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5718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57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905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35680" y="297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2000" y="2989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32800" y="320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8280" y="320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319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10360" y="319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35680" y="252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29280" y="2541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3520" y="2762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03880" y="2762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74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0360" y="274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03880" y="3433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21480" y="420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87000" y="4221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9320" y="444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4080" y="444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442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96160" y="442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728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280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5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898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19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9112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05320" y="3571920"/>
            <a:ext cx="136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00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4296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72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326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16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197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35680" y="419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1200" y="4206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33520" y="442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89480" y="442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441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10360" y="441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1720" y="2736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04600" y="2752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09560" y="2973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4320" y="2973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05240" y="295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848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3700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총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572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053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675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8040" y="20095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1447920"/>
            <a:ext cx="68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128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9796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84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596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128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148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91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596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3876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8948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2128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7520" y="42163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9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038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959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527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708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84120" y="2975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42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896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8176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708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006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49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384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8176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734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7528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708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224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49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896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817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316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4868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813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6576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7704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578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76720" y="3571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531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101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0168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67560" y="2774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9988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428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556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7636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52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5404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0280" y="27748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522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366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287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704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49680" y="27608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8440" y="27766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7520" y="2997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94120" y="2997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298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193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09960" y="299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3548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12520" y="2975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326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180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1016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3548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290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333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36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1016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7018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0368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3548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1000" y="4216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33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180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101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0520" y="419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06040" y="42069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38360" y="442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23120" y="442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34040" y="441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15200" y="441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2632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03360" y="2975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238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089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1984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010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2632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199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241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7436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1984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010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0930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9452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263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9148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241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089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198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010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0240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68280" y="4216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0060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78500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9628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7708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95960" y="3571920"/>
            <a:ext cx="6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1447920"/>
            <a:ext cx="68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11280" y="2984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88320" y="2990880"/>
            <a:ext cx="40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08760" y="3211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93880" y="3211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04800" y="3197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85960" y="3197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11280" y="2536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04880" y="2552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08760" y="2773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04960" y="277344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04800" y="2759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85960" y="2759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3081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15960" y="3657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81840" y="3673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13440" y="3894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98560" y="38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09840" y="38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90640" y="38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89200" y="342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41600" y="40471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77336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8240" y="3651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73760" y="3666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06440" y="388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90840" y="388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01760" y="387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82920" y="387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11160" y="353376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59160" y="353052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542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41440" y="3957120"/>
            <a:ext cx="3063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01960" y="3654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67840" y="367020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00160" y="3890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84560" y="3890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95480" y="3876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76640" y="387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52880" y="3533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6160" y="410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58400" y="41241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53280" y="434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38760" y="434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49680" y="433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30480" y="433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56160" y="3664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49760" y="3679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54000" y="3900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93040" y="3900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88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048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57600" y="4765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23120" y="4781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55800" y="500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40200" y="500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1120" y="498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32280" y="498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30480" y="453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0560" y="41968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82880" y="5173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9880" y="4759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15760" y="47750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772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3248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456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00440" y="46386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33720" y="3533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45040" y="4759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10560" y="4775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04324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2764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856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1972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95960" y="46386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33720" y="4638600"/>
            <a:ext cx="136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4118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25880" y="41241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45600" y="434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31080" y="434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42000" y="4340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2800" y="433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48480" y="3670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42080" y="3686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45600" y="390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79240" y="3906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42000" y="389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22800" y="389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20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87080" y="4775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18680" y="49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0380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1508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588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69200" y="4759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34360" y="4775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6704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5180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6272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4388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12620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92080" y="4775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2440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0880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2008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0088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08760" y="3533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7160" y="5180040"/>
            <a:ext cx="7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고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준용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37960" y="513648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결과통보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사의뢰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94960" y="5132160"/>
            <a:ext cx="428040" cy="9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총 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1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 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29160" y="41349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16680" y="4533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46353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81800" y="46353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19920" y="4635360"/>
            <a:ext cx="136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1447920"/>
            <a:ext cx="68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46440" y="4759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12320" y="47750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4428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2868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3996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2076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0344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68960" y="4775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0164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8604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9696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7812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5108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17320" y="47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4928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3368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4496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2576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7820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44440" y="4775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7640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6080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7208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5288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2584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1720" y="47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2404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0844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1972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052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9548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3848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542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00320" y="4638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09800" y="48736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71720" y="48895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80360" y="4854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8520" y="4638600"/>
            <a:ext cx="33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0880" y="2975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07560" y="2981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28360" y="3201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13480" y="320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24400" y="318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05560" y="318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0880" y="2527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4480" y="2543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28720" y="2763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08800" y="276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24400" y="274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05560" y="274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5560" y="3648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01440" y="36640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C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3760" y="3884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18160" y="3884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29080" y="3870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610240" y="387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08800" y="341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56023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19640" y="2749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85880" y="276552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49520" y="2986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02240" y="2986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13520" y="2971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39432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88160" y="2755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80680" y="2771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86360" y="2992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70760" y="2992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781680" y="297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54920" y="297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905520" y="32238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3914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0581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14640" y="46353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71640" y="46386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19640" y="46386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8480" y="46386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76760" y="46386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95280" y="1447920"/>
            <a:ext cx="157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95720" y="308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970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8992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945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796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909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638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67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6832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4536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658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509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6220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430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6832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62280" y="253692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665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368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76220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430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0350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780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843200" y="3654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7588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6064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7715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5272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32040" y="2055240"/>
            <a:ext cx="3063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꼬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7400" y="340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5T00:13:21Z</cp:lastPrinted>
  <dcterms:modified xsi:type="dcterms:W3CDTF">2002-07-10T09:34:16Z</dcterms:modified>
  <cp:revision>53</cp:revision>
  <dc:subject/>
  <dc:title>슬라이드 제목 없음</dc:title>
</cp:coreProperties>
</file>