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84963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FE05-1A3C-41B8-A408-21CF7FAC3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9B0B-FAE5-4D16-B77B-B7CAA9D8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7C71-480E-45BC-B9AF-F729F785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7AEF-BD90-47CB-9FD3-FE4A4ED80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88EC-EB61-4D4E-8C35-E27C4181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60FE-4D38-43D3-B69D-F34D3156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E07D-F8A0-4AB9-ABB7-7661CFDD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F38F-6AAD-4992-B41E-F892B1C1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8002-456B-427F-84D8-A9AA4358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40B3-C6C2-4C96-A293-E6A696DB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603F-D250-45B7-9A61-8C477354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6AA2-60BD-46BD-8187-A027725C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C20A3AF-6BF8-49B5-95E6-BA055CAC3A5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DM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2564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31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082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3280" y="3075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1916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144792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859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2080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7516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1828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0340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1468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756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908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032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6478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4936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23520" y="2759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4684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3196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43240" y="2965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1612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49560" y="2955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6680" y="297180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47040" y="3192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32160" y="3192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43440" y="31780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4240" y="317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49560" y="25178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14720" y="25336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6120" y="2744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42520" y="275436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43440" y="27399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24240" y="2739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17204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19560" y="340344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4099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11480" y="2743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85280" y="27590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0896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9408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0500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7824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29280" y="3505320"/>
            <a:ext cx="41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49560" y="36576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24800" y="36734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6840" y="38941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32160" y="3894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43440" y="3879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24240" y="3879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86280" y="350532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16280" y="36576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91520" y="36734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32840" y="3894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98880" y="3894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10160" y="3879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90960" y="3879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33920" y="351468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64280" y="3666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8800" y="36831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81200" y="39038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46880" y="3903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57800" y="3889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38960" y="3889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53120" y="351468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83120" y="3666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58360" y="36831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99680" y="3903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65720" y="3903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77000" y="3889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57800" y="3889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72320" y="351468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02320" y="3666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77560" y="36831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18880" y="3903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84920" y="3903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96200" y="3889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77000" y="3889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00880" y="350532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30880" y="36576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05760" y="36734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47440" y="3894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13480" y="3894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124760" y="3879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05560" y="3879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18640" y="168588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180280" y="170172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27280" y="16668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08920" y="372096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170920" y="373680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17560" y="37018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72520" y="1457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7252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22480" y="1963080"/>
            <a:ext cx="30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신청번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07320" y="3148920"/>
            <a:ext cx="4280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24160" y="32032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총건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1000" y="29667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97800" y="4037760"/>
            <a:ext cx="4280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형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제제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19160" y="4089960"/>
            <a:ext cx="54972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품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주요효능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70480" y="3933360"/>
            <a:ext cx="306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시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도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군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구청신고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96160" y="41176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50560" y="4145760"/>
            <a:ext cx="428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단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규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253280" y="4089960"/>
            <a:ext cx="30636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가격적용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4320" y="257040"/>
            <a:ext cx="30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r>
              <a:rPr b="0" lang="zh-CN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0880" y="1929600"/>
            <a:ext cx="30636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 자체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약 내역 통보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24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06360" y="167328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68360" y="16891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5000" y="16542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1447920"/>
            <a:ext cx="695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DM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52520" y="3181320"/>
            <a:ext cx="436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52520" y="3191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95480" y="341640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57480" y="343224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4120" y="33973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62080" y="45244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7320" y="45403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78640" y="4761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44680" y="4761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55960" y="4746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36760" y="4746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2720" y="38386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48840" y="385452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0200" y="4075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35320" y="4075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46240" y="406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27400" y="406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2720" y="34005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17520" y="34164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0200" y="3637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02200" y="36370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46240" y="3622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27400" y="362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22360" y="428292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1300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24160" y="4400640"/>
            <a:ext cx="25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81160" y="440676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11520" y="45594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86400" y="45752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28080" y="4795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94120" y="4795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05040" y="4781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86200" y="478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440676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87600" y="45594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62840" y="45752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04160" y="4795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70200" y="4795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81480" y="4781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62280" y="478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76800" y="440676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06800" y="45594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82400" y="45752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23360" y="4795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89400" y="4795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00680" y="4781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81480" y="478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439740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06920" y="4549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82160" y="45655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23480" y="4786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89520" y="4786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00440" y="4772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81600" y="4772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05640" y="319104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483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10880" y="34988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52560" y="3719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18240" y="3719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29160" y="37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10320" y="37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4760" y="2162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22440" y="217800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2240" y="2398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37360" y="2398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48640" y="2384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129440" y="238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4760" y="1724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919920" y="17398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81400" y="1960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04240" y="1960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48640" y="1946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29440" y="1946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10240" y="144792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40240" y="17398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15840" y="175572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56800" y="1976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22840" y="1976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1962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14920" y="196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15040" y="144792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24760" y="261936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64480" y="2771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39000" y="27874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81400" y="3008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47080" y="3008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0" y="299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139160" y="2994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58040" y="144792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988400" y="1739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063640" y="175572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004600" y="1976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271000" y="1976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981920" y="1962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63080" y="196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67160" y="38228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입기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22640" y="5049720"/>
            <a:ext cx="140148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용약품규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용약품단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용약품품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용약품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14840" y="5013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입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00640" y="4975920"/>
            <a:ext cx="30636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단위당가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19480" y="5031360"/>
            <a:ext cx="306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분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29320" y="4966560"/>
            <a:ext cx="30636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분량당가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90640" y="3899520"/>
            <a:ext cx="54972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용법및용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효능및효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386840" y="22226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26040" y="27511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01280" y="27669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43320" y="29876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08640" y="2987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19920" y="29732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0720" y="2973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26760" y="320472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62992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58320" y="208584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BULDOG</dc:creator>
  <dc:description/>
  <dc:language>en-US</dc:language>
  <cp:lastModifiedBy>Administrator</cp:lastModifiedBy>
  <cp:lastPrinted>2000-07-03T06:38:26Z</cp:lastPrinted>
  <dcterms:modified xsi:type="dcterms:W3CDTF">2002-07-10T09:34:43Z</dcterms:modified>
  <cp:revision>66</cp:revision>
  <dc:subject/>
  <dc:title>슬라이드 제목 없음</dc:title>
</cp:coreProperties>
</file>