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84963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005-F7D2-4FFA-9C91-159C7EC4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036-EAEC-4C78-9AAF-2E95FACA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4E8-78E9-4CA3-9801-72AB76B6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0E4-4990-4B2A-9B98-B6D1F72F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A6E-8F0F-4506-936D-F7A76B90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B99-9FC7-49C9-93E7-C28505AB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A3C-E7F4-4AE7-863D-93DDAFD3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4FE-219A-4AB3-A94A-68A93228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55D-6DFF-4738-9898-61F79943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442-A659-4458-8E07-B4425118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3FC-927F-48E1-84A0-3D3D446B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D79-EC0E-45A7-A84B-C8537C56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3BF206-D9F7-4242-9441-66B52D531C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92960" y="75240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31840" y="189756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신청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208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751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182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034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146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7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908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384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1380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374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226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335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067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0560" y="25052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7240" y="2521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8040" y="27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3160" y="27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27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05240" y="27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30560" y="2066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95720" y="2082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47120" y="2293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98760" y="230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22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05240" y="22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390840" y="1447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00560" y="29527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30560" y="4336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5800" y="43527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47120" y="4573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13160" y="4573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559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05240" y="4559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0560" y="3641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7040" y="36576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8040" y="3878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13160" y="3878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3863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05240" y="38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30560" y="3203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95720" y="3219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8760" y="3440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1960" y="344016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3425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05240" y="342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00560" y="408636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0560" y="4197240"/>
            <a:ext cx="38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49760" y="4327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25000" y="43434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6320" y="4564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2360" y="456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3280" y="454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4440" y="454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10040" y="42004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78320" y="4327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47080" y="4334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95600" y="4564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60920" y="456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71840" y="454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53000" y="454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38600" y="42004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87800" y="4317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62680" y="43434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4360" y="4564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70400" y="456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81680" y="4540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62480" y="454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48440" y="42004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16720" y="4327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5840" y="4334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2920" y="4564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99320" y="456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10240" y="454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91040" y="454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77000" y="42004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64360" y="4327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39240" y="43434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920" y="4564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46960" y="456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7880" y="454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39040" y="454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24640" y="42004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42004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7860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46280" y="4775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76080" y="49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6120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7248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5328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78600" y="4321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43760" y="43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95880" y="4548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18720" y="45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72480" y="4543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53280" y="454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78600" y="5445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53840" y="5460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95880" y="5681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61200" y="568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72480" y="5667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3280" y="5667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48600" y="52005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48600" y="53341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64400" y="5454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9280" y="5470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80960" y="5691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47000" y="5691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58280" y="5676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39080" y="567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43760" y="53370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707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2800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9000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3664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88240" y="31474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1080" y="244224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통보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00440" y="36316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4625280"/>
            <a:ext cx="6714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규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품명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조회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입업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통보품목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5960" y="4773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입기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83720" y="4594320"/>
            <a:ext cx="4280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선납품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년경과계속사용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91120" y="47656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입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9680" y="4793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입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1960" y="477540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개당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입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39120" y="461232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신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15240" y="5813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91320" y="55288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7360" y="1896840"/>
            <a:ext cx="30636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치료재료 및 약제구입내역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2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0636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50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14479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64080" y="25052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41120" y="252108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61200" y="27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46680" y="27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27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38760" y="27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4080" y="2066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28880" y="2082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1000" y="2293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32280" y="230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22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38760" y="22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924360" y="1447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64080" y="3200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8600" y="3216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81000" y="3436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46680" y="3436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422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38760" y="342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33720" y="29527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003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4004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13840" y="2759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3752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226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335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68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24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40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37440" y="2759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9028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462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575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304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212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8568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187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38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47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2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15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43000" y="3222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총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76680" y="3203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43320" y="25369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4T23:51:15Z</cp:lastPrinted>
  <dcterms:modified xsi:type="dcterms:W3CDTF">2002-07-10T09:34:56Z</dcterms:modified>
  <cp:revision>66</cp:revision>
  <dc:subject/>
  <dc:title>슬라이드 제목 없음</dc:title>
</cp:coreProperties>
</file>