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FA6-42D5-4842-8752-6D18AD77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F8F-2C3C-4F01-89C9-C0D883E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0B7-1F70-40B6-AD34-B8080902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3B8-2B9C-45E5-B77C-A1473C84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134-E9FB-4B06-8FDE-6E93B561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DD7-94DA-44F2-982C-6A47D6E8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735-938B-4944-BDFE-AFAE47E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912-2142-44D8-9140-A480642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2C2-4F42-4F92-A28A-A96C9567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5D0-D982-41A4-A2BB-0153184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663-D1C7-463E-81BF-B8E8FC1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33B-061F-4112-8096-2F9FB0E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9F2F0C-74ED-4A6B-96F4-454495F4A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844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7560" y="2786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59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1040" y="3006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3360" y="27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2440" y="29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2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0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9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7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2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06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64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2640" y="2774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38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90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02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0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6120" y="275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8640" y="2768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432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0640" y="29894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9640" y="2975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288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22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808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996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848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60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68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0640" y="1962720"/>
            <a:ext cx="30636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한방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1480" y="2997720"/>
            <a:ext cx="4280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77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6960" y="3087360"/>
            <a:ext cx="4280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9080" y="30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242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60360" y="312192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244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10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1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7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9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44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18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22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79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91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10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3520" y="31464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77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3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760" y="3128400"/>
            <a:ext cx="4280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65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360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40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9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847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3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00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1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853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6560" y="41720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2080" y="4187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84040" y="440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6916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0080" y="4394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124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58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1360" y="4187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40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084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05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43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22860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5496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69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43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9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08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9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9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6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5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69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2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7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920" y="30164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 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0320" y="4668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33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388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71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559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48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6920" y="35719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43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307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62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28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33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42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5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00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8720" y="4637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02200" y="2763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5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0040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8480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9608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6896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2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9560" y="27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52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776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216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29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2632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1660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6284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069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9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0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04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8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69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0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4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04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8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87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51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06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720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00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8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0480" y="4478760"/>
            <a:ext cx="306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480" y="2950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730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76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4640" y="2813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50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02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11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622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76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12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70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11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622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68520" y="3917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5200" y="3933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66000" y="4154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1120" y="415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62040" y="414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3200" y="414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8520" y="3470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62120" y="348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66000" y="370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08640" y="37069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62040" y="369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43200" y="369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5280" y="463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9320" y="464832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62760" y="486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7880" y="486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8800" y="485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9960" y="485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92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3800" y="5109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840" y="3650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604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41400" y="43624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81120" y="5057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8444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86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3720" y="529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75000" y="528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58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1120" y="461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74720" y="4629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8600" y="484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75880" y="4849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75000" y="483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55800" y="483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5280" y="4467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70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4844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040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655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7644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576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54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77560" y="5664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056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95720" y="5730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876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316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524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6560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1480" y="5730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6308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820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912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064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66520" y="57308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9812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24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416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532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2720" y="571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860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092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6600" y="5937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974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55688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344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596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0360" y="5049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506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39040" y="4029120"/>
            <a:ext cx="4280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31240" y="51681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91880" y="5549400"/>
            <a:ext cx="428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감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6160" y="3457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5280" y="3473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4360" y="3693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760" y="36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0040" y="367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96160" y="36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9840" y="2610000"/>
            <a:ext cx="1279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74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903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9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800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642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151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6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9022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168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93480" y="2813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42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994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03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14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14280" y="259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662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103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914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896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1447920"/>
            <a:ext cx="63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82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5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0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5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9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952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0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2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2032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544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752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2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7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2104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2464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1680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2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0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1816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406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8036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4624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7784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296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7388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5504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247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003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24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160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03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17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9880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4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7020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140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8116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17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9880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9880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11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3528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088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348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788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0996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5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95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476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036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4296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27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864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19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0672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6372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40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1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3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760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30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372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09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80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380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5760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30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03372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5768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8100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65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7668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57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3044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676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8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3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43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5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33720" y="4921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00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5257800"/>
            <a:ext cx="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3396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11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14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13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748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86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396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800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50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632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748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86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03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30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27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50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56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465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277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00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75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98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3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94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75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3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70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94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8052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1:14:57Z</cp:lastPrinted>
  <dcterms:modified xsi:type="dcterms:W3CDTF">2007-05-21T08:07:23Z</dcterms:modified>
  <cp:revision>58</cp:revision>
  <dc:subject/>
  <dc:title>슬라이드 제목 없음</dc:title>
</cp:coreProperties>
</file>