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B69-5BF8-4048-9F17-B3A63D6C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BA7-4BDC-4387-953A-E3D8AA7B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5AB-E220-4A0B-838C-21F7CA5B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6A9-A358-422A-A42C-F499E671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E11-8A1C-4545-9069-F87C2992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683-F76B-4AD4-AC05-E958EE6D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D1F-6E02-4B93-9DDA-4AC3EF24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654-3C33-46EE-A992-05190DA9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5AC-E83F-4871-9ABC-8F982228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30B-9B90-45C0-B538-71EF1B42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766-55C9-4669-A5C7-910FF52D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366-AFC5-4D55-8559-CF063D58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E8A092-6D30-4C6A-A2E2-B101DED856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22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672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4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748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4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1447920"/>
            <a:ext cx="738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6640" y="190728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52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9228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8516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8976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748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616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5904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771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735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39800" y="2755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7176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561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4824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5244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5148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99360" y="26733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4716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95760" y="2894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4500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9736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5148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1664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4896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63160" y="2455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4500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9736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71500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7920" y="3216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111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6584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086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37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050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78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811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98892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1718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7308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4652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7056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556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6696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984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9000" y="31672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3084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4488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1076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4308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274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3876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956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095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89600" y="3216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86160" y="4498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95920" y="3305160"/>
            <a:ext cx="268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25920" y="3492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9080" y="3508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23400" y="3728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08520" y="3728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9800" y="3714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92680" y="3714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57880" y="33163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91120" y="2592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기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36360" y="3877920"/>
            <a:ext cx="7930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51680" y="16686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16844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60320" y="16495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278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364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6000" y="2192400"/>
            <a:ext cx="4280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 심사결과 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08200" y="310248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5680" y="35211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67680" y="35370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14320" y="35020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330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6840" y="257040"/>
            <a:ext cx="4738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71960" y="3192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6960" y="3497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72840" y="3513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05160" y="3733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89560" y="3733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00840" y="3719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81640" y="3719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51680" y="39736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38920" y="33051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88000" y="34862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54240" y="35020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85480" y="3722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0600" y="3722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1880" y="3708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2680" y="3708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39625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8685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 구분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8124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64760" y="2762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7872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6384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7512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341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910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5660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889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736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846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5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941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4172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35440" y="323856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60800" y="3189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1000" y="18543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6880" y="18702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8480" y="2090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83600" y="2090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94520" y="2076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75680" y="2076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45360" y="23302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351560" y="144468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080" y="20552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42120" y="3960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90720" y="39765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160" y="4202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77040" y="419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6000" y="418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42120" y="3522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07280" y="3538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49680" y="3759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39120" y="3759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745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6160" y="3745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21480" y="4206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04200" y="417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99480" y="4554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54200" y="457056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97320" y="4791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82080" y="4791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93000" y="4776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66240" y="477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38560" y="379008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당담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31240" y="4989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12120" y="330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04200" y="4402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53280" y="45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08720" y="4562640"/>
            <a:ext cx="533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51480" y="47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35880" y="47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46800" y="4768920"/>
            <a:ext cx="6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20040" y="476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360" y="106668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3280" y="16002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3280" y="3006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3280" y="414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3280" y="5292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9360" y="6904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2460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9760" y="3635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22440" y="3855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0720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18120" y="384192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892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45000" y="3618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10880" y="3633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3200" y="3854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27600" y="385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3852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19680" y="384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6880" y="23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25639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23760" y="257976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0760" y="25448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71560" y="2347920"/>
            <a:ext cx="773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34960" y="2957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12000" y="2973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32440" y="3193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14680" y="3205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28840" y="3179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09640" y="317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34960" y="2519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8560" y="2535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33160" y="2755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28640" y="27417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28840" y="2741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9640" y="27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69000" y="3616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48200" y="363204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66480" y="3852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53040" y="3852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62520" y="38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4512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69000" y="3178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64040" y="3193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67200" y="3414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68440" y="341460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62520" y="3400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45120" y="3400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75480" y="4726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53600" y="4741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72600" y="4962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59520" y="4962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69000" y="494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51600" y="49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75480" y="42879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70520" y="4303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72600" y="4524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54840" y="452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69000" y="451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51600" y="4510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46920" y="406224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99240" y="5394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4760" y="5410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6720" y="5630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1840" y="5630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760" y="5616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73920" y="561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08720" y="4055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14680" y="337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3352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34960" y="3591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01560" y="3606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32440" y="3827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17560" y="382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28840" y="3813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09640" y="381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63880" y="3616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29400" y="3632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61000" y="3852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6480" y="3852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38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3856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64360" y="4665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0800" y="2809440"/>
            <a:ext cx="7930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7840" y="3962520"/>
            <a:ext cx="428040" cy="16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 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 본인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05120" y="4106880"/>
            <a:ext cx="17665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구분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유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 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10960" y="2324160"/>
            <a:ext cx="3713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액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수장비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의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71560" y="3940920"/>
            <a:ext cx="549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60640" y="317664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704960" y="235260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17560" y="34765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46920" y="5168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6920" y="5272200"/>
            <a:ext cx="192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64080" y="330048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4080" y="33004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56320" y="3921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30480" y="3619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96360" y="36352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27960" y="38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13440" y="38559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0516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1008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1020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07600" y="2346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196120" y="257184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58120" y="25876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04760" y="25527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11640" y="3629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77520" y="3645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09480" y="386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94240" y="386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05160" y="3851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86320" y="38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3400" y="4137120"/>
            <a:ext cx="4280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주상병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주증상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11520" y="3629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77040" y="3645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09360" y="386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65680" y="3865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05040" y="3851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86200" y="38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73080" y="4006800"/>
            <a:ext cx="549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8488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76400" y="153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17524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52360" y="17683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9360" y="173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15238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48600" y="17524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82160" y="176832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57240" y="173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24800" y="153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76920" y="3173400"/>
            <a:ext cx="342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04000" y="233676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84640" y="231624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89720" y="2757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55960" y="2773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87200" y="2994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72320" y="29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83600" y="29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64400" y="29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621480" y="32338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7640640" y="23479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20360" y="266832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26120" y="404712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4819680" y="329400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9680" y="32940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4948200" y="329400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48200" y="32940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2979720" y="2506680"/>
            <a:ext cx="57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50120" y="5394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15640" y="54100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47960" y="5630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32720" y="5630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43640" y="5616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24800" y="561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57400" y="45896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19760" y="526896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912080" y="6004080"/>
          <a:ext cx="150840" cy="20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12080" y="60040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8001000" y="597204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5160" y="5397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1040" y="541332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2280" y="5634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67760" y="5634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78680" y="561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59480" y="561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03960" y="585864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713720" y="5392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79600" y="54086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711200" y="5629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996320" y="562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707240" y="5614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988400" y="5614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10120" y="3101400"/>
            <a:ext cx="5497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353360" y="52610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83360" y="526896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84480" y="5353200"/>
            <a:ext cx="9147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 세부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31720" y="530064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5607000" y="5786280"/>
          <a:ext cx="150840" cy="2066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07000" y="578628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5122800" y="5794200"/>
          <a:ext cx="150840" cy="2066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22800" y="579420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87360" y="404640"/>
            <a:ext cx="8445600" cy="619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1360" y="14684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3280" y="20019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3280" y="31035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3280" y="41702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3280" y="53132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87360" y="162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96840" y="184464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58760" y="1860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19880" y="1825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1628640"/>
            <a:ext cx="702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38320" y="54936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848640" y="16286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59560" y="2600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36240" y="2616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57040" y="2836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4216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2822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34240" y="282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59560" y="2162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615000" y="2178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57760" y="2398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3986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53080" y="2384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34240" y="238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31000" y="30481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40360" y="4486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26320" y="44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459560" y="44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69400" y="44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97480" y="3858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97480" y="24141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48480" y="51015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278120" y="5025240"/>
            <a:ext cx="549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47640" y="51325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551640" y="4695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16080" y="47116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49120" y="4932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34240" y="4932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45160" y="4917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18400" y="491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80200" y="4702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53640" y="4718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96760" y="493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462800" y="493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74080" y="4924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46960" y="492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790040" y="4705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877520" y="47214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787880" y="4941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072280" y="494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83560" y="4927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056440" y="4927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61000" y="3828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38760" y="38448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558480" y="4065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0" y="4065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54880" y="4051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35680" y="4051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61000" y="3390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16440" y="3406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58480" y="3627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759000" y="36273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54880" y="3613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35680" y="3613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31000" y="42670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05840" y="1863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11320" y="18795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302960" y="2100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88080" y="21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299360" y="2085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72240" y="208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75480" y="162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659640" y="1933560"/>
          <a:ext cx="164880" cy="22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933560"/>
                    <a:ext cx="16488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8088480" y="6318360"/>
          <a:ext cx="15048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88480" y="631836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8177040" y="628668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425360" y="220320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87360" y="98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6840" y="11970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58760" y="1212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19880" y="1177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95280" y="98100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92960" y="98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02440" y="11970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64360" y="1212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025480" y="1177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594400" y="1863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60640" y="1879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91880" y="2100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77000" y="21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87920" y="2085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69080" y="208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864400" y="162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815080" y="21967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308800" y="162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18640" y="18446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080200" y="1860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041320" y="1825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03760" y="2973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69280" y="29894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15640" y="3209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86360" y="3209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97280" y="319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64040" y="319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83120" y="2824200"/>
            <a:ext cx="6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49760" y="3335040"/>
            <a:ext cx="67140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83120" y="273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05200" y="2295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782240" y="2311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02680" y="253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84920" y="254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99080" y="2517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7988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05200" y="1857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98800" y="1873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703400" y="2093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44960" y="2093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99080" y="20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79880" y="20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98320" y="1983960"/>
            <a:ext cx="5497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5005440" y="162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80200" y="2990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46080" y="30067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7320" y="3227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662440" y="3227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73720" y="3213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54520" y="321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75240" y="34718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2830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12800" y="18986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284560" y="163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81080" y="2309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58120" y="2325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78560" y="2546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63680" y="2546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74960" y="2532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55760" y="2532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81080" y="1871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74680" y="1887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78560" y="2108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49640" y="2108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74960" y="2093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55760" y="2093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86120" y="303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046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83240" y="326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68360" y="326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79640" y="3252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60440" y="325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46520" y="28814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67160" y="303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32680" y="30463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78680" y="326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02240" y="3267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560680" y="3252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27440" y="325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43160" y="3025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9040" y="30416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40640" y="3262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425760" y="3262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37040" y="3247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417840" y="32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403440" y="2873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68360" y="2874960"/>
            <a:ext cx="112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51080" y="274320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576800" y="189360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52960" y="2038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8840" y="20541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50080" y="227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35200" y="227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6480" y="2260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27280" y="2260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97320" y="251460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503520" y="16282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5920" y="24141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64720" y="3234960"/>
            <a:ext cx="549720" cy="15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61920" y="2855160"/>
            <a:ext cx="5497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상건수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277720" y="3366360"/>
            <a:ext cx="164484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987640" y="4748040"/>
          <a:ext cx="150840" cy="206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474804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387360" y="404640"/>
            <a:ext cx="8445600" cy="590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360" y="1152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3280" y="1685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3280" y="2787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3280" y="3854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93280" y="4997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8736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96840" y="120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58760" y="154476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19880" y="118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990720"/>
            <a:ext cx="62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38320" y="48564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81280" y="4741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05320" y="4970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81280" y="4970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6858000" y="9903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7864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55680" y="1920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7612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6124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57216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332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578640" y="1467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634080" y="1482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576480" y="1703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65920" y="170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72160" y="1689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3320" y="1689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80080" y="2577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72600" y="2593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578280" y="2814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62680" y="281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573960" y="2800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46840" y="2800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0080" y="235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564320" y="990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04040" y="1438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369920" y="14540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01520" y="167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586640" y="167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97560" y="166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78720" y="166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180200" y="20178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134040" y="993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73760" y="144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939640" y="1457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871240" y="167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156360" y="167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67280" y="166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48440" y="166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20095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287360" y="157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96840" y="179532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58760" y="181116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19880" y="17762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284120" y="1579680"/>
            <a:ext cx="400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752560" y="33148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29960" y="333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50040" y="3551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32280" y="356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746440" y="3537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027240" y="353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52560" y="2876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98640" y="28926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69120" y="311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73960" y="3112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6440" y="3098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27240" y="3098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27240" y="375300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82920" y="38113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16640" y="576972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63720" y="3971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38960" y="3987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761200" y="4208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046320" y="4208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57600" y="4194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038400" y="419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043080" y="44132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792520" y="5057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869920" y="50734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90000" y="529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071880" y="530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786040" y="528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67200" y="528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792520" y="4619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38600" y="463536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08720" y="485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982240" y="485604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86040" y="484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67200" y="48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46200" y="51033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062160" y="549900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11600" y="5699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86840" y="57150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809440" y="593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94200" y="593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05120" y="5921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086280" y="592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467160" y="5699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32680" y="5715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55640" y="593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40040" y="593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54560" y="592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746520" y="592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54240" y="558468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759120" y="558468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46200" y="5694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16240" y="5699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91480" y="5715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114440" y="593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398840" y="593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0120" y="592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90920" y="592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86240" y="558468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205000" y="156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13040" y="2536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89720" y="2552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13400" y="2773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195640" y="2773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6560" y="2759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190600" y="2759040"/>
            <a:ext cx="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13040" y="20988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68480" y="21146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914120" y="2335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135160" y="233532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6560" y="2320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90600" y="232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54200" y="235080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81240" y="3321000"/>
            <a:ext cx="104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49840" y="57261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76560" y="1785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42080" y="180180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74040" y="202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59160" y="202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70080" y="200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351240" y="200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349800" y="156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79800" y="2914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045680" y="29304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91680" y="3151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262400" y="3151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73680" y="3137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0080" y="313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267080" y="278748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654440" y="2932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720320" y="2948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52640" y="3168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937040" y="3168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48320" y="3154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929120" y="315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915080" y="277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267080" y="268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986280" y="2236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063680" y="2252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983760" y="2473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65640" y="248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979800" y="2459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60960" y="2459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86280" y="1798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79880" y="1814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84120" y="2035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226040" y="2035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79800" y="2021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260960" y="2021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286160" y="156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814840" y="1753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4400" y="32126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010120" y="1801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075640" y="1817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008320" y="2038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292720" y="2038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003640" y="202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84800" y="20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54480" y="22780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26040" y="22744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5276880" y="156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21:04Z</cp:lastPrinted>
  <dcterms:modified xsi:type="dcterms:W3CDTF">2007-05-30T04:54:28Z</dcterms:modified>
  <cp:revision>159</cp:revision>
  <dc:subject/>
  <dc:title>슬라이드 제목 없음</dc:title>
</cp:coreProperties>
</file>