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5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CF77-5FEA-4410-B551-C3FDE1661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13D8-FBD7-4BC6-8601-D5F8620E3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E7D2-3EB8-41BA-896E-0BEE86F94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AB35-DE51-467C-AEA3-634CF33A5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D2D2-BA44-49D6-A546-6BC823CDB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F01F-0D6E-424C-93E0-5A31E7D5C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767A-0249-473C-B792-14D3872FB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8D38-4F32-4A62-8390-68089F22B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A118-42AF-4B1C-93CE-83A0E3F9D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BD86-F4F1-48BF-A151-1833E1445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2ED4-73A4-4DC6-A578-123D79E2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639F-5A5D-4F91-BF01-F0A9E1DD6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3AEEA4C-A3DF-47C9-B89F-DE6F8EB2131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돋움체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.wmf"/><Relationship Id="rId9" Type="http://schemas.openxmlformats.org/officeDocument/2006/relationships/package" Target="../embeddings/oleObject5.docx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7360" y="500040"/>
            <a:ext cx="8445600" cy="6097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38320" y="6922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AR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25640" y="16430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90440" y="1658880"/>
            <a:ext cx="404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23120" y="18795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08240" y="18795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120" y="13320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19160" y="18651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3280" y="42544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3280" y="554976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87360" y="1407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85920" y="1398600"/>
            <a:ext cx="718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25760" y="270684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09280" y="272268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23240" y="29433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708360" y="29433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419640" y="29289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92520" y="2928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62200" y="1895040"/>
            <a:ext cx="306360" cy="19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요양급여비용 정산심사내역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70000" y="1830600"/>
            <a:ext cx="30636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참조번호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정산심사차수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85920" y="1865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25640" y="27003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918520" y="271620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23120" y="29368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8240" y="29368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29224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92400" y="2922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3105000" y="140760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686040" y="140760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011480" y="27129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77720" y="272880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09680" y="29494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294080" y="2949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005360" y="29354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86160" y="2935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262400" y="1420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86320" y="26272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72360" y="2643120"/>
            <a:ext cx="372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M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82360" y="2868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430960" y="286380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80200" y="28494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632560" y="2840040"/>
            <a:ext cx="0" cy="62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86320" y="217980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51480" y="21956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83800" y="24163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98000" y="2416320"/>
            <a:ext cx="35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80200" y="24019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632560" y="2401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649840" y="14076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486240" y="3236760"/>
            <a:ext cx="306360" cy="8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56200" y="318924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44480" y="16430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99200" y="165888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G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41960" y="18795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927080" y="18795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638360" y="18651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11240" y="1865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14480" y="1407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322280" y="2413800"/>
            <a:ext cx="30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05320" y="314964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지원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320" y="9507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2505240" y="140760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6800" y="27036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79880" y="27194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03920" y="29401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89040" y="29401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00320" y="29257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73200" y="2925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22720" y="309996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정산통보일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665680" y="2873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99200" y="383868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164720" y="385452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097400" y="40752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81800" y="4075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939000" y="4060800"/>
            <a:ext cx="677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373880" y="4060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243920" y="4527720"/>
            <a:ext cx="306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632560" y="3240000"/>
            <a:ext cx="1082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61120" y="34686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44280" y="34844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58240" y="37051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96200" y="370512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54640" y="36910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627520" y="3691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467400" y="4975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516000" y="49910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463440" y="52164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02320" y="5211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461280" y="5197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67400" y="452772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532560" y="45435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474960" y="47642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64400" y="47642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461280" y="47498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51800" y="4749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746760" y="52214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729480" y="518472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105680" y="59310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160400" y="5946840"/>
            <a:ext cx="422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03880" y="61675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388280" y="6167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943680" y="6153120"/>
            <a:ext cx="68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72440" y="6153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922480" y="3090240"/>
            <a:ext cx="30636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기관 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84840" y="3835080"/>
            <a:ext cx="103644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청구단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보험자종별 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청구서 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묶음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접수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청구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심사차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63120" y="5831640"/>
            <a:ext cx="42804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담당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담당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13640" y="585648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전화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475320" y="593712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523920" y="5952960"/>
            <a:ext cx="3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490440" y="61786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510240" y="6173640"/>
            <a:ext cx="1843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469200" y="6159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475320" y="5489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540480" y="55054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72800" y="5726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724800" y="5726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469200" y="57117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730920" y="5711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54680" y="61833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737400" y="6165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089920" y="162072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251920" y="1636560"/>
            <a:ext cx="4204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98560" y="160164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466120" y="1400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3640" y="2797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0880" y="189000"/>
            <a:ext cx="4624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다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1" lang="zh-CN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(Message branching diagra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578720" y="383976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참조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6737400" y="4212720"/>
            <a:ext cx="0" cy="311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462720" y="38386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558840" y="385452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460200" y="40752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45320" y="4075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56240" y="4060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37400" y="4060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462720" y="340056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556320" y="34164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60200" y="36370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699600" y="363708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456240" y="3622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737400" y="362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18320" y="32446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50520" y="3890880"/>
            <a:ext cx="428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연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751800" y="4400640"/>
            <a:ext cx="1704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10040" y="1393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49760" y="18511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715640" y="186696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647240" y="20876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32360" y="20876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43280" y="2073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924440" y="2073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759200" y="2273040"/>
            <a:ext cx="30636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구분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제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082000" y="462456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244000" y="4640400"/>
            <a:ext cx="420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090640" y="460548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458200" y="4403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19760" y="4782960"/>
            <a:ext cx="67140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업무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업무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담당자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담당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01600" y="260280"/>
            <a:ext cx="8712360" cy="633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14080" y="40464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69280" y="131904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69280" y="24271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9280" y="35701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69280" y="47131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19000" y="838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77800" y="106668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39800" y="108252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6440" y="104760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22240" y="839880"/>
            <a:ext cx="749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041720" y="4096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AR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05280" y="362412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70800" y="363996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803480" y="38606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024520" y="38606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9160" y="3846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048280" y="3846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179960" y="36273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245840" y="364320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77440" y="38638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28000" y="386388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173480" y="38498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454640" y="3849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97040" y="1571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65200" y="179712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27200" y="1812960"/>
            <a:ext cx="420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73840" y="177804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92000" y="1571760"/>
            <a:ext cx="7552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934400" y="106524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067600" y="108108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943040" y="10461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310600" y="844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189080" y="29671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266120" y="298296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186560" y="32036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468440" y="3214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182600" y="3189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463760" y="3189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189080" y="25192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282680" y="25351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186560" y="27558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382400" y="2741760"/>
            <a:ext cx="466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182600" y="27417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463760" y="2741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315160" y="1628640"/>
            <a:ext cx="286164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위탁검사직접지급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정차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결정금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훈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진료비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험자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상한액차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상한액초과금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비급여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특수장비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급여비용  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재진료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초진료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이전심사결정사항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정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조정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조정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771000" y="3855240"/>
            <a:ext cx="1158120" cy="24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처방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급여일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입원일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내원일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재진 가산횟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3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일분이상 투약횟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재진횟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2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일분 투약횟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초진 가산횟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1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일분 투약횟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초진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이전심사결정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정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886280" y="4012200"/>
            <a:ext cx="30636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요양개시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459080" y="3390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062080" y="347652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89080" y="36194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255680" y="36352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L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186560" y="38559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471680" y="3855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182600" y="3841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63760" y="3841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792440" y="36352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857960" y="36511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789560" y="38718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035440" y="387180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785960" y="38577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066760" y="3857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09200" y="2688480"/>
            <a:ext cx="54972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가입자성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수진자성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213560" y="3791520"/>
            <a:ext cx="1158120" cy="25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이전심사결정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정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이전심사결정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정 공상등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액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률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증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구분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환수환급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진료형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명세서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85440" y="3686760"/>
            <a:ext cx="549720" cy="18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추가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환급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이전심사결정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정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402160" y="40640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479920" y="407988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99640" y="43005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684760" y="43005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396040" y="42861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676840" y="4286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402160" y="3616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495760" y="36320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400360" y="38527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92240" y="3852720"/>
            <a:ext cx="410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396040" y="38386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676840" y="3838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996160" y="5164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072840" y="518004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993280" y="5400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278400" y="5400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989680" y="5386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270480" y="5386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08640" y="47260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502240" y="47419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406120" y="49626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648760" y="496260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402160" y="4948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683320" y="4948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678640" y="4500720"/>
            <a:ext cx="0" cy="237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568920" y="515952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634800" y="51753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566400" y="53960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1520" y="5396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562800" y="53816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843600" y="5381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122960" y="515952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188840" y="517536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121160" y="53960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405560" y="5396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116840" y="53816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397640" y="5381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154480" y="422064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88680" y="4557600"/>
            <a:ext cx="428040" cy="6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정금액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인정금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117920" y="4556160"/>
            <a:ext cx="549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비고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543360" y="5627880"/>
            <a:ext cx="549720" cy="7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관련근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정사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579360" y="5753160"/>
            <a:ext cx="243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587760" y="36320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653280" y="364824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585240" y="38685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846960" y="386856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581280" y="38545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62440" y="3854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28960" y="34830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456080" y="34704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043600" y="34750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659560" y="34797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652840" y="34830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382840" y="36385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448360" y="365436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381040" y="38750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665440" y="3875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376360" y="38606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57520" y="3860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477520" y="3879000"/>
            <a:ext cx="549720" cy="18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명일련 비고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특정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이전심사결정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정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259080" y="34797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989440" y="36385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055320" y="365436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987280" y="38750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271680" y="3875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982960" y="38606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263760" y="3860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059640" y="4040640"/>
            <a:ext cx="428040" cy="12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상병분류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이전심사결정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381480" y="2516040"/>
            <a:ext cx="30636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2704320" y="2052720"/>
            <a:ext cx="347400" cy="323280"/>
            <a:chOff x="2704320" y="2052720"/>
            <a:chExt cx="347400" cy="323280"/>
          </a:xfrm>
        </p:grpSpPr>
        <p:sp>
          <p:nvSpPr>
            <p:cNvPr id="332" name=""/>
            <p:cNvSpPr/>
            <p:nvPr/>
          </p:nvSpPr>
          <p:spPr>
            <a:xfrm>
              <a:off x="2704320" y="2058840"/>
              <a:ext cx="21384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돋움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808720" y="2052720"/>
              <a:ext cx="2430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돋움"/>
                </a:rPr>
                <a:t>I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34" name=""/>
            <p:cNvGraphicFramePr/>
            <p:nvPr/>
          </p:nvGraphicFramePr>
          <p:xfrm>
            <a:off x="2765160" y="2170080"/>
            <a:ext cx="150480" cy="20592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33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65160" y="2170080"/>
                      <a:ext cx="150480" cy="20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36" name=""/>
            <p:cNvGraphicFramePr/>
            <p:nvPr/>
          </p:nvGraphicFramePr>
          <p:xfrm>
            <a:off x="2884320" y="2170080"/>
            <a:ext cx="150120" cy="20592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33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84320" y="2170080"/>
                      <a:ext cx="150120" cy="20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338" name=""/>
          <p:cNvGraphicFramePr/>
          <p:nvPr/>
        </p:nvGraphicFramePr>
        <p:xfrm>
          <a:off x="6662880" y="6230880"/>
          <a:ext cx="150840" cy="2062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62880" y="6230880"/>
                    <a:ext cx="150840" cy="2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0" name=""/>
          <p:cNvSpPr/>
          <p:nvPr/>
        </p:nvSpPr>
        <p:spPr>
          <a:xfrm>
            <a:off x="8405640" y="6359400"/>
            <a:ext cx="428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사용유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682040" y="51624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747920" y="5178600"/>
            <a:ext cx="355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679160" y="5398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964640" y="5398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675560" y="5384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956720" y="5384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794720" y="5648040"/>
            <a:ext cx="306360" cy="4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단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4000" y="516744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309880" y="518328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241480" y="54039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526600" y="5403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237520" y="53895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518680" y="5389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405400" y="51624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471280" y="51786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402880" y="5398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688000" y="5398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98920" y="5384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680080" y="5384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004360" y="5003280"/>
            <a:ext cx="428040" cy="13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이전심사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심사결정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465200" y="3473280"/>
            <a:ext cx="420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959600" y="1797120"/>
            <a:ext cx="52092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093160" y="1812960"/>
            <a:ext cx="420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968240" y="177804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335800" y="1576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1476360" y="1581120"/>
            <a:ext cx="0" cy="9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410080" y="5388120"/>
            <a:ext cx="3194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8305920" y="6362640"/>
          <a:ext cx="150840" cy="20628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305920" y="6362640"/>
                    <a:ext cx="150840" cy="2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0" name=""/>
          <p:cNvGraphicFramePr/>
          <p:nvPr/>
        </p:nvGraphicFramePr>
        <p:xfrm>
          <a:off x="6915240" y="6164280"/>
          <a:ext cx="150840" cy="20628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915240" y="6164280"/>
                    <a:ext cx="150840" cy="2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2" name=""/>
          <p:cNvSpPr/>
          <p:nvPr/>
        </p:nvSpPr>
        <p:spPr>
          <a:xfrm>
            <a:off x="2180160" y="4330800"/>
            <a:ext cx="367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D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643200" y="1844640"/>
            <a:ext cx="313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돋움"/>
              </a:rPr>
              <a:t>10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돋움"/>
              </a:rPr>
              <a:t>10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244360" y="3025080"/>
            <a:ext cx="42804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총투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총투여량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,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투여횟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,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인정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일투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1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일투여량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,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투여횟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,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인정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387360" y="539640"/>
            <a:ext cx="8445600" cy="598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93280" y="29224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93280" y="3989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93280" y="5132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2873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996840" y="1673280"/>
            <a:ext cx="52092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058760" y="168912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019880" y="165420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6991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83832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AR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581280" y="487692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505320" y="5105520"/>
            <a:ext cx="2514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581280" y="5105520"/>
            <a:ext cx="1676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742080" y="27306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19120" y="27464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739560" y="29671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024680" y="29671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735600" y="29527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016760" y="2952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742080" y="22827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797520" y="22986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740280" y="25192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940440" y="2519280"/>
            <a:ext cx="466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735600" y="2505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016760" y="2505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015320" y="3168720"/>
            <a:ext cx="0" cy="33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029360" y="4606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623000" y="4606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8251920" y="4606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451560" y="397944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453360" y="2436480"/>
            <a:ext cx="30636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명세서 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831000" y="5222160"/>
            <a:ext cx="30636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수탁기관 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469280" y="5054040"/>
            <a:ext cx="306360" cy="14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위탁검사직접지급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8030160" y="5253120"/>
            <a:ext cx="428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비고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처리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734160" y="48164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798600" y="483228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731640" y="50529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016760" y="5052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727680" y="50385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000920" y="5038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362720" y="482292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436520" y="483876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353720" y="50594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645320" y="50594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356600" y="50450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623000" y="5045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972560" y="482616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8060400" y="484200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970400" y="50626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8255160" y="5062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966080" y="5048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38960" y="5048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743880" y="39592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821280" y="397512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741000" y="41958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026120" y="4195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737400" y="41814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018200" y="4181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743880" y="35114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799320" y="352728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741000" y="37479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941520" y="3747960"/>
            <a:ext cx="410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73740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0182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012080" y="4387680"/>
            <a:ext cx="0" cy="41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162400" y="23050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228280" y="232092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174280" y="25416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445000" y="2541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156280" y="2527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423040" y="2527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297400" y="2473200"/>
            <a:ext cx="30636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과조정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인정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금액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27712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996320" y="166356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058240" y="1679400"/>
            <a:ext cx="4204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019360" y="164448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336760" y="231624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7013520" y="2066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811840" y="230364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877720" y="231948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809320" y="2540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094440" y="2540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805360" y="25257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086520" y="2525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924520" y="2454120"/>
            <a:ext cx="30636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과조정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인정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건수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951680" y="2284560"/>
            <a:ext cx="52092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8085240" y="2300400"/>
            <a:ext cx="420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960320" y="226548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8240760" y="2063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3008160" y="2055600"/>
            <a:ext cx="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705040" y="273672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782080" y="27525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702520" y="29732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987640" y="29732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698920" y="2959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979720" y="2959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705040" y="22892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798640" y="23050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702520" y="25257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973240" y="25257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698920" y="25113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979720" y="2511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709720" y="34480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776320" y="34639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L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707200" y="36846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992320" y="3684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703600" y="3670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984400" y="3670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570120" y="32986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290760" y="34480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356640" y="346392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302640" y="36846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526200" y="368460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284640" y="3670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51400" y="3670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867120" y="34434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933000" y="345924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864600" y="3679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149720" y="3679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860640" y="36655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141800" y="3665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127400" y="329076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992320" y="3292560"/>
            <a:ext cx="112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628000" y="3618720"/>
            <a:ext cx="428040" cy="15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추가 부담금 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 환급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967920" y="2617920"/>
            <a:ext cx="428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건수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975040" y="3160800"/>
            <a:ext cx="0" cy="28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053520" y="3728160"/>
            <a:ext cx="1158120" cy="17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정차액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결정액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훈청구액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험자 부담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상한액차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상한액초과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급여비용총액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300760" y="2162520"/>
            <a:ext cx="428040" cy="25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이전심사결정사항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정사항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소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262160" y="2073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990720" y="230976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052640" y="2325600"/>
            <a:ext cx="4204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013400" y="229068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258920" y="2060640"/>
            <a:ext cx="6991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516560" y="22924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579560" y="230832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513680" y="25290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795920" y="2529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510080" y="2514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788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V="1">
            <a:off x="4782960" y="2057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610160" y="266976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5429160" y="2069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6081840" y="2060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668600" y="22953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731240" y="231156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665720" y="25322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947960" y="25322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662120" y="25178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940040" y="2517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1935000" y="2060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762200" y="267300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8343720" y="6308640"/>
            <a:ext cx="428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사용유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9" name=""/>
          <p:cNvGraphicFramePr/>
          <p:nvPr/>
        </p:nvGraphicFramePr>
        <p:xfrm>
          <a:off x="8134200" y="5757840"/>
          <a:ext cx="150840" cy="20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34200" y="5757840"/>
                    <a:ext cx="150840" cy="2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1" name=""/>
          <p:cNvGraphicFramePr/>
          <p:nvPr/>
        </p:nvGraphicFramePr>
        <p:xfrm>
          <a:off x="8244000" y="6318360"/>
          <a:ext cx="150840" cy="206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44000" y="6318360"/>
                    <a:ext cx="150840" cy="2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93280" y="29224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93280" y="3989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93280" y="5132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2873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996840" y="166356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058760" y="167940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019880" y="164448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295280" y="1447920"/>
            <a:ext cx="515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83832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AR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581280" y="487692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505320" y="5105520"/>
            <a:ext cx="2514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581280" y="5105520"/>
            <a:ext cx="1676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5656320" y="14475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376960" y="23716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454000" y="2387520"/>
            <a:ext cx="3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U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74440" y="26082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659560" y="2608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370480" y="2593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651640" y="2593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376960" y="19335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432400" y="194940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374800" y="21700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664240" y="21700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370480" y="2155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651640" y="2155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378400" y="30448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470560" y="306072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376600" y="32814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661000" y="3281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372280" y="3267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645160" y="3267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648400" y="2809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451560" y="1447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191280" y="19051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257160" y="1920960"/>
            <a:ext cx="39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188760" y="21416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473880" y="21416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184800" y="2127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465960" y="2127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978520" y="248436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인증결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838760" y="14526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578480" y="19098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644360" y="19256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575600" y="21463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861080" y="21463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572000" y="2131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853160" y="2131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687920" y="2331720"/>
            <a:ext cx="30636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구분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제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998800" y="34052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064680" y="342108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010320" y="36417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281400" y="36417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992320" y="36273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259080" y="3627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286080" y="3278160"/>
            <a:ext cx="657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673440" y="34225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738960" y="343836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670920" y="36590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956040" y="3659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666960" y="36450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948120" y="3645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933720" y="32702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709440" y="3755520"/>
            <a:ext cx="54972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차등지수정산심사결정차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진찰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조제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료차감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진찰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조제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료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978280" y="3790080"/>
            <a:ext cx="671400" cy="10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의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약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사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진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제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일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진찰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제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차등지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276720" y="3178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005280" y="27367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082680" y="275256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002400" y="29732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284640" y="2984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998800" y="2959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279600" y="2959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005280" y="22892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098880" y="230508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003120" y="25257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282840" y="25257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998800" y="25113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279600" y="2511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3305160" y="2060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290600" y="2057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000080" y="2273400"/>
            <a:ext cx="52092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062000" y="228924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23120" y="225432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532600" y="2154600"/>
            <a:ext cx="428040" cy="25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이전심사결정사항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정사항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차등수가관련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293840" y="2060640"/>
            <a:ext cx="2022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781280" y="22827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847160" y="229860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778760" y="25192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063880" y="25192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774800" y="2505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055960" y="2505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V="1">
            <a:off x="2054160" y="2057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908360" y="271728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8T08:21:48Z</dcterms:created>
  <dc:creator>(주)KT인포텍</dc:creator>
  <dc:description/>
  <dc:language>en-US</dc:language>
  <cp:lastModifiedBy>Phillip</cp:lastModifiedBy>
  <cp:lastPrinted>2001-07-05T00:19:08Z</cp:lastPrinted>
  <dcterms:modified xsi:type="dcterms:W3CDTF">2007-05-29T04:36:42Z</dcterms:modified>
  <cp:revision>242</cp:revision>
  <dc:subject/>
  <dc:title>슬라이드 제목 없음</dc:title>
</cp:coreProperties>
</file>