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819800"/>
            <a:ext cx="3027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2014200"/>
            <a:ext cx="302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정신과 정액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928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3216600"/>
            <a:ext cx="6678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84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52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26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648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140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0024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26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955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4640" y="3202920"/>
            <a:ext cx="546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9360" y="30322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6400" y="3048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6840" y="3268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71960" y="3268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240" y="3254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4040" y="3254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259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2960" y="2610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7560" y="283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76640" y="28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240" y="28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4040" y="28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56120" y="1520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7920" y="3483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91160" y="424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56320" y="4260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9000" y="448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3760" y="448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4680" y="44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5840" y="44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6520" y="3011400"/>
            <a:ext cx="793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52920" y="1755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46160" y="1771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0400" y="199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35520" y="199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46800" y="1978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9680" y="197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70640" y="218664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2920" y="15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04680" y="32360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7920" y="3141360"/>
            <a:ext cx="4280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528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2819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0684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404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024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2680" y="304164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0556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060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180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936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3592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3088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6320" y="32227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766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67520" y="282420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4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7200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669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0112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8160" y="3051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8240" y="3271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8336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464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7544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0112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94360" y="2612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8240" y="283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50600" y="283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4640" y="281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75440" y="28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967520" y="1523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69320" y="3486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2560" y="42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68080" y="4264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00760" y="448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85160" y="44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7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77240" y="447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16440" y="46674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43200" y="3027600"/>
            <a:ext cx="4244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기호</a:t>
            </a:r>
            <a:r>
              <a:rPr b="1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512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6440" y="1295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28880" y="1523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0360" y="15001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01760" y="1295280"/>
            <a:ext cx="708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0072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7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8320" y="28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912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1000" y="30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0516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8632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5772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2892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3040" y="25956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516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632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0" y="4060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8040" y="407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20640" y="429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5400" y="429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428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748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28414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7440" y="299160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9320" y="3286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052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24880" y="2603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8708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3480" y="28242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372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11172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376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9040" y="2918520"/>
            <a:ext cx="140148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258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4000" y="2603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7656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224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6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90084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62880" y="2809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59080" y="2797560"/>
            <a:ext cx="6714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낮병동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의료급여일수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2600" y="26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8840" y="2616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0" y="28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3520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6480" y="282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41800" y="295560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적용수가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1800" y="2603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9400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5932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434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31828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996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52960" y="153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5840" y="154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50080" y="176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35200" y="176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6480" y="1752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936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0320" y="196128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2260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696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52040" y="2603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352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7956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372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83816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63196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79000" y="1290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1080" y="15192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68760" y="1495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56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6440" y="1279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1508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96200" y="14842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1760" y="1279440"/>
            <a:ext cx="552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0480" y="2803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8440" y="2819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67960" y="3040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53080" y="3040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302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5160" y="302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70480" y="236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2381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68680" y="2602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260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4000" y="258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5160" y="258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4048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3479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45360" y="34956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78040" y="3716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62440" y="371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73720" y="3701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54520" y="370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66040" y="1514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0760" y="15303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63160" y="1751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8640" y="1751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9560" y="1736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32440" y="173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127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2803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649840" y="128736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355840" y="127800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76480" y="2320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53160" y="2336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73960" y="255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55840" y="256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70000" y="2543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51160" y="254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76480" y="188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22560" y="1898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93400" y="2119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3520" y="211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70000" y="210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51160" y="210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5116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2131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4022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87640" y="3130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62880" y="3146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85480" y="3367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70240" y="336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116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47920" y="295272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8040" y="2952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97120" y="3143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2720" y="3159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95320" y="3379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9720" y="3379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90640" y="3365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36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359080" y="3571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16080" y="4216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93120" y="42321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3560" y="445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95440" y="44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09960" y="4438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443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160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62160" y="3794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264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05800" y="4014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099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284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86080" y="46576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5160" y="4857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10040" y="4873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36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776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8680" y="507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0984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82800" y="4857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58760" y="4873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8100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6540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76680" y="5079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5748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86080" y="474336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52800" y="47433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507996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6320" y="48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63360" y="4875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3440" y="50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5680" y="51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79840" y="508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640" y="508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86320" y="442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2040" y="4437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02520" y="4657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15280" y="46576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79840" y="4643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60640" y="46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55960" y="53006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5040" y="5500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028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02520" y="5737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764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9892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7972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53040" y="5500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792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50880" y="573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3564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4656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2772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55960" y="538632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22680" y="5386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47200" y="45079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48720" y="5415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dc:language>en-US</dc:language>
  <cp:lastModifiedBy>Phillip</cp:lastModifiedBy>
  <cp:lastPrinted>2001-03-16T09:01:46Z</cp:lastPrinted>
  <dcterms:modified xsi:type="dcterms:W3CDTF">2007-05-30T04:49:06Z</dcterms:modified>
  <cp:revision>135</cp:revision>
  <dc:subject/>
  <dc:title>슬라이드 제목 없음</dc:title>
</cp:coreProperties>
</file>