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50B-FE90-446A-AC9E-A7ABF146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79E-FC2C-4E3F-ACAC-6C3583F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6FA-B822-443D-ACC9-EDEA4D6E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2CB-2318-40A0-950A-02EE8958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BF0-0971-4DF0-BACE-96BAEFCC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04E-5942-475E-A0B2-D3FAF65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756-7D90-4472-AD65-0BF319C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6B3-B7B7-4447-BDB3-DEB2E43D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5EE-6076-423B-B667-E65EBB8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F66-1CAC-4952-96E0-7F3A9C4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012-CF17-4180-880D-DAFB764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5E8-FE66-4180-8558-D2E19E1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8C09D2-3C98-479A-A2E3-291E88B410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456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3772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240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680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4808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96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6960" y="1585440"/>
            <a:ext cx="30636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건강보험요양급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용 청구명세서등 접수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0000" y="1803960"/>
            <a:ext cx="30636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구분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일자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2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5480" y="2755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9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48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6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590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71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7148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680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304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0500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8940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068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14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577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84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4000" y="27622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63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610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316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29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5004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828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72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5616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4356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9592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5004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148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944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8944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4356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1356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81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1488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1160" y="3225960"/>
            <a:ext cx="30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2840" y="32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3179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350820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1520" y="3524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8520" y="3754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6800" y="3745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730680"/>
            <a:ext cx="569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03840" y="3736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6840" y="2970360"/>
            <a:ext cx="3063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9280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020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9028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72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748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9280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8640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902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6100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668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6748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5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94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18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02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05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8640" y="2280240"/>
            <a:ext cx="30636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3420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9612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724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04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7372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0760" y="3787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0" y="4008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632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760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4840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73720" y="3333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67320" y="3349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71200" y="357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66320" y="3570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600" y="3556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48400" y="355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562800" y="30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73720" y="4956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50760" y="4971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0920" y="5192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6320" y="5192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7600" y="5178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48400" y="517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73720" y="451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67320" y="4533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12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5240" y="47545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67600" y="474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4840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3720" y="4213080"/>
            <a:ext cx="0" cy="3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540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2460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1480" y="5772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66360" y="5788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89680" y="6008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83440" y="6008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85000" y="5994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5520" y="5994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7720" y="39344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6480" y="4597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8400" y="4613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8880" y="4578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96120" y="436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4000" y="4352760"/>
            <a:ext cx="166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3280" y="44604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2920" y="3751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2940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96440" y="4845960"/>
            <a:ext cx="428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8040" y="257040"/>
            <a:ext cx="4471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74000" y="576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0680" y="578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0840" y="600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6600" y="600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59911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48680" y="59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74000" y="533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7600" y="534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1560" y="5567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2320" y="5567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67520" y="555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48680" y="555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62800" y="577224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340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447920"/>
            <a:ext cx="644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65600" y="351792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7040" y="4146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2560" y="4162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4520" y="4383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79640" y="438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36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71720" y="436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8640" y="4137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4520" y="41529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6840" y="4373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51240" y="437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35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43320" y="43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38640" y="3517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82840" y="412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9080" y="41432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80320" y="436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5440" y="436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434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7520" y="434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52840" y="3508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960" y="415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4040" y="437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8916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435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8124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66840" y="35146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13280" y="35146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508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10960" y="4159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2920" y="4379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2768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38600" y="436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1976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505320"/>
            <a:ext cx="354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8320" y="46576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43200" y="4470840"/>
            <a:ext cx="67140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5560" y="4657680"/>
            <a:ext cx="30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48520" y="4376520"/>
            <a:ext cx="42804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번호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65680" y="45334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뢰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3640" y="4582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06680" y="45640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1980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73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668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71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56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40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43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18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88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93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944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865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118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54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100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804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865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3432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9120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215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672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940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04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150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96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6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85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33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8056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92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267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93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3120" y="27687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68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2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532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60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610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61040" y="3163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292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51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3740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76200" y="37558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23200" y="3720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021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950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96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847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68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7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296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Phillip</cp:lastModifiedBy>
  <cp:lastPrinted>2001-07-05T00:15:44Z</cp:lastPrinted>
  <dcterms:modified xsi:type="dcterms:W3CDTF">2005-06-22T12:31:32Z</dcterms:modified>
  <cp:revision>73</cp:revision>
  <dc:subject/>
  <dc:title>슬라이드 제목 없음</dc:title>
</cp:coreProperties>
</file>