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611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D3E-AB5E-4497-8D02-14314C9A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71D-BF7F-4EFC-AAD0-AA0CAED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460-2441-448D-B768-22711EE1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1CA-FC29-408E-B1A2-38EAED4F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6BF-AE43-4DE5-8457-A1024B7C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446-C1AA-40D5-8DCB-990A3B5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82D-3D1A-433C-AD98-60B49B89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FBF-57C2-4B7E-A128-EC751847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359-B6E7-4ED8-8ADE-F449506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0DF-B498-4DAE-B677-9BD9F68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266-F821-45E5-8793-DC1B34B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17C-CE91-44E9-9959-2C34217C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34A369-8877-40E8-AEA4-1FF8A84E3A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8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34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5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0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0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860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772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7088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59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03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124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827720"/>
            <a:ext cx="30636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심사결과 통보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괄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4240" y="18882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8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928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3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98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82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95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876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464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660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136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6228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344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196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980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6040" y="2774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476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24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332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44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007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6084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9440" y="2673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80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472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968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084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2600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840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3876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5472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0708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340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26240" y="146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312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8752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18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850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01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810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75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653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43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472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78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22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73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2080" y="3176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54720" y="3938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1760" y="39546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52200" y="417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40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48240" y="416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9400" y="416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4720" y="35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483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1360" y="37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292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8240" y="372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940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056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48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10760" y="2774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430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274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876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95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78480" y="468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33200" y="47023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5120" y="4923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61080" y="492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2000" y="490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45240" y="490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228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7360" y="1679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976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88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9616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904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2840" y="3129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74960" y="3203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64400" y="328140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41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2360" y="2678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9520" y="2903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0240" y="2898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976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04120" y="2224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68920" y="223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0960" y="246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7080" y="24512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244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0000" y="244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076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326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316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40760" y="14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6440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04120" y="351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532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30040" y="3753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6720" y="375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7640" y="373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70520" y="373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64400" y="29005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75440" y="3510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30160" y="352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01360" y="374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3746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68960" y="373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2200" y="373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0000" y="35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245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57200" y="37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0416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3880" y="372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1676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5720" y="32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0920" y="327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9400" y="4238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44160" y="3834360"/>
            <a:ext cx="42804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62480" y="39560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62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0120" y="26744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65920" y="385056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0760" y="3497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2680" y="35132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73160" y="3478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10760" y="329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7400" y="19936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9920" y="7333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460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498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4272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47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2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43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16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19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3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74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59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0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1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76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70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74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4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0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1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9912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664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76640" y="378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7484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924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70520" y="4003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132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23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20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6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9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584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9000" y="2759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340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87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193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26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76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84440" y="3163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38120" y="3548160"/>
            <a:ext cx="102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09960" y="376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4320" y="3782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6800" y="400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4760" y="400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03480" y="398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76360" y="398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052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81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2440" y="377820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4440" y="37940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61080" y="37591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28360" y="4292640"/>
            <a:ext cx="127980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164440" y="61372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4440" y="6137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825336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448000" y="523872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8000" y="52387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22:49Z</cp:lastPrinted>
  <dcterms:modified xsi:type="dcterms:W3CDTF">2002-07-10T09:31:32Z</dcterms:modified>
  <cp:revision>74</cp:revision>
  <dc:subject/>
  <dc:title>슬라이드 제목 없음</dc:title>
</cp:coreProperties>
</file>