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355-547A-499E-8C3E-C1CCF9D0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2FA-2EDD-49EC-8971-090D4A85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041-2968-4A3F-BD38-8AC5FE0F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2E3-F382-476E-9164-E87059BA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680-C74A-41A9-BB53-B441DDD3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772-CDF6-4865-A9E5-C795F5D9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0A1-BA20-4CC4-84FA-EC7FC779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0A4-1C03-4B05-A645-9614FBE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812-C738-4725-B6ED-89C881BE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A10-9BD1-41B0-93D8-8A4E3D9F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0F9-64C7-4FD3-BD3A-24A637A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233-7378-4027-A6A8-77213316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11BA35-611C-4D83-95D2-D7CDB77233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605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4382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935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비용 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702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1480" y="2752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7720" y="27687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09680" y="2989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94080" y="298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5360" y="297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2400" y="1460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8624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56200" y="32288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444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920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41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27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38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11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14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2228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68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7988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392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890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03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732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22720" y="3139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156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8632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208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82360" y="286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0960" y="286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020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2560" y="28400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6320" y="2179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51480" y="2195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83800" y="241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98000" y="24163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80200" y="240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24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649840" y="143784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568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9200" y="383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4720" y="3854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97400" y="4075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8180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9000" y="40608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7388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43920" y="45277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2560" y="324000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1120" y="3468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44280" y="3484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824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96200" y="3705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4640" y="3691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7520" y="369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7400" y="497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00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6344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0232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1280" y="519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7400" y="4527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3256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496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6440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61280" y="4749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5180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4676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2948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0568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040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388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8828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4368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7244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6520" y="383508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6312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1364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5320" y="59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392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9044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1024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69200" y="615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5320" y="5489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4048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280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2480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69200" y="571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092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5468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3740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99280" y="16588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61280" y="16747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07920" y="16398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7584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78720" y="3839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37400" y="421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6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8840" y="38545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6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4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5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6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63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6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96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5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18320" y="3244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0520" y="3890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51800" y="440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0040" y="145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9760" y="190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15640" y="1924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7240" y="214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214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130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24440" y="213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59200" y="233028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82000" y="4624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44000" y="464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90640" y="460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1976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1600" y="260280"/>
            <a:ext cx="871236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080" y="4046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9000" y="83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800" y="10666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800" y="10825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440" y="1047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240" y="839880"/>
            <a:ext cx="749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1720" y="4096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5280" y="3624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0800" y="363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3480" y="386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4520" y="386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99160" y="38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8280" y="38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9960" y="362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45840" y="3643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77440" y="38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8000" y="3863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3480" y="38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54640" y="38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17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5200" y="19922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7200" y="20080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3840" y="1973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000" y="1762200"/>
            <a:ext cx="755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45560" y="10652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8760" y="10810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4200" y="1046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21760" y="8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89080" y="296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66120" y="298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86560" y="320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844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82600" y="31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63760" y="31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9080" y="251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8268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6560" y="275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8240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82600" y="27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6376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04760" y="1733400"/>
            <a:ext cx="26182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기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86280" y="40122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9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62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55680" y="36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865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16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26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637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3635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7960" y="3651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9560" y="3871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43360" y="38718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85960" y="3857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6760" y="385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54520" y="3772080"/>
            <a:ext cx="14014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본인부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02160" y="406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79920" y="40798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99640" y="4300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84760" y="430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6040" y="428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76840" y="428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02160" y="3616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9576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0036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92240" y="3852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96040" y="38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7684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96160" y="516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72840" y="5180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93280" y="540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78400" y="540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89680" y="538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70480" y="53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0864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02240" y="474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612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4962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0216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8332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78640" y="450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6892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34800" y="5175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6400" y="539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280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2296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8840" y="5175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21160" y="5396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0556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1684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764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54480" y="4220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17920" y="45561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43360" y="5627880"/>
            <a:ext cx="5497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79360" y="575316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7760" y="363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3280" y="3648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5240" y="386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70720" y="3868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85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244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896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57880" y="347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43600" y="347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5956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5284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828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48360" y="3654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8104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54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763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75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94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5320" y="3654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872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168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29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6376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91200" y="23605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0200" y="20750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670800" y="620712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70800" y="62071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8317080" y="6372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7080" y="6372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8405640" y="63594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8204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47920" y="517860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7916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6464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7556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94720" y="564804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44000" y="516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9880" y="5183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41480" y="540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526600" y="540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7520" y="538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518680" y="53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0540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71280" y="517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0288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8800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892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8008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04360" y="50032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55840" y="3473280"/>
            <a:ext cx="42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66080" y="19764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99280" y="199224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74720" y="1957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42280" y="175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476360" y="1773360"/>
            <a:ext cx="0" cy="72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538812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440" y="2809440"/>
            <a:ext cx="5497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84920" y="3879000"/>
            <a:ext cx="67140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363760" y="4802040"/>
          <a:ext cx="150840" cy="206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3760" y="480204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237280" y="2884320"/>
          <a:ext cx="150840" cy="2066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37280" y="288432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85440" y="389952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09560" y="387900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2960" y="219564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77360" y="218916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41720" y="2306520"/>
          <a:ext cx="150840" cy="206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41720" y="230652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260880" y="2306520"/>
          <a:ext cx="150480" cy="2066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60880" y="2306520"/>
                    <a:ext cx="15048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6908760" y="6140520"/>
          <a:ext cx="150840" cy="2062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8760" y="61405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3020040" y="4056480"/>
            <a:ext cx="4280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88680" y="4557600"/>
            <a:ext cx="42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78200" y="1932120"/>
            <a:ext cx="31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244360" y="3025080"/>
            <a:ext cx="4280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968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587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98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1216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7408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3520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8112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959600" y="2284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093160" y="230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68240" y="226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48680" y="20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152880" y="20556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940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2644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4688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4328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4940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430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68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1796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5444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2104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5192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4796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912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1484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354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100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470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705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957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1940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8564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1688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0200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1328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940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8004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1200" y="3284640"/>
            <a:ext cx="11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25200" y="3637800"/>
            <a:ext cx="54972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67640" y="1841760"/>
            <a:ext cx="4280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대상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3056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38120" y="3770640"/>
            <a:ext cx="16448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기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4548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23097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52640" y="23256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13400" y="229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2060640"/>
            <a:ext cx="69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6840" y="2730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23880" y="2746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44320" y="2967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2944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4036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2152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4684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0228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504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6896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4036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2152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2008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3412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2812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566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512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8656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576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74040" y="5054040"/>
            <a:ext cx="306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3492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3892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0336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3640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152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3244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10568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6748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4128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5884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5008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6136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2812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7732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6516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7516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5992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07084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4408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4864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926040" y="39751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45760" y="41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30880" y="419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2160" y="418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22960" y="41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48640" y="351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0408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576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4628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4216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296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1504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6716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3040" y="232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7904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4976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6104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2780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02160" y="247320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1182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1660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82480" y="2319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91408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99200" y="2540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10120" y="25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9128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29280" y="245412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21320" y="229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84320" y="2308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18800" y="252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00680" y="252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148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92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88808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43360" y="2674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533920" y="206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186600" y="206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918480" y="2076480"/>
          <a:ext cx="15048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18480" y="20764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166860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31240" y="2311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6572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4796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6212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4004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93500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62200" y="26730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233960" y="515160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3960" y="51516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8272440" y="623736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8172360" y="624060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72360" y="62406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5280" y="1447920"/>
            <a:ext cx="47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2959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936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1408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992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101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9128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166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720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144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038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101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9128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18040" y="30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102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162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06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115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848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880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120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3092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9680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284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1352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2444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056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1816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784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1812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840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1524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0072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116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9280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275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90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00080" y="22734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62000" y="2289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23120" y="2254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93840" y="2060640"/>
            <a:ext cx="14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812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471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787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638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748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559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541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8360" y="2717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750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408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65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576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685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352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622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496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151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7120" y="3659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322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31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43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099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5256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81120" y="2736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58880" y="27525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7860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60840" y="298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75000" y="295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5580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8112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750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793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590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7500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558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7813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7-05-29T04:37:26Z</dcterms:modified>
  <cp:revision>223</cp:revision>
  <dc:subject/>
  <dc:title>슬라이드 제목 없음</dc:title>
</cp:coreProperties>
</file>