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4C91-EE74-453B-9D18-D386C712A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71C3-4B92-40C4-9BB8-AB9D3883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4DE8-2A59-4131-8CA4-44BD02E8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F2AE-5922-44CD-A371-ED379293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AE1F-D575-4C20-8460-2073E3DA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D20A-31FE-4BD9-BC9D-CFAFB844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8797-1EC7-4967-B370-E140EB7F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7885-35D4-451C-8611-0F65E144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8C5A-F1E6-468E-91F8-D0EF888A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45E0-42BE-407B-A73A-906A38D5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332C-9D78-455E-927A-0CB2E2AA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CDC6-6C29-454A-9F7F-2BA174AD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73058BC-86A8-4DF8-83BD-FFA6BBC137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59920" y="76212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CL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2564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31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082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12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3280" y="3075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1916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1447920"/>
            <a:ext cx="711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59120" y="2746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1920" y="27622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66320" y="2982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1720" y="29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53000" y="2968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25880" y="296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859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6864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61520" y="2755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7548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124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6216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3540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3480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0194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827600" y="1447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67160" y="3276720"/>
            <a:ext cx="3063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896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1332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5644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4156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257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289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22280" y="236232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032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6766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9220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66360" y="2759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8968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7480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86080" y="2965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5896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38520" y="26575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15560" y="26733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36000" y="2894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18240" y="2905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32400" y="2879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13200" y="2879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38520" y="2219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32120" y="2235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36720" y="2455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07080" y="2455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32400" y="2441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13200" y="244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86680" y="167328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48600" y="168912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09720" y="16542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413920" y="1457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808520" y="310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9960" y="3219480"/>
            <a:ext cx="78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12760" y="1933200"/>
            <a:ext cx="306360" cy="18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자문서참조번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번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11560" y="3240000"/>
            <a:ext cx="67140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수신기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기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60840" y="3230640"/>
            <a:ext cx="1036440" cy="29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단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형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분야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종별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진료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40840" y="318456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년월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22680" y="3343320"/>
            <a:ext cx="5572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07640" y="33591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44640" y="3589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52920" y="35798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16560" y="3565440"/>
            <a:ext cx="569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09960" y="357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09960" y="3586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03880" y="3343320"/>
            <a:ext cx="5572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88480" y="33591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25840" y="3589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357984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97400" y="3565440"/>
            <a:ext cx="569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91160" y="357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10240" y="3586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581800" y="320976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65520" y="1875960"/>
            <a:ext cx="306360" cy="23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용심사청구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28172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74600" y="27558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8892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09240" y="29764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75600" y="2962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4848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5614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80240" y="3276720"/>
            <a:ext cx="3063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6009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1656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90720" y="27590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1404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9916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0440" y="2965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8332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29440" y="2988360"/>
            <a:ext cx="671400" cy="16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약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수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현행미사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차등지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건수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64200" y="3251160"/>
            <a:ext cx="1279800" cy="21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차등수가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의료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 일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4080" y="257040"/>
            <a:ext cx="4366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642924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332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87120" y="16984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080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9592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0720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800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833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31400" y="202248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24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0636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683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50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1447920"/>
            <a:ext cx="373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CL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5920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52440" y="169848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5668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4180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5308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2596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292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44960" y="2959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07600" y="297504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4244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1316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3181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0524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44960" y="2521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2416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4316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9912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3848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0524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253040" y="145080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00560" y="340344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44960" y="3781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96080" y="37972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43160" y="4017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13160" y="4017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4003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05240" y="400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69240" y="27558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9364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5932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4348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5179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960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89400" y="32126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91080" y="28702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7184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4360" y="2755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7868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5444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6536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3860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8512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70360" y="3276720"/>
            <a:ext cx="3063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1798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9540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69200" y="2759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9288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7800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89280" y="2965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6216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9440" y="3092760"/>
            <a:ext cx="5497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대행청구 단체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작성자 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09560" y="3230640"/>
            <a:ext cx="54972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검사승인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작성자 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642924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dc:language>en-US</dc:language>
  <cp:lastModifiedBy>Phillip</cp:lastModifiedBy>
  <cp:lastPrinted>2001-07-04T10:58:58Z</cp:lastPrinted>
  <dcterms:modified xsi:type="dcterms:W3CDTF">2007-05-21T08:06:32Z</dcterms:modified>
  <cp:revision>93</cp:revision>
  <dc:subject/>
  <dc:title>슬라이드 제목 없음</dc:title>
</cp:coreProperties>
</file>