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CF5-3CF7-4579-8727-689AA417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75F-B8E5-48EE-B270-27CFAEA7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9EC-5C47-4C47-BDC2-423787C2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580-7429-4587-967C-138FF4CE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0A6-CB79-421D-868B-1797913E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86C-5C61-43B4-86D8-6A4493E5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B2D-465B-47E6-AB68-7575BC39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8F4-0A3C-4FEA-95C5-8EEC7509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9A9-4DF6-460A-A1CA-646E44E3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780-72BB-4E50-860D-14286E7B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2EB-0A51-4E3A-AE89-5CC841B7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B2B-C399-4410-835D-6EC3B262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1826D1-E088-4324-9CB7-A6C75A5BF3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73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8912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09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09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895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1895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2640" y="1663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7360" y="1679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80120" y="190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5240" y="190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1886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49400" y="188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3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2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2552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9968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30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81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1940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922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95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2564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9440" y="27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38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082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24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116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580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9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4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78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356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4040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0" y="318132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4688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116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447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150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04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12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0716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5624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1400" y="3635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54440" y="3855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3884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4976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3092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92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229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9676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204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055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1648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97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130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06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4400" y="27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680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532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644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373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564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1844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650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1068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24640" y="1925280"/>
            <a:ext cx="428040" cy="17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21920" y="3022560"/>
            <a:ext cx="549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05560" y="3120120"/>
            <a:ext cx="42804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공상 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74440" y="3071520"/>
            <a:ext cx="42804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21480" y="325260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22080" y="3057120"/>
            <a:ext cx="42804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3200" y="1913400"/>
            <a:ext cx="42804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국용 요양급여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16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40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339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354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9280" y="2759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3332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80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18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3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56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0940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34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78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291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020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9053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53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916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3356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179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292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021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358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09600" y="16984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32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184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296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02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058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036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388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81160" y="144792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3768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04320" y="16923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65960" y="17082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12960" y="1673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668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83360" y="2971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38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928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8136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668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00280" y="2533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424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59040" y="275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8136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8288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76320" y="34005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6040" y="377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0000" y="3794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22880" y="40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98640" y="40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9560" y="400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9072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86040" y="3578400"/>
            <a:ext cx="58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6800" y="3768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72680" y="3784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14360" y="4005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9040" y="4005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399096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81120" y="3990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7080" y="3578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261288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33400" y="42084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79520" y="4028040"/>
            <a:ext cx="30636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복조제횟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 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1960" y="45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9000" y="45626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9440" y="47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4560" y="47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76892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76640" y="476892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1960" y="410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95560" y="4124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08800" y="434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2640" y="434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433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76640" y="433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71960" y="397836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260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0000" y="56149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8972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484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86120" y="5821200"/>
            <a:ext cx="6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6692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2600" y="5160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5840" y="5176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00160" y="5397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83760" y="53974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86120" y="5383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66920" y="538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10000" y="5719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37000" y="4571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116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7040" y="5614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2800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376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14680" y="5821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9584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59080" y="5599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53400" y="5614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6628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4168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52960" y="582120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3376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708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92040" y="56149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14640" y="5835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8968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5821200"/>
            <a:ext cx="71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8176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45000" y="5594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30320" y="5610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2560" y="5830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27600" y="5830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9680" y="581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052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47560" y="29718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680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312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6404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4520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7052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64120" y="2533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7808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1560" y="27543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6404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520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19264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40160" y="34005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79880" y="377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74200" y="3794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87440" y="4014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62480" y="40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73760" y="4000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456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26000" y="2546280"/>
            <a:ext cx="306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991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5316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7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817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659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9403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0240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0540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60480" y="27558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19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800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721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546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0864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485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0292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6584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3152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153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889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518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19760" y="30888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투약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37520" y="2978280"/>
            <a:ext cx="306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투약일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212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9508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8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03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876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90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4872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31080" y="165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86160" y="1673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47640" y="189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13680" y="18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97840" y="187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1879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82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824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0960" y="5821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92080" y="4792680"/>
            <a:ext cx="5497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38280" y="49928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1160" y="144792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08160" y="1433520"/>
            <a:ext cx="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34280" y="26654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628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0816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232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03480" y="2871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268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70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78280" y="2448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2320" y="243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0348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09720" y="3763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67320" y="3780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7200" y="400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92320" y="40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84400" y="39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09720" y="3325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93960" y="3341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07200" y="356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30400" y="356220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03240" y="354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84400" y="35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82840" y="2690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97040" y="3760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91720" y="377676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4520" y="399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79640" y="3997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3983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71720" y="39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12960" y="3983040"/>
            <a:ext cx="84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2640" y="38080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90640" y="4878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96840" y="4894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88120" y="511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73240" y="511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4520" y="5100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65320" y="51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90640" y="4440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36720" y="4456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8120" y="4676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51920" y="46767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84520" y="46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65320" y="46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089080" y="42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00360" y="554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73800" y="55641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97480" y="578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82960" y="578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3880" y="576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66760" y="577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63880" y="532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65320" y="5410080"/>
            <a:ext cx="37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6760" y="3625560"/>
            <a:ext cx="5497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48906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2320" y="5580000"/>
            <a:ext cx="4280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4760" y="555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46640" y="556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42960" y="5789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27360" y="5789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11520" y="577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1476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01880" y="554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4480" y="55609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99360" y="578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84480" y="578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68640" y="576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59360" y="555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33520" y="5573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756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4196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2612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87920" y="555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61720" y="55738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8612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7052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5468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73320" y="55483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47120" y="5564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70800" y="578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5920" y="578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3600" y="497592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30800" y="555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32680" y="5573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2864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1340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9756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4332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0" y="54198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38720" y="54198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42080" y="541332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60360" y="460116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28000" y="47260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19960" y="2730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84040" y="27464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37240" y="2967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0256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8672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689960" y="143784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2320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06160" y="275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800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03440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182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993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54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625440" y="3111840"/>
            <a:ext cx="793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65920" y="165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20640" y="1673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82120" y="189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48520" y="18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32680" y="187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69160" y="1879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16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0308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448840" y="1444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2960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91600" y="16956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23824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32160" y="576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68360" y="5767560"/>
            <a:ext cx="38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81160" y="14479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5884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2612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84080" y="29718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236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50872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1964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0080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2612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91280" y="25336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2396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94320" y="275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964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0080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4864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04040" y="3244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35480" y="3632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01000" y="3648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33680" y="3868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18080" y="386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29360" y="3854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1016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9752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3036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727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57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420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45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96000" y="2955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26548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6120" y="24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6280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324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6548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79640" y="272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6044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86120" y="2060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31840" y="207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0304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51080" y="22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28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6044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6044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3280" y="2309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328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96920" y="3308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7252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9512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7952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90800" y="3530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7160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5756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5768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06760" y="3321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8200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0460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8936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00280" y="3543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8144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26836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25720" y="4394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0276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2320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0508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19240" y="4616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9248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25720" y="3956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180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228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1544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19240" y="417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9248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28924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4480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1932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4264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2740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1948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9244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6840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028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97504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68596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6712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95360" y="4921200"/>
            <a:ext cx="66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6244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664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00360" y="525780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14680" y="50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9208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1216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9404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0820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8936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14680" y="459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6076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3124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4400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0820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8936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78468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3376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0900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3124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636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2728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0844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81400" y="5678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25664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7960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6400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75280" y="590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5608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8468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5140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7556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77080" y="5592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4T11:21:17Z</cp:lastPrinted>
  <dcterms:modified xsi:type="dcterms:W3CDTF">2007-05-29T04:25:53Z</dcterms:modified>
  <cp:revision>106</cp:revision>
  <dc:subject/>
  <dc:title>슬라이드 제목 없음</dc:title>
</cp:coreProperties>
</file>