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CD3-5D86-4BA3-8601-873D7C45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B92-C0A2-4175-95CA-49AEC1DD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A503-C1DE-4017-B6BF-EAFFA3FB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0DCB-02B6-4748-A571-5810093C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DE9-8630-477A-8A9B-20354D4C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AC4-4E9E-4412-8E05-7A7495B1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44D-CEAA-42AC-BDDD-EF981CC0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34A4-AF10-4396-963C-5ED6D7EA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026-2FBD-4242-A4F0-6BA3C814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4B3-197B-4181-9EB7-C431D65D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C17-48A0-4279-8DB4-9830FF8A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1EF-0C3D-4072-AA8A-8053EDEE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CD3DE7E-B94E-4A83-81D4-91BF3C696C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426960"/>
            <a:ext cx="8445600" cy="617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61920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156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65160" y="158580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7480" y="180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82600" y="180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3840" y="12589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179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7640" y="4181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7640" y="54770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62080" y="133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60640" y="1335240"/>
            <a:ext cx="718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00480" y="2558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84000" y="25750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97960" y="2795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3080" y="279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94000" y="2781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7240" y="278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36920" y="1798560"/>
            <a:ext cx="306360" cy="21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원외처방 약제비 심사결과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4720" y="179460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60640" y="179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255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240" y="25686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97840" y="2789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82960" y="278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93880" y="277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67120" y="277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18080" y="2544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04120" y="256068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13760" y="278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62360" y="27813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11600" y="2766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63960" y="276696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18080" y="2106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2880" y="2122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560" y="2343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29760" y="234324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11600" y="2328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63960" y="2328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81600" y="1335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60600" y="308916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19200" y="156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3560" y="15858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16680" y="180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01800" y="180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2720" y="179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85960" y="179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89200" y="133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197000" y="234072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11720" y="30020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0320" y="87804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351160" y="1344240"/>
            <a:ext cx="0" cy="12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81160" y="25560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54240" y="2571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78640" y="2792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3760" y="2792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75040" y="277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47920" y="277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36680" y="3003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8360" y="2778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88040" y="3397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53560" y="34131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85880" y="3633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70640" y="3633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1560" y="3619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3619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32400" y="387360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46680" y="3171960"/>
            <a:ext cx="368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99000" y="3395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2160" y="3411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96480" y="3632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81600" y="3632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92520" y="3618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65760" y="3618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97200" y="2835720"/>
            <a:ext cx="30636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관 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6880" y="3762000"/>
            <a:ext cx="9147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69320" y="15667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31320" y="15825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77960" y="1547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45520" y="1336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72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1592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03960" y="38700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968560" y="134316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76600" y="134316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00800" y="4510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67400" y="4525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12680" y="4746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83400" y="4746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94680" y="4732200"/>
            <a:ext cx="73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61440" y="473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2800" y="4664880"/>
            <a:ext cx="67140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환수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부담환수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조정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80160" y="4282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07280" y="3844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4320" y="38606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04760" y="4081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86640" y="409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00800" y="4067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81960" y="406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7280" y="3398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00880" y="341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04760" y="363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7040" y="3635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0800" y="3621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361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607160" y="316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12000" y="3383640"/>
            <a:ext cx="3063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조정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66240" y="34020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27880" y="34178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74880" y="33829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542440" y="3171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89320" y="1339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9040" y="1797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4920" y="1812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6520" y="203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11640" y="2033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2560" y="201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03720" y="201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221904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93280" y="3606840"/>
            <a:ext cx="550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F09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554800" y="3161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64120" y="3819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2720" y="3835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60160" y="4060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99040" y="4056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58000" y="4041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4120" y="3381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29280" y="339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71680" y="361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61120" y="3618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58000" y="3603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48520" y="360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43480" y="4065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2620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1480" y="4518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76200" y="4533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19680" y="4754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04080" y="4754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15000" y="47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88240" y="474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60560" y="358200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당담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42080" y="4932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234120" y="3161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26200" y="42609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75280" y="4519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31080" y="4535640"/>
            <a:ext cx="533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73480" y="4756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57880" y="475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69160" y="4741920"/>
            <a:ext cx="6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2040" y="47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5680" y="45115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1200" y="45277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17560" y="4748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88280" y="4748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99560" y="4734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65960" y="473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12040" y="4850640"/>
            <a:ext cx="306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7360" y="404640"/>
            <a:ext cx="8445600" cy="604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360" y="1152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3280" y="1685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3280" y="2787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3280" y="3854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3280" y="4997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87360" y="1312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6840" y="1547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58760" y="15638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19880" y="15289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87360" y="1312920"/>
            <a:ext cx="702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38320" y="596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4741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970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87360" y="199872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2006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04760" y="224172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225756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7800" y="2222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87760" y="2770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3840" y="2786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04320" y="3006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09160" y="30067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81640" y="2992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62440" y="2992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77000" y="2640600"/>
            <a:ext cx="3063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759200" y="3648240"/>
            <a:ext cx="0" cy="18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08640" y="37195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30680" y="37353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06120" y="395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02400" y="3948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02520" y="394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07080" y="39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08640" y="3278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2240" y="3294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5200" y="3514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06640" y="351468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02520" y="3494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88000" y="34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96080" y="37303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608880" y="417960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4520" y="3833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60120" y="38498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82000" y="4070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67120" y="4070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78400" y="4056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59200" y="4056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64240" y="3722760"/>
            <a:ext cx="176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61560" y="423828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43680" y="3832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18920" y="3848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40800" y="406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30960" y="4064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37200" y="4054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23040" y="404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56280" y="4179600"/>
            <a:ext cx="6714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87760" y="3213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64080" y="3228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85240" y="3449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67120" y="346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81640" y="3435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62440" y="343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3280" y="2649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20320" y="2665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4040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2264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36800" y="2871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1760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3280" y="2211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36520" y="2236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40400" y="2457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46320" y="244332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36800" y="2443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7600" y="2443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11480" y="3100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6160" y="3336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12040" y="3352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43640" y="3573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28760" y="357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0040" y="3559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20840" y="355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49600" y="3642840"/>
            <a:ext cx="67140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증 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98240" y="2517120"/>
            <a:ext cx="549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기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기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216160" y="1996920"/>
            <a:ext cx="0" cy="2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06800" y="3335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72320" y="3351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04280" y="3571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89400" y="3571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00320" y="3557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81480" y="3557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85560" y="3565800"/>
            <a:ext cx="549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환수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부담환수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12920" y="3214800"/>
            <a:ext cx="228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73560" y="321948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93960" y="3338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59840" y="335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92160" y="3575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48480" y="35751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7840" y="3560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68640" y="356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0720" y="3222720"/>
            <a:ext cx="0" cy="11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42200" y="3741480"/>
            <a:ext cx="4280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6560" y="372600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9520" y="4811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06200" y="48276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26640" y="5048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22920" y="5040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3040" y="5033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27960" y="503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29520" y="4373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06920" y="4389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45720" y="4610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23040" y="458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08880" y="458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86560" y="460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34200" y="5479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09440" y="54957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31680" y="5716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9448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27720" y="5702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13560" y="570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63600" y="5272200"/>
            <a:ext cx="549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176320" y="519912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의약품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53240" y="54799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728480" y="54957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50720" y="5716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935840" y="571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47120" y="5702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927920" y="570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923240" y="53658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43760" y="5479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19000" y="5495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41240" y="5716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26360" y="571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37280" y="5702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18440" y="570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13760" y="536724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4360" y="4740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29280" y="47325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26160" y="526716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34080" y="5362560"/>
            <a:ext cx="128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635960" y="1312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56600" y="2246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433640" y="22622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53720" y="248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39200" y="248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50120" y="2468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31280" y="246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56600" y="1798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12040" y="1814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54440" y="2035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43880" y="2035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50120" y="2021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31280" y="2021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67760" y="290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59920" y="2925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65600" y="3146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50000" y="3146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361280" y="313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34160" y="313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9480" y="267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07360" y="1312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047080" y="1770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112960" y="1785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44560" y="2006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29680" y="2006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040600" y="1992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21760" y="1992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93080" y="23497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97600" y="131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37320" y="1774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3200" y="1790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34800" y="2011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19920" y="2011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30840" y="1996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12000" y="199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46760" y="2196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33680" y="3328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00280" y="3344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31160" y="3565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6280" y="3565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27200" y="3551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08360" y="3551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00440" y="321300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627280" y="380376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19:08Z</cp:lastPrinted>
  <dcterms:modified xsi:type="dcterms:W3CDTF">2006-05-11T23:08:39Z</dcterms:modified>
  <cp:revision>208</cp:revision>
  <dc:subject/>
  <dc:title>슬라이드 제목 없음</dc:title>
</cp:coreProperties>
</file>